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9C34-2394-42D7-A2BC-8E205195C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0F78F-63D8-4B2A-A5C0-6E68E0B07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864B0-CCD3-4E33-92FF-120567725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6D3B7-DA13-4B98-BC3F-923EEB1BB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73BE8-D279-4031-A393-D8139CF34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A54AF-CA55-4BB6-97EC-2DF3B8AA8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9B955-D719-4AD0-AC2A-039B012E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D1F1E-560D-4FFD-82D0-857C780C2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0706-C4D3-4C01-A11B-505203105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AD431-1D07-47C9-A1B1-E1185F5C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3BC3-EC8A-4E52-A611-812E9DF73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CD25A-9E9E-4421-B196-CDC2DAF5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5CF68-1C0D-42E2-9B01-A6749DF68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0AEBF-FDBE-44D1-93B1-797D67F02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3D14B-9E91-4055-8FB6-79191728E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CFFE2-EDFA-4F2B-AFF4-BF78B3F0A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7B201-D855-4D0B-9DE1-E340AEDEA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376C-5C07-409D-A1AB-AFFE1D1A8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8252-B2B2-4F58-A3BB-AA3185F0D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CCE5-35BB-46B1-AC29-009752E4F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7568-F92B-4D49-982C-67301FD4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73A5-64EC-4751-B39E-E3A3FAB1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14645-52BD-4ADD-8D46-2FEB10AF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3CCB-52F9-489A-A8ED-6708A634E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CBEC-D35C-4086-A2D0-9C19EDDC698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AE03-09A4-44B5-B174-8FE29AF44CC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arm-up:  MSA Review Day 8</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9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polygons including triangles.</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stCondLst>
                                            <p:cond delay="0"/>
                                          </p:stCondLst>
                                        </p:cTn>
                                        <p:tgtEl>
                                          <p:spTgt spid="97"/>
                                        </p:tgtEl>
                                      </p:cBhvr>
                                    </p:animEffect>
                                    <p:anim calcmode="lin" valueType="num">
                                      <p:cBhvr additive="repl">
                                        <p:cTn id="8" dur="8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10000" y="810360"/>
            <a:ext cx="782820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Objective: Students will find the area of polygons including triangles.</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Reminder</a:t>
            </a:r>
            <a:r>
              <a:rPr b="0" lang="en-US" sz="2400" spc="-1" strike="noStrike">
                <a:solidFill>
                  <a:srgbClr val="003366"/>
                </a:solidFill>
                <a:latin typeface="Comic Sans MS"/>
              </a:rPr>
              <a:t>: </a:t>
            </a:r>
            <a:br>
              <a:rPr sz="2400"/>
            </a:br>
            <a:r>
              <a:rPr b="0" lang="en-US" sz="2400" spc="-1" strike="noStrike">
                <a:solidFill>
                  <a:srgbClr val="003366"/>
                </a:solidFill>
                <a:latin typeface="Comic Sans MS"/>
              </a:rPr>
              <a:t>Area of a rectangle = length </a:t>
            </a:r>
            <a:r>
              <a:rPr b="0" lang="en-US" sz="2400" spc="-1" strike="noStrike">
                <a:solidFill>
                  <a:srgbClr val="003366"/>
                </a:solidFill>
                <a:latin typeface="Times New Roman"/>
                <a:ea typeface="Times New Roman"/>
              </a:rPr>
              <a:t>•</a:t>
            </a:r>
            <a:r>
              <a:rPr b="0" lang="en-US" sz="2400" spc="-1" strike="noStrike">
                <a:solidFill>
                  <a:srgbClr val="003366"/>
                </a:solidFill>
                <a:latin typeface="Comic Sans MS"/>
              </a:rPr>
              <a:t> width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1" lang="en-US" sz="2400" spc="-1" strike="noStrike">
                <a:solidFill>
                  <a:srgbClr val="003366"/>
                </a:solidFill>
                <a:latin typeface="Comic Sans MS"/>
              </a:rPr>
              <a:t>A = lw</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Area of a parallelogram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Area = base </a:t>
            </a:r>
            <a:r>
              <a:rPr b="0" lang="en-US" sz="2400" spc="-1" strike="noStrike">
                <a:solidFill>
                  <a:srgbClr val="003366"/>
                </a:solidFill>
                <a:latin typeface="Times New Roman"/>
                <a:ea typeface="Times New Roman"/>
              </a:rPr>
              <a:t>•</a:t>
            </a:r>
            <a:r>
              <a:rPr b="0" lang="en-US" sz="2400" spc="-1" strike="noStrike">
                <a:solidFill>
                  <a:srgbClr val="003366"/>
                </a:solidFill>
                <a:latin typeface="Comic Sans MS"/>
              </a:rPr>
              <a:t> height</a:t>
            </a:r>
            <a:br>
              <a:rPr sz="2400"/>
            </a:br>
            <a:r>
              <a:rPr b="0" lang="en-US" sz="2400" spc="-1" strike="noStrike">
                <a:solidFill>
                  <a:srgbClr val="003366"/>
                </a:solidFill>
                <a:latin typeface="Comic Sans MS"/>
              </a:rPr>
              <a:t>          </a:t>
            </a:r>
            <a:r>
              <a:rPr b="1" lang="en-US" sz="2400" spc="-1" strike="noStrike">
                <a:solidFill>
                  <a:srgbClr val="003366"/>
                </a:solidFill>
                <a:latin typeface="Comic Sans MS"/>
              </a:rPr>
              <a:t>A = </a:t>
            </a:r>
            <a:r>
              <a:rPr b="1" lang="en-US" sz="2400" spc="-1" strike="noStrike">
                <a:solidFill>
                  <a:srgbClr val="ff66ff"/>
                </a:solidFill>
                <a:latin typeface="Comic Sans MS"/>
              </a:rPr>
              <a:t>b</a:t>
            </a:r>
            <a:r>
              <a:rPr b="1" lang="en-US" sz="2400" spc="-1" strike="noStrike">
                <a:solidFill>
                  <a:srgbClr val="00ff00"/>
                </a:solidFill>
                <a:latin typeface="Comic Sans MS"/>
              </a:rPr>
              <a:t>h</a:t>
            </a:r>
            <a:endParaRPr b="0" lang="en-US" sz="2400" spc="-1" strike="noStrike">
              <a:solidFill>
                <a:srgbClr val="003366"/>
              </a:solidFill>
              <a:latin typeface="Arial"/>
            </a:endParaRPr>
          </a:p>
        </p:txBody>
      </p:sp>
      <p:sp>
        <p:nvSpPr>
          <p:cNvPr id="10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632448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0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500" fill="hold"/>
                                        <p:tgtEl>
                                          <p:spTgt spid="99"/>
                                        </p:tgtEl>
                                        <p:attrNameLst>
                                          <p:attrName>ppt_w</p:attrName>
                                        </p:attrNameLst>
                                      </p:cBhvr>
                                      <p:tavLst>
                                        <p:tav tm="0">
                                          <p:val>
                                            <p:fltVal val="0"/>
                                          </p:val>
                                        </p:tav>
                                        <p:tav tm="100000">
                                          <p:val>
                                            <p:strVal val="#ppt_w"/>
                                          </p:val>
                                        </p:tav>
                                      </p:tavLst>
                                    </p:anim>
                                    <p:anim calcmode="lin" valueType="num">
                                      <p:cBhvr additive="repl">
                                        <p:cTn id="23" dur="500" fill="hold"/>
                                        <p:tgtEl>
                                          <p:spTgt spid="99"/>
                                        </p:tgtEl>
                                        <p:attrNameLst>
                                          <p:attrName>ppt_h</p:attrName>
                                        </p:attrNameLst>
                                      </p:cBhvr>
                                      <p:tavLst>
                                        <p:tav tm="0">
                                          <p:val>
                                            <p:fltVal val="0"/>
                                          </p:val>
                                        </p:tav>
                                        <p:tav tm="100000">
                                          <p:val>
                                            <p:strVal val="#ppt_h"/>
                                          </p:val>
                                        </p:tav>
                                      </p:tavLst>
                                    </p:anim>
                                    <p:anim calcmode="lin" valueType="num">
                                      <p:cBhvr additive="repl">
                                        <p:cTn id="24" dur="500" fill="hold"/>
                                        <p:tgtEl>
                                          <p:spTgt spid="99"/>
                                        </p:tgtEl>
                                        <p:attrNameLst>
                                          <p:attrName>r</p:attrName>
                                        </p:attrNameLst>
                                      </p:cBhvr>
                                      <p:tavLst>
                                        <p:tav tm="0">
                                          <p:val>
                                            <p:strVal val="360"/>
                                          </p:val>
                                        </p:tav>
                                        <p:tav tm="100000">
                                          <p:val>
                                            <p:strVal val="0"/>
                                          </p:val>
                                        </p:tav>
                                      </p:tavLst>
                                    </p:anim>
                                    <p:animEffect filter="fade"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0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 calcmode="lin" valueType="num">
                                      <p:cBhvr additive="repl">
                                        <p:cTn id="38"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40" dur="500" fill="hold"/>
                                        <p:tgtEl>
                                          <p:spTgt spid="100">
                                            <p:txEl>
                                              <p:pRg st="1" end="1"/>
                                            </p:txEl>
                                          </p:spTgt>
                                        </p:tgtEl>
                                        <p:attrNameLst>
                                          <p:attrName>r</p:attrName>
                                        </p:attrNameLst>
                                      </p:cBhvr>
                                      <p:tavLst>
                                        <p:tav tm="0">
                                          <p:val>
                                            <p:strVal val="360"/>
                                          </p:val>
                                        </p:tav>
                                        <p:tav tm="100000">
                                          <p:val>
                                            <p:strVal val="0"/>
                                          </p:val>
                                        </p:tav>
                                      </p:tavLst>
                                    </p:anim>
                                    <p:animEffect filter="fade" transition="in">
                                      <p:cBhvr additive="repl">
                                        <p:cTn id="41" dur="500"/>
                                        <p:tgtEl>
                                          <p:spTgt spid="100">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 calcmode="lin" valueType="num">
                                      <p:cBhvr additive="repl">
                                        <p:cTn id="46"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48" dur="500" fill="hold"/>
                                        <p:tgtEl>
                                          <p:spTgt spid="100">
                                            <p:txEl>
                                              <p:pRg st="3" end="3"/>
                                            </p:txEl>
                                          </p:spTgt>
                                        </p:tgtEl>
                                        <p:attrNameLst>
                                          <p:attrName>r</p:attrName>
                                        </p:attrNameLst>
                                      </p:cBhvr>
                                      <p:tavLst>
                                        <p:tav tm="0">
                                          <p:val>
                                            <p:strVal val="360"/>
                                          </p:val>
                                        </p:tav>
                                        <p:tav tm="100000">
                                          <p:val>
                                            <p:strVal val="0"/>
                                          </p:val>
                                        </p:tav>
                                      </p:tavLst>
                                    </p:anim>
                                    <p:animEffect filter="fade" transition="in">
                                      <p:cBhvr additive="repl">
                                        <p:cTn id="49" dur="500"/>
                                        <p:tgtEl>
                                          <p:spTgt spid="10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9">
                                  <p:stCondLst>
                                    <p:cond delay="0"/>
                                  </p:stCondLst>
                                  <p:childTnLst>
                                    <p:set>
                                      <p:cBhvr>
                                        <p:cTn id="53" dur="1" fill="hold">
                                          <p:stCondLst>
                                            <p:cond delay="0"/>
                                          </p:stCondLst>
                                        </p:cTn>
                                        <p:tgtEl>
                                          <p:spTgt spid="100">
                                            <p:txEl>
                                              <p:pRg st="4" end="4"/>
                                            </p:txEl>
                                          </p:spTgt>
                                        </p:tgtEl>
                                        <p:attrNameLst>
                                          <p:attrName>style.visibility</p:attrName>
                                        </p:attrNameLst>
                                      </p:cBhvr>
                                      <p:to>
                                        <p:strVal val="visible"/>
                                      </p:to>
                                    </p:set>
                                    <p:anim calcmode="lin" valueType="num">
                                      <p:cBhvr additive="repl">
                                        <p:cTn id="54"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55" dur="5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56" dur="500" fill="hold"/>
                                        <p:tgtEl>
                                          <p:spTgt spid="100">
                                            <p:txEl>
                                              <p:pRg st="4" end="4"/>
                                            </p:txEl>
                                          </p:spTgt>
                                        </p:tgtEl>
                                        <p:attrNameLst>
                                          <p:attrName>r</p:attrName>
                                        </p:attrNameLst>
                                      </p:cBhvr>
                                      <p:tavLst>
                                        <p:tav tm="0">
                                          <p:val>
                                            <p:strVal val="360"/>
                                          </p:val>
                                        </p:tav>
                                        <p:tav tm="100000">
                                          <p:val>
                                            <p:strVal val="0"/>
                                          </p:val>
                                        </p:tav>
                                      </p:tavLst>
                                    </p:anim>
                                    <p:animEffect filter="fade" transition="in">
                                      <p:cBhvr additive="repl">
                                        <p:cTn id="57" dur="500"/>
                                        <p:tgtEl>
                                          <p:spTgt spid="100">
                                            <p:txEl>
                                              <p:pRg st="4" end="4"/>
                                            </p:txEl>
                                          </p:spTgt>
                                        </p:tgtEl>
                                      </p:cBhvr>
                                    </p:animEffect>
                                  </p:childTnLst>
                                </p:cTn>
                              </p:par>
                            </p:childTnLst>
                          </p:cTn>
                        </p:par>
                        <p:par>
                          <p:cTn id="58" fill="hold">
                            <p:stCondLst>
                              <p:cond delay="500"/>
                            </p:stCondLst>
                            <p:childTnLst>
                              <p:par>
                                <p:cTn id="59" nodeType="afterEffect" fill="hold" presetClass="entr" presetID="49">
                                  <p:stCondLst>
                                    <p:cond delay="0"/>
                                  </p:stCondLst>
                                  <p:childTnLst>
                                    <p:set>
                                      <p:cBhvr>
                                        <p:cTn id="60" dur="1" fill="hold">
                                          <p:stCondLst>
                                            <p:cond delay="0"/>
                                          </p:stCondLst>
                                        </p:cTn>
                                        <p:tgtEl>
                                          <p:spTgt spid="106"/>
                                        </p:tgtEl>
                                        <p:attrNameLst>
                                          <p:attrName>style.visibility</p:attrName>
                                        </p:attrNameLst>
                                      </p:cBhvr>
                                      <p:to>
                                        <p:strVal val="visible"/>
                                      </p:to>
                                    </p:set>
                                    <p:anim calcmode="lin" valueType="num">
                                      <p:cBhvr additive="repl">
                                        <p:cTn id="61" dur="500" fill="hold"/>
                                        <p:tgtEl>
                                          <p:spTgt spid="106"/>
                                        </p:tgtEl>
                                        <p:attrNameLst>
                                          <p:attrName>ppt_w</p:attrName>
                                        </p:attrNameLst>
                                      </p:cBhvr>
                                      <p:tavLst>
                                        <p:tav tm="0">
                                          <p:val>
                                            <p:fltVal val="0"/>
                                          </p:val>
                                        </p:tav>
                                        <p:tav tm="100000">
                                          <p:val>
                                            <p:strVal val="#ppt_w"/>
                                          </p:val>
                                        </p:tav>
                                      </p:tavLst>
                                    </p:anim>
                                    <p:anim calcmode="lin" valueType="num">
                                      <p:cBhvr additive="repl">
                                        <p:cTn id="62" dur="500" fill="hold"/>
                                        <p:tgtEl>
                                          <p:spTgt spid="106"/>
                                        </p:tgtEl>
                                        <p:attrNameLst>
                                          <p:attrName>ppt_h</p:attrName>
                                        </p:attrNameLst>
                                      </p:cBhvr>
                                      <p:tavLst>
                                        <p:tav tm="0">
                                          <p:val>
                                            <p:fltVal val="0"/>
                                          </p:val>
                                        </p:tav>
                                        <p:tav tm="100000">
                                          <p:val>
                                            <p:strVal val="#ppt_h"/>
                                          </p:val>
                                        </p:tav>
                                      </p:tavLst>
                                    </p:anim>
                                    <p:anim calcmode="lin" valueType="num">
                                      <p:cBhvr additive="repl">
                                        <p:cTn id="63" dur="500" fill="hold"/>
                                        <p:tgtEl>
                                          <p:spTgt spid="106"/>
                                        </p:tgtEl>
                                        <p:attrNameLst>
                                          <p:attrName>r</p:attrName>
                                        </p:attrNameLst>
                                      </p:cBhvr>
                                      <p:tavLst>
                                        <p:tav tm="0">
                                          <p:val>
                                            <p:strVal val="360"/>
                                          </p:val>
                                        </p:tav>
                                        <p:tav tm="100000">
                                          <p:val>
                                            <p:strVal val="0"/>
                                          </p:val>
                                        </p:tav>
                                      </p:tavLst>
                                    </p:anim>
                                    <p:animEffect filter="fade" transition="in">
                                      <p:cBhvr additive="repl">
                                        <p:cTn id="64" dur="500"/>
                                        <p:tgtEl>
                                          <p:spTgt spid="106"/>
                                        </p:tgtEl>
                                      </p:cBhvr>
                                    </p:animEffect>
                                  </p:childTnLst>
                                </p:cTn>
                              </p:par>
                              <p:par>
                                <p:cTn id="65" nodeType="withEffect" fill="hold" presetClass="entr" presetID="49">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500" fill="hold"/>
                                        <p:tgtEl>
                                          <p:spTgt spid="105"/>
                                        </p:tgtEl>
                                        <p:attrNameLst>
                                          <p:attrName>ppt_w</p:attrName>
                                        </p:attrNameLst>
                                      </p:cBhvr>
                                      <p:tavLst>
                                        <p:tav tm="0">
                                          <p:val>
                                            <p:fltVal val="0"/>
                                          </p:val>
                                        </p:tav>
                                        <p:tav tm="100000">
                                          <p:val>
                                            <p:strVal val="#ppt_w"/>
                                          </p:val>
                                        </p:tav>
                                      </p:tavLst>
                                    </p:anim>
                                    <p:anim calcmode="lin" valueType="num">
                                      <p:cBhvr additive="repl">
                                        <p:cTn id="68" dur="500" fill="hold"/>
                                        <p:tgtEl>
                                          <p:spTgt spid="105"/>
                                        </p:tgtEl>
                                        <p:attrNameLst>
                                          <p:attrName>ppt_h</p:attrName>
                                        </p:attrNameLst>
                                      </p:cBhvr>
                                      <p:tavLst>
                                        <p:tav tm="0">
                                          <p:val>
                                            <p:fltVal val="0"/>
                                          </p:val>
                                        </p:tav>
                                        <p:tav tm="100000">
                                          <p:val>
                                            <p:strVal val="#ppt_h"/>
                                          </p:val>
                                        </p:tav>
                                      </p:tavLst>
                                    </p:anim>
                                    <p:anim calcmode="lin" valueType="num">
                                      <p:cBhvr additive="repl">
                                        <p:cTn id="69" dur="500" fill="hold"/>
                                        <p:tgtEl>
                                          <p:spTgt spid="105"/>
                                        </p:tgtEl>
                                        <p:attrNameLst>
                                          <p:attrName>r</p:attrName>
                                        </p:attrNameLst>
                                      </p:cBhvr>
                                      <p:tavLst>
                                        <p:tav tm="0">
                                          <p:val>
                                            <p:strVal val="360"/>
                                          </p:val>
                                        </p:tav>
                                        <p:tav tm="100000">
                                          <p:val>
                                            <p:strVal val="0"/>
                                          </p:val>
                                        </p:tav>
                                      </p:tavLst>
                                    </p:anim>
                                    <p:animEffect filter="fade" transition="in">
                                      <p:cBhvr additive="repl">
                                        <p:cTn id="70" dur="500"/>
                                        <p:tgtEl>
                                          <p:spTgt spid="105"/>
                                        </p:tgtEl>
                                      </p:cBhvr>
                                    </p:animEffect>
                                  </p:childTnLst>
                                </p:cTn>
                              </p:par>
                              <p:par>
                                <p:cTn id="71" nodeType="withEffect" fill="hold" presetClass="entr" presetID="49">
                                  <p:stCondLst>
                                    <p:cond delay="0"/>
                                  </p:stCondLst>
                                  <p:childTnLst>
                                    <p:set>
                                      <p:cBhvr>
                                        <p:cTn id="72" dur="1" fill="hold">
                                          <p:stCondLst>
                                            <p:cond delay="0"/>
                                          </p:stCondLst>
                                        </p:cTn>
                                        <p:tgtEl>
                                          <p:spTgt spid="103"/>
                                        </p:tgtEl>
                                        <p:attrNameLst>
                                          <p:attrName>style.visibility</p:attrName>
                                        </p:attrNameLst>
                                      </p:cBhvr>
                                      <p:to>
                                        <p:strVal val="visible"/>
                                      </p:to>
                                    </p:set>
                                    <p:anim calcmode="lin" valueType="num">
                                      <p:cBhvr additive="repl">
                                        <p:cTn id="73" dur="500" fill="hold"/>
                                        <p:tgtEl>
                                          <p:spTgt spid="103"/>
                                        </p:tgtEl>
                                        <p:attrNameLst>
                                          <p:attrName>ppt_w</p:attrName>
                                        </p:attrNameLst>
                                      </p:cBhvr>
                                      <p:tavLst>
                                        <p:tav tm="0">
                                          <p:val>
                                            <p:fltVal val="0"/>
                                          </p:val>
                                        </p:tav>
                                        <p:tav tm="100000">
                                          <p:val>
                                            <p:strVal val="#ppt_w"/>
                                          </p:val>
                                        </p:tav>
                                      </p:tavLst>
                                    </p:anim>
                                    <p:anim calcmode="lin" valueType="num">
                                      <p:cBhvr additive="repl">
                                        <p:cTn id="74" dur="500" fill="hold"/>
                                        <p:tgtEl>
                                          <p:spTgt spid="103"/>
                                        </p:tgtEl>
                                        <p:attrNameLst>
                                          <p:attrName>ppt_h</p:attrName>
                                        </p:attrNameLst>
                                      </p:cBhvr>
                                      <p:tavLst>
                                        <p:tav tm="0">
                                          <p:val>
                                            <p:fltVal val="0"/>
                                          </p:val>
                                        </p:tav>
                                        <p:tav tm="100000">
                                          <p:val>
                                            <p:strVal val="#ppt_h"/>
                                          </p:val>
                                        </p:tav>
                                      </p:tavLst>
                                    </p:anim>
                                    <p:anim calcmode="lin" valueType="num">
                                      <p:cBhvr additive="repl">
                                        <p:cTn id="75" dur="500" fill="hold"/>
                                        <p:tgtEl>
                                          <p:spTgt spid="103"/>
                                        </p:tgtEl>
                                        <p:attrNameLst>
                                          <p:attrName>r</p:attrName>
                                        </p:attrNameLst>
                                      </p:cBhvr>
                                      <p:tavLst>
                                        <p:tav tm="0">
                                          <p:val>
                                            <p:strVal val="360"/>
                                          </p:val>
                                        </p:tav>
                                        <p:tav tm="100000">
                                          <p:val>
                                            <p:strVal val="0"/>
                                          </p:val>
                                        </p:tav>
                                      </p:tavLst>
                                    </p:anim>
                                    <p:animEffect filter="fade" transition="in">
                                      <p:cBhvr additive="repl">
                                        <p:cTn id="76" dur="500"/>
                                        <p:tgtEl>
                                          <p:spTgt spid="103"/>
                                        </p:tgtEl>
                                      </p:cBhvr>
                                    </p:animEffect>
                                  </p:childTnLst>
                                </p:cTn>
                              </p:par>
                              <p:par>
                                <p:cTn id="77" nodeType="withEffect" fill="hold" presetClass="entr" presetID="49">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repl">
                                        <p:cTn id="79" dur="500" fill="hold"/>
                                        <p:tgtEl>
                                          <p:spTgt spid="104"/>
                                        </p:tgtEl>
                                        <p:attrNameLst>
                                          <p:attrName>ppt_w</p:attrName>
                                        </p:attrNameLst>
                                      </p:cBhvr>
                                      <p:tavLst>
                                        <p:tav tm="0">
                                          <p:val>
                                            <p:fltVal val="0"/>
                                          </p:val>
                                        </p:tav>
                                        <p:tav tm="100000">
                                          <p:val>
                                            <p:strVal val="#ppt_w"/>
                                          </p:val>
                                        </p:tav>
                                      </p:tavLst>
                                    </p:anim>
                                    <p:anim calcmode="lin" valueType="num">
                                      <p:cBhvr additive="repl">
                                        <p:cTn id="80" dur="500" fill="hold"/>
                                        <p:tgtEl>
                                          <p:spTgt spid="104"/>
                                        </p:tgtEl>
                                        <p:attrNameLst>
                                          <p:attrName>ppt_h</p:attrName>
                                        </p:attrNameLst>
                                      </p:cBhvr>
                                      <p:tavLst>
                                        <p:tav tm="0">
                                          <p:val>
                                            <p:fltVal val="0"/>
                                          </p:val>
                                        </p:tav>
                                        <p:tav tm="100000">
                                          <p:val>
                                            <p:strVal val="#ppt_h"/>
                                          </p:val>
                                        </p:tav>
                                      </p:tavLst>
                                    </p:anim>
                                    <p:anim calcmode="lin" valueType="num">
                                      <p:cBhvr additive="repl">
                                        <p:cTn id="81" dur="500" fill="hold"/>
                                        <p:tgtEl>
                                          <p:spTgt spid="104"/>
                                        </p:tgtEl>
                                        <p:attrNameLst>
                                          <p:attrName>r</p:attrName>
                                        </p:attrNameLst>
                                      </p:cBhvr>
                                      <p:tavLst>
                                        <p:tav tm="0">
                                          <p:val>
                                            <p:strVal val="360"/>
                                          </p:val>
                                        </p:tav>
                                        <p:tav tm="100000">
                                          <p:val>
                                            <p:strVal val="0"/>
                                          </p:val>
                                        </p:tav>
                                      </p:tavLst>
                                    </p:anim>
                                    <p:animEffect filter="fade" transition="in">
                                      <p:cBhvr additive="repl">
                                        <p:cTn id="82" dur="500"/>
                                        <p:tgtEl>
                                          <p:spTgt spid="104"/>
                                        </p:tgtEl>
                                      </p:cBhvr>
                                    </p:animEffect>
                                  </p:childTnLst>
                                </p:cTn>
                              </p:par>
                              <p:par>
                                <p:cTn id="83" nodeType="with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500" fill="hold"/>
                                        <p:tgtEl>
                                          <p:spTgt spid="101"/>
                                        </p:tgtEl>
                                        <p:attrNameLst>
                                          <p:attrName>ppt_w</p:attrName>
                                        </p:attrNameLst>
                                      </p:cBhvr>
                                      <p:tavLst>
                                        <p:tav tm="0">
                                          <p:val>
                                            <p:fltVal val="0"/>
                                          </p:val>
                                        </p:tav>
                                        <p:tav tm="100000">
                                          <p:val>
                                            <p:strVal val="#ppt_w"/>
                                          </p:val>
                                        </p:tav>
                                      </p:tavLst>
                                    </p:anim>
                                    <p:anim calcmode="lin" valueType="num">
                                      <p:cBhvr additive="repl">
                                        <p:cTn id="86" dur="500" fill="hold"/>
                                        <p:tgtEl>
                                          <p:spTgt spid="101"/>
                                        </p:tgtEl>
                                        <p:attrNameLst>
                                          <p:attrName>ppt_h</p:attrName>
                                        </p:attrNameLst>
                                      </p:cBhvr>
                                      <p:tavLst>
                                        <p:tav tm="0">
                                          <p:val>
                                            <p:fltVal val="0"/>
                                          </p:val>
                                        </p:tav>
                                        <p:tav tm="100000">
                                          <p:val>
                                            <p:strVal val="#ppt_h"/>
                                          </p:val>
                                        </p:tav>
                                      </p:tavLst>
                                    </p:anim>
                                    <p:anim calcmode="lin" valueType="num">
                                      <p:cBhvr additive="repl">
                                        <p:cTn id="87" dur="500" fill="hold"/>
                                        <p:tgtEl>
                                          <p:spTgt spid="101"/>
                                        </p:tgtEl>
                                        <p:attrNameLst>
                                          <p:attrName>r</p:attrName>
                                        </p:attrNameLst>
                                      </p:cBhvr>
                                      <p:tavLst>
                                        <p:tav tm="0">
                                          <p:val>
                                            <p:strVal val="360"/>
                                          </p:val>
                                        </p:tav>
                                        <p:tav tm="100000">
                                          <p:val>
                                            <p:strVal val="0"/>
                                          </p:val>
                                        </p:tav>
                                      </p:tavLst>
                                    </p:anim>
                                    <p:animEffect filter="fade" transition="in">
                                      <p:cBhvr additive="repl">
                                        <p:cTn id="88" dur="500"/>
                                        <p:tgtEl>
                                          <p:spTgt spid="101"/>
                                        </p:tgtEl>
                                      </p:cBhvr>
                                    </p:animEffect>
                                  </p:childTnLst>
                                </p:cTn>
                              </p:par>
                              <p:par>
                                <p:cTn id="89" nodeType="withEffect" fill="hold" presetClass="entr" presetID="49">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500" fill="hold"/>
                                        <p:tgtEl>
                                          <p:spTgt spid="102"/>
                                        </p:tgtEl>
                                        <p:attrNameLst>
                                          <p:attrName>ppt_w</p:attrName>
                                        </p:attrNameLst>
                                      </p:cBhvr>
                                      <p:tavLst>
                                        <p:tav tm="0">
                                          <p:val>
                                            <p:fltVal val="0"/>
                                          </p:val>
                                        </p:tav>
                                        <p:tav tm="100000">
                                          <p:val>
                                            <p:strVal val="#ppt_w"/>
                                          </p:val>
                                        </p:tav>
                                      </p:tavLst>
                                    </p:anim>
                                    <p:anim calcmode="lin" valueType="num">
                                      <p:cBhvr additive="repl">
                                        <p:cTn id="92" dur="500" fill="hold"/>
                                        <p:tgtEl>
                                          <p:spTgt spid="102"/>
                                        </p:tgtEl>
                                        <p:attrNameLst>
                                          <p:attrName>ppt_h</p:attrName>
                                        </p:attrNameLst>
                                      </p:cBhvr>
                                      <p:tavLst>
                                        <p:tav tm="0">
                                          <p:val>
                                            <p:fltVal val="0"/>
                                          </p:val>
                                        </p:tav>
                                        <p:tav tm="100000">
                                          <p:val>
                                            <p:strVal val="#ppt_h"/>
                                          </p:val>
                                        </p:tav>
                                      </p:tavLst>
                                    </p:anim>
                                    <p:anim calcmode="lin" valueType="num">
                                      <p:cBhvr additive="repl">
                                        <p:cTn id="93" dur="500" fill="hold"/>
                                        <p:tgtEl>
                                          <p:spTgt spid="102"/>
                                        </p:tgtEl>
                                        <p:attrNameLst>
                                          <p:attrName>r</p:attrName>
                                        </p:attrNameLst>
                                      </p:cBhvr>
                                      <p:tavLst>
                                        <p:tav tm="0">
                                          <p:val>
                                            <p:strVal val="360"/>
                                          </p:val>
                                        </p:tav>
                                        <p:tav tm="100000">
                                          <p:val>
                                            <p:strVal val="0"/>
                                          </p:val>
                                        </p:tav>
                                      </p:tavLst>
                                    </p:anim>
                                    <p:animEffect filter="fade" transition="in">
                                      <p:cBhvr additive="repl">
                                        <p:cTn id="9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08" name=""/>
          <p:cNvGraphicFramePr/>
          <p:nvPr/>
        </p:nvGraphicFramePr>
        <p:xfrm>
          <a:off x="1752480" y="2743200"/>
          <a:ext cx="3911760" cy="939960"/>
        </p:xfrm>
        <a:graphic>
          <a:graphicData uri="http://schemas.openxmlformats.org/presentationml/2006/ole">
            <p:oleObj r:id="rId1" spid="">
              <p:embed/>
              <p:pic>
                <p:nvPicPr>
                  <p:cNvPr id="10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10" name=""/>
          <p:cNvGraphicFramePr/>
          <p:nvPr/>
        </p:nvGraphicFramePr>
        <p:xfrm>
          <a:off x="2133720" y="4038480"/>
          <a:ext cx="1409760" cy="939960"/>
        </p:xfrm>
        <a:graphic>
          <a:graphicData uri="http://schemas.openxmlformats.org/presentationml/2006/ole">
            <p:oleObj r:id="rId3" spid="">
              <p:embed/>
              <p:pic>
                <p:nvPicPr>
                  <p:cNvPr id="11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1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1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18" name=""/>
          <p:cNvGraphicFramePr/>
          <p:nvPr/>
        </p:nvGraphicFramePr>
        <p:xfrm>
          <a:off x="2057400" y="5638680"/>
          <a:ext cx="1981080" cy="812880"/>
        </p:xfrm>
        <a:graphic>
          <a:graphicData uri="http://schemas.openxmlformats.org/presentationml/2006/ole">
            <p:oleObj r:id="rId5" spid="">
              <p:embed/>
              <p:pic>
                <p:nvPicPr>
                  <p:cNvPr id="11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2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
        <p:nvSpPr>
          <p:cNvPr id="121" name=""/>
          <p:cNvSpPr/>
          <p:nvPr/>
        </p:nvSpPr>
        <p:spPr>
          <a:xfrm>
            <a:off x="647280" y="3808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9">
                                  <p:stCondLst>
                                    <p:cond delay="0"/>
                                  </p:stCondLst>
                                  <p:childTnLst>
                                    <p:set>
                                      <p:cBhvr>
                                        <p:cTn id="100" dur="1" fill="hold">
                                          <p:stCondLst>
                                            <p:cond delay="0"/>
                                          </p:stCondLst>
                                        </p:cTn>
                                        <p:tgtEl>
                                          <p:spTgt spid="107"/>
                                        </p:tgtEl>
                                        <p:attrNameLst>
                                          <p:attrName>style.visibility</p:attrName>
                                        </p:attrNameLst>
                                      </p:cBhvr>
                                      <p:to>
                                        <p:strVal val="visible"/>
                                      </p:to>
                                    </p:set>
                                    <p:anim calcmode="lin" valueType="num">
                                      <p:cBhvr additive="repl">
                                        <p:cTn id="101"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9">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repl">
                                        <p:cTn id="109"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109"/>
                                        </p:tgtEl>
                                        <p:attrNameLst>
                                          <p:attrName>ppt_y</p:attrName>
                                        </p:attrNameLst>
                                      </p:cBhvr>
                                      <p:tavLst>
                                        <p:tav tm="0">
                                          <p:val>
                                            <p:strVal val="#ppt_y"/>
                                          </p:val>
                                        </p:tav>
                                        <p:tav tm="100000">
                                          <p:val>
                                            <p:strVal val="#ppt_y"/>
                                          </p:val>
                                        </p:tav>
                                      </p:tavLst>
                                    </p:anim>
                                  </p:childTnLst>
                                </p:cTn>
                              </p:par>
                              <p:par>
                                <p:cTn id="113" nodeType="withEffect" fill="hold" presetClass="entr" presetID="39">
                                  <p:stCondLst>
                                    <p:cond delay="0"/>
                                  </p:stCondLst>
                                  <p:childTnLst>
                                    <p:set>
                                      <p:cBhvr>
                                        <p:cTn id="114" dur="1" fill="hold">
                                          <p:stCondLst>
                                            <p:cond delay="0"/>
                                          </p:stCondLst>
                                        </p:cTn>
                                        <p:tgtEl>
                                          <p:spTgt spid="113"/>
                                        </p:tgtEl>
                                        <p:attrNameLst>
                                          <p:attrName>style.visibility</p:attrName>
                                        </p:attrNameLst>
                                      </p:cBhvr>
                                      <p:to>
                                        <p:strVal val="visible"/>
                                      </p:to>
                                    </p:set>
                                    <p:anim calcmode="lin" valueType="num">
                                      <p:cBhvr additive="repl">
                                        <p:cTn id="115"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13"/>
                                        </p:tgtEl>
                                        <p:attrNameLst>
                                          <p:attrName>ppt_y</p:attrName>
                                        </p:attrNameLst>
                                      </p:cBhvr>
                                      <p:tavLst>
                                        <p:tav tm="0">
                                          <p:val>
                                            <p:strVal val="#ppt_y"/>
                                          </p:val>
                                        </p:tav>
                                        <p:tav tm="100000">
                                          <p:val>
                                            <p:strVal val="#ppt_y"/>
                                          </p:val>
                                        </p:tav>
                                      </p:tavLst>
                                    </p:anim>
                                  </p:childTnLst>
                                </p:cTn>
                              </p:par>
                              <p:par>
                                <p:cTn id="119" nodeType="withEffect" fill="hold" presetClass="entr" presetID="39">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repl">
                                        <p:cTn id="121"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114"/>
                                        </p:tgtEl>
                                        <p:attrNameLst>
                                          <p:attrName>ppt_y</p:attrName>
                                        </p:attrNameLst>
                                      </p:cBhvr>
                                      <p:tavLst>
                                        <p:tav tm="0">
                                          <p:val>
                                            <p:strVal val="#ppt_y"/>
                                          </p:val>
                                        </p:tav>
                                        <p:tav tm="100000">
                                          <p:val>
                                            <p:strVal val="#ppt_y"/>
                                          </p:val>
                                        </p:tav>
                                      </p:tavLst>
                                    </p:anim>
                                  </p:childTnLst>
                                </p:cTn>
                              </p:par>
                              <p:par>
                                <p:cTn id="125" nodeType="withEffect" fill="hold" presetClass="entr" presetID="39">
                                  <p:stCondLst>
                                    <p:cond delay="0"/>
                                  </p:stCondLst>
                                  <p:childTnLst>
                                    <p:set>
                                      <p:cBhvr>
                                        <p:cTn id="126" dur="1" fill="hold">
                                          <p:stCondLst>
                                            <p:cond delay="0"/>
                                          </p:stCondLst>
                                        </p:cTn>
                                        <p:tgtEl>
                                          <p:spTgt spid="115"/>
                                        </p:tgtEl>
                                        <p:attrNameLst>
                                          <p:attrName>style.visibility</p:attrName>
                                        </p:attrNameLst>
                                      </p:cBhvr>
                                      <p:to>
                                        <p:strVal val="visible"/>
                                      </p:to>
                                    </p:set>
                                    <p:anim calcmode="lin" valueType="num">
                                      <p:cBhvr additive="repl">
                                        <p:cTn id="127"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115"/>
                                        </p:tgtEl>
                                        <p:attrNameLst>
                                          <p:attrName>ppt_y</p:attrName>
                                        </p:attrNameLst>
                                      </p:cBhvr>
                                      <p:tavLst>
                                        <p:tav tm="0">
                                          <p:val>
                                            <p:strVal val="#ppt_y"/>
                                          </p:val>
                                        </p:tav>
                                        <p:tav tm="100000">
                                          <p:val>
                                            <p:strVal val="#ppt_y"/>
                                          </p:val>
                                        </p:tav>
                                      </p:tavLst>
                                    </p:anim>
                                  </p:childTnLst>
                                </p:cTn>
                              </p:par>
                              <p:par>
                                <p:cTn id="131" nodeType="withEffect" fill="hold" presetClass="entr" presetID="39">
                                  <p:stCondLst>
                                    <p:cond delay="0"/>
                                  </p:stCondLst>
                                  <p:childTnLst>
                                    <p:set>
                                      <p:cBhvr>
                                        <p:cTn id="132" dur="1" fill="hold">
                                          <p:stCondLst>
                                            <p:cond delay="0"/>
                                          </p:stCondLst>
                                        </p:cTn>
                                        <p:tgtEl>
                                          <p:spTgt spid="112"/>
                                        </p:tgtEl>
                                        <p:attrNameLst>
                                          <p:attrName>style.visibility</p:attrName>
                                        </p:attrNameLst>
                                      </p:cBhvr>
                                      <p:to>
                                        <p:strVal val="visible"/>
                                      </p:to>
                                    </p:set>
                                    <p:anim calcmode="lin" valueType="num">
                                      <p:cBhvr additive="repl">
                                        <p:cTn id="133" dur="500" fill="hold"/>
                                        <p:tgtEl>
                                          <p:spTgt spid="1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 dur="500" fill="hold"/>
                                        <p:tgtEl>
                                          <p:spTgt spid="1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 dur="500" fill="hold"/>
                                        <p:tgtEl>
                                          <p:spTgt spid="1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 dur="500" fill="hold"/>
                                        <p:tgtEl>
                                          <p:spTgt spid="112"/>
                                        </p:tgtEl>
                                        <p:attrNameLst>
                                          <p:attrName>ppt_y</p:attrName>
                                        </p:attrNameLst>
                                      </p:cBhvr>
                                      <p:tavLst>
                                        <p:tav tm="0">
                                          <p:val>
                                            <p:strVal val="#ppt_y"/>
                                          </p:val>
                                        </p:tav>
                                        <p:tav tm="100000">
                                          <p:val>
                                            <p:strVal val="#ppt_y"/>
                                          </p:val>
                                        </p:tav>
                                      </p:tavLst>
                                    </p:anim>
                                  </p:childTnLst>
                                </p:cTn>
                              </p:par>
                              <p:par>
                                <p:cTn id="137" nodeType="withEffect" fill="hold" presetClass="entr" presetID="39">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repl">
                                        <p:cTn id="139"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116"/>
                                        </p:tgtEl>
                                        <p:attrNameLst>
                                          <p:attrName>ppt_y</p:attrName>
                                        </p:attrNameLst>
                                      </p:cBhvr>
                                      <p:tavLst>
                                        <p:tav tm="0">
                                          <p:val>
                                            <p:strVal val="#ppt_y"/>
                                          </p:val>
                                        </p:tav>
                                        <p:tav tm="100000">
                                          <p:val>
                                            <p:strVal val="#ppt_y"/>
                                          </p:val>
                                        </p:tav>
                                      </p:tavLst>
                                    </p:anim>
                                  </p:childTnLst>
                                </p:cTn>
                              </p:par>
                              <p:par>
                                <p:cTn id="143" nodeType="withEffect" fill="hold" presetClass="entr" presetID="39">
                                  <p:stCondLst>
                                    <p:cond delay="0"/>
                                  </p:stCondLst>
                                  <p:childTnLst>
                                    <p:set>
                                      <p:cBhvr>
                                        <p:cTn id="144" dur="1" fill="hold">
                                          <p:stCondLst>
                                            <p:cond delay="0"/>
                                          </p:stCondLst>
                                        </p:cTn>
                                        <p:tgtEl>
                                          <p:spTgt spid="117"/>
                                        </p:tgtEl>
                                        <p:attrNameLst>
                                          <p:attrName>style.visibility</p:attrName>
                                        </p:attrNameLst>
                                      </p:cBhvr>
                                      <p:to>
                                        <p:strVal val="visible"/>
                                      </p:to>
                                    </p:set>
                                    <p:anim calcmode="lin" valueType="num">
                                      <p:cBhvr additive="repl">
                                        <p:cTn id="145"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20"/>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39">
                                  <p:stCondLst>
                                    <p:cond delay="1000"/>
                                  </p:stCondLst>
                                  <p:childTnLst>
                                    <p:set>
                                      <p:cBhvr>
                                        <p:cTn id="167" dur="1" fill="hold">
                                          <p:stCondLst>
                                            <p:cond delay="0"/>
                                          </p:stCondLst>
                                        </p:cTn>
                                        <p:tgtEl>
                                          <p:spTgt spid="119"/>
                                        </p:tgtEl>
                                        <p:attrNameLst>
                                          <p:attrName>style.visibility</p:attrName>
                                        </p:attrNameLst>
                                      </p:cBhvr>
                                      <p:to>
                                        <p:strVal val="visible"/>
                                      </p:to>
                                    </p:set>
                                    <p:anim calcmode="lin" valueType="num">
                                      <p:cBhvr additive="repl">
                                        <p:cTn id="168"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23"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35"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36"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37"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38"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39"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
        <p:nvSpPr>
          <p:cNvPr id="140" name=""/>
          <p:cNvSpPr/>
          <p:nvPr/>
        </p:nvSpPr>
        <p:spPr>
          <a:xfrm>
            <a:off x="659880" y="3538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141" name=""/>
          <p:cNvSpPr/>
          <p:nvPr/>
        </p:nvSpPr>
        <p:spPr>
          <a:xfrm>
            <a:off x="3276720" y="2463840"/>
            <a:ext cx="965160" cy="519120"/>
          </a:xfrm>
          <a:custGeom>
            <a:avLst/>
            <a:gdLst/>
            <a:ahLst/>
            <a:rect l="l" t="t" r="r" b="b"/>
            <a:pathLst>
              <a:path w="2680" h="1440">
                <a:moveTo>
                  <a:pt x="9277" y="7045"/>
                </a:moveTo>
                <a:cubicBezTo>
                  <a:pt x="9240" y="7190"/>
                  <a:pt x="9194" y="7354"/>
                  <a:pt x="9128" y="7491"/>
                </a:cubicBezTo>
                <a:cubicBezTo>
                  <a:pt x="9120" y="7499"/>
                  <a:pt x="9111" y="7508"/>
                  <a:pt x="9103" y="7516"/>
                </a:cubicBezTo>
                <a:cubicBezTo>
                  <a:pt x="9160" y="7346"/>
                  <a:pt x="9198" y="7186"/>
                  <a:pt x="9277" y="7020"/>
                </a:cubicBezTo>
                <a:cubicBezTo>
                  <a:pt x="9331" y="6907"/>
                  <a:pt x="9378" y="6867"/>
                  <a:pt x="9500" y="6846"/>
                </a:cubicBezTo>
                <a:cubicBezTo>
                  <a:pt x="9602" y="6987"/>
                  <a:pt x="9619" y="7115"/>
                  <a:pt x="9599" y="7293"/>
                </a:cubicBezTo>
                <a:cubicBezTo>
                  <a:pt x="9592" y="7358"/>
                  <a:pt x="9575" y="7384"/>
                  <a:pt x="9575" y="7441"/>
                </a:cubicBezTo>
              </a:path>
              <a:path w="2680" h="1440">
                <a:moveTo>
                  <a:pt x="9252" y="7218"/>
                </a:moveTo>
                <a:cubicBezTo>
                  <a:pt x="9326" y="7218"/>
                  <a:pt x="9579" y="7180"/>
                  <a:pt x="9599" y="7243"/>
                </a:cubicBezTo>
              </a:path>
              <a:path w="2680" h="1440">
                <a:moveTo>
                  <a:pt x="9897" y="7367"/>
                </a:moveTo>
                <a:cubicBezTo>
                  <a:pt x="9805" y="7474"/>
                  <a:pt x="9756" y="7604"/>
                  <a:pt x="9674" y="7714"/>
                </a:cubicBezTo>
                <a:cubicBezTo>
                  <a:pt x="9674" y="7706"/>
                  <a:pt x="9674" y="7697"/>
                  <a:pt x="9674" y="7689"/>
                </a:cubicBezTo>
              </a:path>
              <a:path w="2680" h="1440">
                <a:moveTo>
                  <a:pt x="9947" y="7367"/>
                </a:moveTo>
                <a:cubicBezTo>
                  <a:pt x="9999" y="7472"/>
                  <a:pt x="10059" y="7571"/>
                  <a:pt x="10120" y="7665"/>
                </a:cubicBezTo>
                <a:cubicBezTo>
                  <a:pt x="10143" y="7687"/>
                  <a:pt x="10151" y="7692"/>
                  <a:pt x="10145" y="7714"/>
                </a:cubicBezTo>
                <a:cubicBezTo>
                  <a:pt x="9996" y="7714"/>
                  <a:pt x="9848" y="7714"/>
                  <a:pt x="9699" y="7714"/>
                </a:cubicBezTo>
              </a:path>
              <a:path w="2680" h="1440">
                <a:moveTo>
                  <a:pt x="10468" y="7243"/>
                </a:moveTo>
                <a:cubicBezTo>
                  <a:pt x="10448" y="7184"/>
                  <a:pt x="10589" y="7218"/>
                  <a:pt x="10666" y="7218"/>
                </a:cubicBezTo>
                <a:cubicBezTo>
                  <a:pt x="10674" y="7218"/>
                  <a:pt x="10683" y="7218"/>
                  <a:pt x="10691" y="7218"/>
                </a:cubicBezTo>
              </a:path>
              <a:path w="2680" h="1440">
                <a:moveTo>
                  <a:pt x="10492" y="7317"/>
                </a:moveTo>
                <a:cubicBezTo>
                  <a:pt x="10580" y="7361"/>
                  <a:pt x="10667" y="7340"/>
                  <a:pt x="10765" y="7317"/>
                </a:cubicBezTo>
              </a:path>
              <a:path w="2680" h="1440">
                <a:moveTo>
                  <a:pt x="11038" y="6945"/>
                </a:moveTo>
                <a:cubicBezTo>
                  <a:pt x="11038" y="7086"/>
                  <a:pt x="11038" y="7226"/>
                  <a:pt x="11038" y="7367"/>
                </a:cubicBezTo>
                <a:cubicBezTo>
                  <a:pt x="11038" y="7394"/>
                  <a:pt x="11041" y="7288"/>
                  <a:pt x="11088" y="7243"/>
                </a:cubicBezTo>
                <a:cubicBezTo>
                  <a:pt x="11174" y="7161"/>
                  <a:pt x="11355" y="7167"/>
                  <a:pt x="11361" y="7317"/>
                </a:cubicBezTo>
                <a:cubicBezTo>
                  <a:pt x="11365" y="7417"/>
                  <a:pt x="11225" y="7501"/>
                  <a:pt x="11137" y="7466"/>
                </a:cubicBezTo>
                <a:cubicBezTo>
                  <a:pt x="11137" y="7423"/>
                  <a:pt x="11143" y="7398"/>
                  <a:pt x="11162" y="7367"/>
                </a:cubicBezTo>
              </a:path>
              <a:path w="2680" h="1440">
                <a:moveTo>
                  <a:pt x="11534" y="6970"/>
                </a:moveTo>
                <a:cubicBezTo>
                  <a:pt x="11534" y="7111"/>
                  <a:pt x="11534" y="7251"/>
                  <a:pt x="11534" y="7392"/>
                </a:cubicBezTo>
                <a:cubicBezTo>
                  <a:pt x="11534" y="7454"/>
                  <a:pt x="11556" y="7302"/>
                  <a:pt x="11559" y="7293"/>
                </a:cubicBezTo>
                <a:cubicBezTo>
                  <a:pt x="11589" y="7199"/>
                  <a:pt x="11594" y="7222"/>
                  <a:pt x="11683" y="7169"/>
                </a:cubicBezTo>
                <a:cubicBezTo>
                  <a:pt x="11748" y="7279"/>
                  <a:pt x="11757" y="7337"/>
                  <a:pt x="11757" y="7466"/>
                </a:cubicBezTo>
                <a:cubicBezTo>
                  <a:pt x="11757" y="7494"/>
                  <a:pt x="11755" y="7505"/>
                  <a:pt x="11733" y="7516"/>
                </a:cubicBezTo>
              </a:path>
              <a:path w="2680" h="1440">
                <a:moveTo>
                  <a:pt x="11038" y="7615"/>
                </a:moveTo>
                <a:cubicBezTo>
                  <a:pt x="11217" y="7585"/>
                  <a:pt x="11420" y="7629"/>
                  <a:pt x="11609" y="7640"/>
                </a:cubicBezTo>
                <a:cubicBezTo>
                  <a:pt x="11675" y="7644"/>
                  <a:pt x="11831" y="7621"/>
                  <a:pt x="11782" y="7665"/>
                </a:cubicBezTo>
                <a:cubicBezTo>
                  <a:pt x="11766" y="7673"/>
                  <a:pt x="11749" y="7681"/>
                  <a:pt x="11733" y="7689"/>
                </a:cubicBezTo>
              </a:path>
              <a:path w="2680" h="1440">
                <a:moveTo>
                  <a:pt x="11286" y="7888"/>
                </a:moveTo>
                <a:cubicBezTo>
                  <a:pt x="11301" y="7827"/>
                  <a:pt x="11353" y="7817"/>
                  <a:pt x="11410" y="7789"/>
                </a:cubicBezTo>
                <a:cubicBezTo>
                  <a:pt x="11461" y="7873"/>
                  <a:pt x="11429" y="7911"/>
                  <a:pt x="11385" y="7987"/>
                </a:cubicBezTo>
                <a:cubicBezTo>
                  <a:pt x="11324" y="8094"/>
                  <a:pt x="11239" y="8104"/>
                  <a:pt x="11162" y="8186"/>
                </a:cubicBezTo>
                <a:cubicBezTo>
                  <a:pt x="11137" y="8235"/>
                  <a:pt x="11129" y="8251"/>
                  <a:pt x="11088" y="8260"/>
                </a:cubicBezTo>
                <a:cubicBezTo>
                  <a:pt x="11088" y="8302"/>
                  <a:pt x="11107" y="8239"/>
                  <a:pt x="11137" y="8210"/>
                </a:cubicBezTo>
                <a:cubicBezTo>
                  <a:pt x="11184" y="8164"/>
                  <a:pt x="11310" y="8262"/>
                  <a:pt x="11385" y="8260"/>
                </a:cubicBezTo>
                <a:cubicBezTo>
                  <a:pt x="11410" y="8252"/>
                  <a:pt x="11435" y="8243"/>
                  <a:pt x="11460" y="823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a:off x="3125880" y="2938320"/>
            <a:ext cx="36360" cy="615960"/>
          </a:xfrm>
          <a:custGeom>
            <a:avLst/>
            <a:gdLst/>
            <a:ahLst/>
            <a:rect l="l" t="t" r="r" b="b"/>
            <a:pathLst>
              <a:path w="100" h="1712">
                <a:moveTo>
                  <a:pt x="8706" y="9872"/>
                </a:moveTo>
                <a:cubicBezTo>
                  <a:pt x="8706" y="9864"/>
                  <a:pt x="8706" y="9855"/>
                  <a:pt x="8706" y="9847"/>
                </a:cubicBezTo>
              </a:path>
              <a:path w="100" h="1712">
                <a:moveTo>
                  <a:pt x="8706" y="9847"/>
                </a:moveTo>
                <a:lnTo>
                  <a:pt x="8706" y="9847"/>
                </a:lnTo>
              </a:path>
              <a:path w="100" h="1712">
                <a:moveTo>
                  <a:pt x="8731" y="9699"/>
                </a:moveTo>
                <a:lnTo>
                  <a:pt x="8731" y="9699"/>
                </a:lnTo>
              </a:path>
              <a:path w="100" h="1712">
                <a:moveTo>
                  <a:pt x="8706" y="9624"/>
                </a:moveTo>
                <a:lnTo>
                  <a:pt x="8706" y="9624"/>
                </a:lnTo>
                <a:lnTo>
                  <a:pt x="8706" y="9624"/>
                </a:lnTo>
              </a:path>
              <a:path w="100" h="1712">
                <a:moveTo>
                  <a:pt x="8706" y="9624"/>
                </a:moveTo>
                <a:lnTo>
                  <a:pt x="8706" y="9624"/>
                </a:lnTo>
              </a:path>
              <a:path w="100" h="1712">
                <a:moveTo>
                  <a:pt x="8731" y="9550"/>
                </a:moveTo>
                <a:cubicBezTo>
                  <a:pt x="8731" y="9533"/>
                  <a:pt x="8731" y="9517"/>
                  <a:pt x="8731" y="9500"/>
                </a:cubicBezTo>
              </a:path>
              <a:path w="100" h="1712">
                <a:moveTo>
                  <a:pt x="8756" y="9376"/>
                </a:moveTo>
                <a:cubicBezTo>
                  <a:pt x="8748" y="9368"/>
                  <a:pt x="8739" y="9359"/>
                  <a:pt x="8731" y="9351"/>
                </a:cubicBezTo>
              </a:path>
              <a:path w="100" h="1712">
                <a:moveTo>
                  <a:pt x="8731" y="9351"/>
                </a:moveTo>
                <a:lnTo>
                  <a:pt x="8731" y="9351"/>
                </a:lnTo>
              </a:path>
              <a:path w="100" h="1712">
                <a:moveTo>
                  <a:pt x="8756" y="9227"/>
                </a:moveTo>
                <a:lnTo>
                  <a:pt x="8756" y="9227"/>
                </a:lnTo>
              </a:path>
              <a:path w="100" h="1712">
                <a:moveTo>
                  <a:pt x="8756" y="9103"/>
                </a:moveTo>
                <a:cubicBezTo>
                  <a:pt x="8756" y="9095"/>
                  <a:pt x="8756" y="9087"/>
                  <a:pt x="8756" y="9079"/>
                </a:cubicBezTo>
              </a:path>
              <a:path w="100" h="1712">
                <a:moveTo>
                  <a:pt x="8781" y="9029"/>
                </a:moveTo>
                <a:cubicBezTo>
                  <a:pt x="8747" y="8995"/>
                  <a:pt x="8739" y="8974"/>
                  <a:pt x="8756" y="8930"/>
                </a:cubicBezTo>
              </a:path>
              <a:path w="100" h="1712">
                <a:moveTo>
                  <a:pt x="8756" y="8930"/>
                </a:moveTo>
                <a:lnTo>
                  <a:pt x="8756" y="8930"/>
                </a:lnTo>
              </a:path>
              <a:path w="100" h="1712">
                <a:moveTo>
                  <a:pt x="8781" y="8855"/>
                </a:moveTo>
                <a:cubicBezTo>
                  <a:pt x="8773" y="8839"/>
                  <a:pt x="8764" y="8822"/>
                  <a:pt x="8756" y="8806"/>
                </a:cubicBezTo>
              </a:path>
              <a:path w="100" h="1712">
                <a:moveTo>
                  <a:pt x="8756" y="8483"/>
                </a:moveTo>
                <a:cubicBezTo>
                  <a:pt x="8756" y="8467"/>
                  <a:pt x="8756" y="8450"/>
                  <a:pt x="8756" y="8434"/>
                </a:cubicBezTo>
              </a:path>
              <a:path w="100" h="1712">
                <a:moveTo>
                  <a:pt x="8682" y="8384"/>
                </a:moveTo>
                <a:cubicBezTo>
                  <a:pt x="8690" y="8376"/>
                  <a:pt x="8698" y="8367"/>
                  <a:pt x="8706" y="8359"/>
                </a:cubicBezTo>
              </a:path>
              <a:path w="100" h="1712">
                <a:moveTo>
                  <a:pt x="8731" y="8310"/>
                </a:moveTo>
                <a:cubicBezTo>
                  <a:pt x="8731" y="8302"/>
                  <a:pt x="8731" y="8293"/>
                  <a:pt x="8731" y="8285"/>
                </a:cubicBezTo>
              </a:path>
              <a:path w="100" h="1712">
                <a:moveTo>
                  <a:pt x="8731" y="8285"/>
                </a:moveTo>
                <a:lnTo>
                  <a:pt x="8731" y="8285"/>
                </a:lnTo>
              </a:path>
              <a:path w="100" h="1712">
                <a:moveTo>
                  <a:pt x="8731" y="8186"/>
                </a:moveTo>
                <a:cubicBezTo>
                  <a:pt x="8731" y="8178"/>
                  <a:pt x="8731" y="8169"/>
                  <a:pt x="8731" y="8161"/>
                </a:cubicBezTo>
              </a:path>
              <a:path w="100" h="1712">
                <a:moveTo>
                  <a:pt x="8756" y="8706"/>
                </a:moveTo>
                <a:cubicBezTo>
                  <a:pt x="8756" y="8698"/>
                  <a:pt x="8756" y="8690"/>
                  <a:pt x="8756" y="8682"/>
                </a:cubicBezTo>
              </a:path>
              <a:path w="100" h="1712">
                <a:moveTo>
                  <a:pt x="8756" y="8657"/>
                </a:moveTo>
                <a:cubicBezTo>
                  <a:pt x="8756" y="8649"/>
                  <a:pt x="8756" y="8640"/>
                  <a:pt x="8756" y="8632"/>
                </a:cubicBezTo>
              </a:path>
              <a:path w="100" h="1712">
                <a:moveTo>
                  <a:pt x="8756" y="8632"/>
                </a:moveTo>
                <a:lnTo>
                  <a:pt x="8756" y="863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3303720" y="3071880"/>
            <a:ext cx="403200" cy="285840"/>
          </a:xfrm>
          <a:custGeom>
            <a:avLst/>
            <a:gdLst/>
            <a:ahLst/>
            <a:rect l="l" t="t" r="r" b="b"/>
            <a:pathLst>
              <a:path w="1117" h="795">
                <a:moveTo>
                  <a:pt x="9327" y="8682"/>
                </a:moveTo>
                <a:cubicBezTo>
                  <a:pt x="9240" y="8725"/>
                  <a:pt x="9251" y="8886"/>
                  <a:pt x="9227" y="8979"/>
                </a:cubicBezTo>
                <a:cubicBezTo>
                  <a:pt x="9205" y="9046"/>
                  <a:pt x="9201" y="9064"/>
                  <a:pt x="9178" y="9103"/>
                </a:cubicBezTo>
                <a:cubicBezTo>
                  <a:pt x="9178" y="8979"/>
                  <a:pt x="9161" y="8850"/>
                  <a:pt x="9203" y="8731"/>
                </a:cubicBezTo>
                <a:cubicBezTo>
                  <a:pt x="9233" y="8644"/>
                  <a:pt x="9285" y="8577"/>
                  <a:pt x="9351" y="8533"/>
                </a:cubicBezTo>
                <a:cubicBezTo>
                  <a:pt x="9467" y="8619"/>
                  <a:pt x="9483" y="8735"/>
                  <a:pt x="9500" y="8880"/>
                </a:cubicBezTo>
                <a:cubicBezTo>
                  <a:pt x="9509" y="8958"/>
                  <a:pt x="9491" y="9015"/>
                  <a:pt x="9475" y="9079"/>
                </a:cubicBezTo>
              </a:path>
              <a:path w="1117" h="795">
                <a:moveTo>
                  <a:pt x="9277" y="8905"/>
                </a:moveTo>
                <a:cubicBezTo>
                  <a:pt x="9358" y="8905"/>
                  <a:pt x="9461" y="8882"/>
                  <a:pt x="9525" y="8930"/>
                </a:cubicBezTo>
              </a:path>
              <a:path w="1117" h="795">
                <a:moveTo>
                  <a:pt x="9798" y="8979"/>
                </a:moveTo>
                <a:cubicBezTo>
                  <a:pt x="9741" y="9078"/>
                  <a:pt x="9671" y="9192"/>
                  <a:pt x="9624" y="9302"/>
                </a:cubicBezTo>
                <a:cubicBezTo>
                  <a:pt x="9624" y="9310"/>
                  <a:pt x="9624" y="9319"/>
                  <a:pt x="9624" y="9327"/>
                </a:cubicBezTo>
              </a:path>
              <a:path w="1117" h="795">
                <a:moveTo>
                  <a:pt x="9773" y="9054"/>
                </a:moveTo>
                <a:cubicBezTo>
                  <a:pt x="9773" y="9046"/>
                  <a:pt x="9773" y="9037"/>
                  <a:pt x="9773" y="9029"/>
                </a:cubicBezTo>
                <a:cubicBezTo>
                  <a:pt x="9803" y="9049"/>
                  <a:pt x="9837" y="9168"/>
                  <a:pt x="9847" y="9227"/>
                </a:cubicBezTo>
                <a:cubicBezTo>
                  <a:pt x="9852" y="9256"/>
                  <a:pt x="9847" y="9296"/>
                  <a:pt x="9847" y="9327"/>
                </a:cubicBezTo>
                <a:cubicBezTo>
                  <a:pt x="9781" y="9327"/>
                  <a:pt x="9715" y="9327"/>
                  <a:pt x="9649" y="9327"/>
                </a:cubicBezTo>
              </a:path>
              <a:path w="1117" h="795">
                <a:moveTo>
                  <a:pt x="10096" y="8806"/>
                </a:moveTo>
                <a:cubicBezTo>
                  <a:pt x="10167" y="8814"/>
                  <a:pt x="10237" y="8821"/>
                  <a:pt x="10294" y="8855"/>
                </a:cubicBezTo>
              </a:path>
              <a:path w="1117" h="795">
                <a:moveTo>
                  <a:pt x="10170" y="8979"/>
                </a:moveTo>
                <a:cubicBezTo>
                  <a:pt x="10211" y="8979"/>
                  <a:pt x="10253" y="8979"/>
                  <a:pt x="10294" y="89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3911760" y="3054240"/>
            <a:ext cx="517320" cy="554040"/>
          </a:xfrm>
          <a:custGeom>
            <a:avLst/>
            <a:gdLst/>
            <a:ahLst/>
            <a:rect l="l" t="t" r="r" b="b"/>
            <a:pathLst>
              <a:path w="1440" h="1539">
                <a:moveTo>
                  <a:pt x="10939" y="8582"/>
                </a:moveTo>
                <a:cubicBezTo>
                  <a:pt x="10939" y="8531"/>
                  <a:pt x="10986" y="8821"/>
                  <a:pt x="10988" y="8830"/>
                </a:cubicBezTo>
                <a:cubicBezTo>
                  <a:pt x="11002" y="8887"/>
                  <a:pt x="11007" y="8934"/>
                  <a:pt x="11038" y="8954"/>
                </a:cubicBezTo>
              </a:path>
              <a:path w="1440" h="1539">
                <a:moveTo>
                  <a:pt x="11162" y="8533"/>
                </a:moveTo>
                <a:cubicBezTo>
                  <a:pt x="11232" y="8637"/>
                  <a:pt x="11209" y="8757"/>
                  <a:pt x="11237" y="8880"/>
                </a:cubicBezTo>
                <a:cubicBezTo>
                  <a:pt x="11256" y="8937"/>
                  <a:pt x="11264" y="8944"/>
                  <a:pt x="11261" y="8979"/>
                </a:cubicBezTo>
              </a:path>
              <a:path w="1440" h="1539">
                <a:moveTo>
                  <a:pt x="11609" y="8483"/>
                </a:moveTo>
                <a:cubicBezTo>
                  <a:pt x="11506" y="8524"/>
                  <a:pt x="11470" y="8646"/>
                  <a:pt x="11460" y="8756"/>
                </a:cubicBezTo>
                <a:cubicBezTo>
                  <a:pt x="11441" y="8958"/>
                  <a:pt x="11491" y="9013"/>
                  <a:pt x="11584" y="9153"/>
                </a:cubicBezTo>
                <a:cubicBezTo>
                  <a:pt x="11603" y="9181"/>
                  <a:pt x="11597" y="9191"/>
                  <a:pt x="11633" y="9203"/>
                </a:cubicBezTo>
              </a:path>
              <a:path w="1440" h="1539">
                <a:moveTo>
                  <a:pt x="12105" y="8483"/>
                </a:moveTo>
                <a:cubicBezTo>
                  <a:pt x="12208" y="8595"/>
                  <a:pt x="12328" y="8735"/>
                  <a:pt x="12303" y="8905"/>
                </a:cubicBezTo>
                <a:cubicBezTo>
                  <a:pt x="12293" y="8974"/>
                  <a:pt x="12208" y="9117"/>
                  <a:pt x="12154" y="9153"/>
                </a:cubicBezTo>
                <a:cubicBezTo>
                  <a:pt x="12146" y="9153"/>
                  <a:pt x="12137" y="9153"/>
                  <a:pt x="12129" y="9153"/>
                </a:cubicBezTo>
              </a:path>
              <a:path w="1440" h="1539">
                <a:moveTo>
                  <a:pt x="11708" y="8682"/>
                </a:moveTo>
                <a:cubicBezTo>
                  <a:pt x="11693" y="8753"/>
                  <a:pt x="11652" y="8859"/>
                  <a:pt x="11658" y="8930"/>
                </a:cubicBezTo>
                <a:cubicBezTo>
                  <a:pt x="11664" y="8996"/>
                  <a:pt x="11696" y="9082"/>
                  <a:pt x="11782" y="9079"/>
                </a:cubicBezTo>
                <a:cubicBezTo>
                  <a:pt x="11825" y="9077"/>
                  <a:pt x="11980" y="9037"/>
                  <a:pt x="12005" y="9004"/>
                </a:cubicBezTo>
                <a:cubicBezTo>
                  <a:pt x="12032" y="8969"/>
                  <a:pt x="12047" y="8921"/>
                  <a:pt x="12055" y="8880"/>
                </a:cubicBezTo>
                <a:cubicBezTo>
                  <a:pt x="11955" y="8880"/>
                  <a:pt x="11963" y="8879"/>
                  <a:pt x="11906" y="8954"/>
                </a:cubicBezTo>
                <a:cubicBezTo>
                  <a:pt x="11878" y="8991"/>
                  <a:pt x="11881" y="9007"/>
                  <a:pt x="11881" y="9054"/>
                </a:cubicBezTo>
              </a:path>
              <a:path w="1440" h="1539">
                <a:moveTo>
                  <a:pt x="10864" y="9426"/>
                </a:moveTo>
                <a:cubicBezTo>
                  <a:pt x="10927" y="9342"/>
                  <a:pt x="11056" y="9388"/>
                  <a:pt x="11162" y="9376"/>
                </a:cubicBezTo>
                <a:cubicBezTo>
                  <a:pt x="11319" y="9358"/>
                  <a:pt x="11476" y="9319"/>
                  <a:pt x="11633" y="9302"/>
                </a:cubicBezTo>
                <a:cubicBezTo>
                  <a:pt x="11721" y="9293"/>
                  <a:pt x="11820" y="9282"/>
                  <a:pt x="11906" y="9277"/>
                </a:cubicBezTo>
                <a:cubicBezTo>
                  <a:pt x="11976" y="9273"/>
                  <a:pt x="12037" y="9258"/>
                  <a:pt x="12105" y="9252"/>
                </a:cubicBezTo>
                <a:cubicBezTo>
                  <a:pt x="12129" y="9252"/>
                  <a:pt x="12138" y="9252"/>
                  <a:pt x="12154" y="9252"/>
                </a:cubicBezTo>
              </a:path>
              <a:path w="1440" h="1539">
                <a:moveTo>
                  <a:pt x="11410" y="9575"/>
                </a:moveTo>
                <a:cubicBezTo>
                  <a:pt x="11417" y="9554"/>
                  <a:pt x="11473" y="9487"/>
                  <a:pt x="11509" y="9475"/>
                </a:cubicBezTo>
                <a:cubicBezTo>
                  <a:pt x="11561" y="9458"/>
                  <a:pt x="11622" y="9472"/>
                  <a:pt x="11633" y="9525"/>
                </a:cubicBezTo>
                <a:cubicBezTo>
                  <a:pt x="11642" y="9568"/>
                  <a:pt x="11587" y="9628"/>
                  <a:pt x="11559" y="9674"/>
                </a:cubicBezTo>
                <a:cubicBezTo>
                  <a:pt x="11529" y="9724"/>
                  <a:pt x="11466" y="9820"/>
                  <a:pt x="11410" y="9847"/>
                </a:cubicBezTo>
                <a:cubicBezTo>
                  <a:pt x="11385" y="9859"/>
                  <a:pt x="11325" y="9932"/>
                  <a:pt x="11311" y="9971"/>
                </a:cubicBezTo>
                <a:cubicBezTo>
                  <a:pt x="11311" y="9996"/>
                  <a:pt x="11311" y="10004"/>
                  <a:pt x="11311" y="10021"/>
                </a:cubicBezTo>
                <a:cubicBezTo>
                  <a:pt x="11322" y="9977"/>
                  <a:pt x="11339" y="9942"/>
                  <a:pt x="11361" y="9922"/>
                </a:cubicBezTo>
                <a:cubicBezTo>
                  <a:pt x="11451" y="9842"/>
                  <a:pt x="11427" y="9899"/>
                  <a:pt x="11509" y="9947"/>
                </a:cubicBezTo>
                <a:cubicBezTo>
                  <a:pt x="11598" y="9999"/>
                  <a:pt x="11623" y="9950"/>
                  <a:pt x="11658" y="9897"/>
                </a:cubicBezTo>
                <a:cubicBezTo>
                  <a:pt x="11690" y="9849"/>
                  <a:pt x="11693" y="9893"/>
                  <a:pt x="11708" y="984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3106800" y="3598920"/>
            <a:ext cx="974520" cy="669960"/>
          </a:xfrm>
          <a:custGeom>
            <a:avLst/>
            <a:gdLst/>
            <a:ahLst/>
            <a:rect l="l" t="t" r="r" b="b"/>
            <a:pathLst>
              <a:path w="2705" h="1862">
                <a:moveTo>
                  <a:pt x="8632" y="11534"/>
                </a:moveTo>
                <a:cubicBezTo>
                  <a:pt x="8632" y="11526"/>
                  <a:pt x="8632" y="11517"/>
                  <a:pt x="8632" y="11509"/>
                </a:cubicBezTo>
              </a:path>
              <a:path w="2705" h="1862">
                <a:moveTo>
                  <a:pt x="8682" y="11261"/>
                </a:moveTo>
                <a:cubicBezTo>
                  <a:pt x="8682" y="11253"/>
                  <a:pt x="8682" y="11245"/>
                  <a:pt x="8682" y="11237"/>
                </a:cubicBezTo>
              </a:path>
              <a:path w="2705" h="1862">
                <a:moveTo>
                  <a:pt x="8731" y="10988"/>
                </a:moveTo>
                <a:cubicBezTo>
                  <a:pt x="8723" y="10988"/>
                  <a:pt x="8714" y="10988"/>
                  <a:pt x="8706" y="10988"/>
                </a:cubicBezTo>
              </a:path>
              <a:path w="2705" h="1862">
                <a:moveTo>
                  <a:pt x="8731" y="10864"/>
                </a:moveTo>
                <a:cubicBezTo>
                  <a:pt x="8723" y="10864"/>
                  <a:pt x="8714" y="10864"/>
                  <a:pt x="8706" y="10864"/>
                </a:cubicBezTo>
              </a:path>
              <a:path w="2705" h="1862">
                <a:moveTo>
                  <a:pt x="8706" y="10691"/>
                </a:moveTo>
                <a:lnTo>
                  <a:pt x="8706" y="10691"/>
                </a:lnTo>
                <a:lnTo>
                  <a:pt x="8706" y="10691"/>
                </a:lnTo>
              </a:path>
              <a:path w="2705" h="1862">
                <a:moveTo>
                  <a:pt x="8706" y="10567"/>
                </a:moveTo>
                <a:lnTo>
                  <a:pt x="8706" y="10567"/>
                </a:lnTo>
                <a:lnTo>
                  <a:pt x="8706" y="10567"/>
                </a:lnTo>
              </a:path>
              <a:path w="2705" h="1862">
                <a:moveTo>
                  <a:pt x="8756" y="10368"/>
                </a:moveTo>
                <a:lnTo>
                  <a:pt x="8756" y="10368"/>
                </a:lnTo>
              </a:path>
              <a:path w="2705" h="1862">
                <a:moveTo>
                  <a:pt x="8731" y="10344"/>
                </a:moveTo>
                <a:cubicBezTo>
                  <a:pt x="8723" y="10344"/>
                  <a:pt x="8714" y="10344"/>
                  <a:pt x="8706" y="10344"/>
                </a:cubicBezTo>
              </a:path>
              <a:path w="2705" h="1862">
                <a:moveTo>
                  <a:pt x="8682" y="10220"/>
                </a:moveTo>
                <a:lnTo>
                  <a:pt x="8682" y="10220"/>
                </a:lnTo>
              </a:path>
              <a:path w="2705" h="1862">
                <a:moveTo>
                  <a:pt x="8682" y="9996"/>
                </a:moveTo>
                <a:lnTo>
                  <a:pt x="8682" y="9996"/>
                </a:lnTo>
              </a:path>
              <a:path w="2705" h="1862">
                <a:moveTo>
                  <a:pt x="9128" y="10616"/>
                </a:moveTo>
                <a:cubicBezTo>
                  <a:pt x="9099" y="10759"/>
                  <a:pt x="9033" y="10901"/>
                  <a:pt x="8979" y="11038"/>
                </a:cubicBezTo>
                <a:cubicBezTo>
                  <a:pt x="8943" y="11128"/>
                  <a:pt x="8927" y="11134"/>
                  <a:pt x="8930" y="11187"/>
                </a:cubicBezTo>
                <a:cubicBezTo>
                  <a:pt x="8953" y="11024"/>
                  <a:pt x="9016" y="10890"/>
                  <a:pt x="9079" y="10740"/>
                </a:cubicBezTo>
                <a:cubicBezTo>
                  <a:pt x="9130" y="10617"/>
                  <a:pt x="9160" y="10481"/>
                  <a:pt x="9302" y="10517"/>
                </a:cubicBezTo>
                <a:cubicBezTo>
                  <a:pt x="9365" y="10718"/>
                  <a:pt x="9373" y="10857"/>
                  <a:pt x="9351" y="11063"/>
                </a:cubicBezTo>
                <a:cubicBezTo>
                  <a:pt x="9351" y="11079"/>
                  <a:pt x="9351" y="11096"/>
                  <a:pt x="9351" y="11112"/>
                </a:cubicBezTo>
              </a:path>
              <a:path w="2705" h="1862">
                <a:moveTo>
                  <a:pt x="8954" y="10988"/>
                </a:moveTo>
                <a:cubicBezTo>
                  <a:pt x="9112" y="10945"/>
                  <a:pt x="9238" y="10914"/>
                  <a:pt x="9401" y="10914"/>
                </a:cubicBezTo>
              </a:path>
              <a:path w="2705" h="1862">
                <a:moveTo>
                  <a:pt x="9649" y="10939"/>
                </a:moveTo>
                <a:cubicBezTo>
                  <a:pt x="9620" y="11002"/>
                  <a:pt x="9583" y="11208"/>
                  <a:pt x="9525" y="11237"/>
                </a:cubicBezTo>
                <a:cubicBezTo>
                  <a:pt x="9525" y="11209"/>
                  <a:pt x="9527" y="11198"/>
                  <a:pt x="9550" y="11187"/>
                </a:cubicBezTo>
              </a:path>
              <a:path w="2705" h="1862">
                <a:moveTo>
                  <a:pt x="9649" y="10889"/>
                </a:moveTo>
                <a:cubicBezTo>
                  <a:pt x="9707" y="10845"/>
                  <a:pt x="9737" y="10852"/>
                  <a:pt x="9773" y="10939"/>
                </a:cubicBezTo>
                <a:cubicBezTo>
                  <a:pt x="9796" y="10994"/>
                  <a:pt x="9813" y="11078"/>
                  <a:pt x="9823" y="11137"/>
                </a:cubicBezTo>
                <a:cubicBezTo>
                  <a:pt x="9722" y="11147"/>
                  <a:pt x="9626" y="11177"/>
                  <a:pt x="9525" y="11187"/>
                </a:cubicBezTo>
              </a:path>
              <a:path w="2705" h="1862">
                <a:moveTo>
                  <a:pt x="10021" y="10765"/>
                </a:moveTo>
                <a:cubicBezTo>
                  <a:pt x="10080" y="10759"/>
                  <a:pt x="10137" y="10748"/>
                  <a:pt x="10195" y="10740"/>
                </a:cubicBezTo>
              </a:path>
              <a:path w="2705" h="1862">
                <a:moveTo>
                  <a:pt x="9996" y="10914"/>
                </a:moveTo>
                <a:cubicBezTo>
                  <a:pt x="10063" y="10931"/>
                  <a:pt x="10101" y="10939"/>
                  <a:pt x="10170" y="10939"/>
                </a:cubicBezTo>
              </a:path>
              <a:path w="2705" h="1862">
                <a:moveTo>
                  <a:pt x="10517" y="10468"/>
                </a:moveTo>
                <a:cubicBezTo>
                  <a:pt x="10573" y="10486"/>
                  <a:pt x="10509" y="10667"/>
                  <a:pt x="10492" y="10716"/>
                </a:cubicBezTo>
                <a:cubicBezTo>
                  <a:pt x="10459" y="10808"/>
                  <a:pt x="10428" y="10866"/>
                  <a:pt x="10418" y="10964"/>
                </a:cubicBezTo>
                <a:cubicBezTo>
                  <a:pt x="10560" y="11005"/>
                  <a:pt x="10611" y="10964"/>
                  <a:pt x="10740" y="10914"/>
                </a:cubicBezTo>
                <a:cubicBezTo>
                  <a:pt x="10780" y="10898"/>
                  <a:pt x="10781" y="10885"/>
                  <a:pt x="10790" y="10840"/>
                </a:cubicBezTo>
                <a:cubicBezTo>
                  <a:pt x="10700" y="10806"/>
                  <a:pt x="10666" y="10821"/>
                  <a:pt x="10616" y="10914"/>
                </a:cubicBezTo>
                <a:cubicBezTo>
                  <a:pt x="10597" y="10949"/>
                  <a:pt x="10621" y="10957"/>
                  <a:pt x="10641" y="10964"/>
                </a:cubicBezTo>
              </a:path>
              <a:path w="2705" h="1862">
                <a:moveTo>
                  <a:pt x="10939" y="10492"/>
                </a:moveTo>
                <a:cubicBezTo>
                  <a:pt x="10939" y="10571"/>
                  <a:pt x="10913" y="10641"/>
                  <a:pt x="10889" y="10716"/>
                </a:cubicBezTo>
                <a:cubicBezTo>
                  <a:pt x="10868" y="10781"/>
                  <a:pt x="10830" y="10894"/>
                  <a:pt x="10914" y="10939"/>
                </a:cubicBezTo>
                <a:cubicBezTo>
                  <a:pt x="10998" y="10984"/>
                  <a:pt x="11110" y="10968"/>
                  <a:pt x="11187" y="10914"/>
                </a:cubicBezTo>
                <a:cubicBezTo>
                  <a:pt x="11236" y="10880"/>
                  <a:pt x="11258" y="10839"/>
                  <a:pt x="11286" y="10790"/>
                </a:cubicBezTo>
                <a:cubicBezTo>
                  <a:pt x="11159" y="10747"/>
                  <a:pt x="11167" y="10766"/>
                  <a:pt x="11088" y="10864"/>
                </a:cubicBezTo>
                <a:cubicBezTo>
                  <a:pt x="11061" y="10898"/>
                  <a:pt x="11063" y="10896"/>
                  <a:pt x="11063" y="10939"/>
                </a:cubicBezTo>
              </a:path>
              <a:path w="2705" h="1862">
                <a:moveTo>
                  <a:pt x="10319" y="11187"/>
                </a:moveTo>
                <a:cubicBezTo>
                  <a:pt x="10430" y="11187"/>
                  <a:pt x="10531" y="11169"/>
                  <a:pt x="10641" y="11162"/>
                </a:cubicBezTo>
                <a:cubicBezTo>
                  <a:pt x="10774" y="11153"/>
                  <a:pt x="10903" y="11187"/>
                  <a:pt x="11038" y="11187"/>
                </a:cubicBezTo>
                <a:cubicBezTo>
                  <a:pt x="11131" y="11187"/>
                  <a:pt x="11259" y="11166"/>
                  <a:pt x="11336" y="11212"/>
                </a:cubicBezTo>
              </a:path>
              <a:path w="2705" h="1862">
                <a:moveTo>
                  <a:pt x="10740" y="11435"/>
                </a:moveTo>
                <a:cubicBezTo>
                  <a:pt x="10740" y="11476"/>
                  <a:pt x="10760" y="11415"/>
                  <a:pt x="10790" y="11385"/>
                </a:cubicBezTo>
                <a:cubicBezTo>
                  <a:pt x="10816" y="11359"/>
                  <a:pt x="10877" y="11343"/>
                  <a:pt x="10914" y="11361"/>
                </a:cubicBezTo>
                <a:cubicBezTo>
                  <a:pt x="10948" y="11378"/>
                  <a:pt x="10984" y="11426"/>
                  <a:pt x="10988" y="11460"/>
                </a:cubicBezTo>
                <a:cubicBezTo>
                  <a:pt x="10996" y="11539"/>
                  <a:pt x="10960" y="11481"/>
                  <a:pt x="10914" y="11534"/>
                </a:cubicBezTo>
                <a:cubicBezTo>
                  <a:pt x="10891" y="11561"/>
                  <a:pt x="10870" y="11596"/>
                  <a:pt x="10840" y="11609"/>
                </a:cubicBezTo>
                <a:cubicBezTo>
                  <a:pt x="10820" y="11618"/>
                  <a:pt x="10732" y="11664"/>
                  <a:pt x="10716" y="11683"/>
                </a:cubicBezTo>
                <a:cubicBezTo>
                  <a:pt x="10689" y="11715"/>
                  <a:pt x="10655" y="11752"/>
                  <a:pt x="10641" y="11807"/>
                </a:cubicBezTo>
                <a:cubicBezTo>
                  <a:pt x="10626" y="11868"/>
                  <a:pt x="10651" y="11853"/>
                  <a:pt x="10666" y="11807"/>
                </a:cubicBezTo>
                <a:cubicBezTo>
                  <a:pt x="10677" y="11773"/>
                  <a:pt x="10717" y="11762"/>
                  <a:pt x="10765" y="11757"/>
                </a:cubicBezTo>
                <a:cubicBezTo>
                  <a:pt x="10805" y="11753"/>
                  <a:pt x="10786" y="11803"/>
                  <a:pt x="10840" y="11807"/>
                </a:cubicBezTo>
                <a:cubicBezTo>
                  <a:pt x="10925" y="11813"/>
                  <a:pt x="10925" y="11827"/>
                  <a:pt x="11013" y="1178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3098880" y="4224240"/>
            <a:ext cx="1544400" cy="534960"/>
          </a:xfrm>
          <a:custGeom>
            <a:avLst/>
            <a:gdLst/>
            <a:ahLst/>
            <a:rect l="l" t="t" r="r" b="b"/>
            <a:pathLst>
              <a:path w="4292" h="1489">
                <a:moveTo>
                  <a:pt x="8657" y="11832"/>
                </a:moveTo>
                <a:cubicBezTo>
                  <a:pt x="8649" y="11832"/>
                  <a:pt x="8640" y="11832"/>
                  <a:pt x="8632" y="11832"/>
                </a:cubicBezTo>
              </a:path>
              <a:path w="4292" h="1489">
                <a:moveTo>
                  <a:pt x="8905" y="12229"/>
                </a:moveTo>
                <a:cubicBezTo>
                  <a:pt x="8977" y="12253"/>
                  <a:pt x="8893" y="12458"/>
                  <a:pt x="8880" y="12526"/>
                </a:cubicBezTo>
                <a:cubicBezTo>
                  <a:pt x="8880" y="12570"/>
                  <a:pt x="8966" y="12353"/>
                  <a:pt x="8979" y="12328"/>
                </a:cubicBezTo>
                <a:cubicBezTo>
                  <a:pt x="9037" y="12218"/>
                  <a:pt x="9078" y="12124"/>
                  <a:pt x="9153" y="12030"/>
                </a:cubicBezTo>
                <a:cubicBezTo>
                  <a:pt x="9269" y="12117"/>
                  <a:pt x="9312" y="12227"/>
                  <a:pt x="9302" y="12378"/>
                </a:cubicBezTo>
                <a:cubicBezTo>
                  <a:pt x="9282" y="12479"/>
                  <a:pt x="9284" y="12499"/>
                  <a:pt x="9252" y="12551"/>
                </a:cubicBezTo>
              </a:path>
              <a:path w="4292" h="1489">
                <a:moveTo>
                  <a:pt x="9004" y="12353"/>
                </a:moveTo>
                <a:cubicBezTo>
                  <a:pt x="9123" y="12353"/>
                  <a:pt x="9234" y="12336"/>
                  <a:pt x="9351" y="12328"/>
                </a:cubicBezTo>
              </a:path>
              <a:path w="4292" h="1489">
                <a:moveTo>
                  <a:pt x="9525" y="12353"/>
                </a:moveTo>
                <a:cubicBezTo>
                  <a:pt x="9473" y="12468"/>
                  <a:pt x="9443" y="12584"/>
                  <a:pt x="9401" y="12700"/>
                </a:cubicBezTo>
                <a:cubicBezTo>
                  <a:pt x="9449" y="12576"/>
                  <a:pt x="9519" y="12465"/>
                  <a:pt x="9575" y="12353"/>
                </a:cubicBezTo>
                <a:cubicBezTo>
                  <a:pt x="9575" y="12345"/>
                  <a:pt x="9575" y="12336"/>
                  <a:pt x="9575" y="12328"/>
                </a:cubicBezTo>
                <a:cubicBezTo>
                  <a:pt x="9638" y="12418"/>
                  <a:pt x="9675" y="12517"/>
                  <a:pt x="9699" y="12626"/>
                </a:cubicBezTo>
                <a:cubicBezTo>
                  <a:pt x="9700" y="12630"/>
                  <a:pt x="9520" y="12687"/>
                  <a:pt x="9475" y="12700"/>
                </a:cubicBezTo>
                <a:cubicBezTo>
                  <a:pt x="9451" y="12700"/>
                  <a:pt x="9443" y="12700"/>
                  <a:pt x="9451" y="12675"/>
                </a:cubicBezTo>
              </a:path>
              <a:path w="4292" h="1489">
                <a:moveTo>
                  <a:pt x="9872" y="12303"/>
                </a:moveTo>
                <a:cubicBezTo>
                  <a:pt x="9938" y="12303"/>
                  <a:pt x="10005" y="12303"/>
                  <a:pt x="10071" y="12303"/>
                </a:cubicBezTo>
              </a:path>
              <a:path w="4292" h="1489">
                <a:moveTo>
                  <a:pt x="9847" y="12427"/>
                </a:moveTo>
                <a:cubicBezTo>
                  <a:pt x="9918" y="12441"/>
                  <a:pt x="9945" y="12440"/>
                  <a:pt x="10021" y="12427"/>
                </a:cubicBezTo>
              </a:path>
              <a:path w="4292" h="1489">
                <a:moveTo>
                  <a:pt x="10344" y="12278"/>
                </a:moveTo>
                <a:cubicBezTo>
                  <a:pt x="10411" y="12278"/>
                  <a:pt x="10480" y="12266"/>
                  <a:pt x="10542" y="12303"/>
                </a:cubicBezTo>
                <a:cubicBezTo>
                  <a:pt x="10692" y="12392"/>
                  <a:pt x="10515" y="12516"/>
                  <a:pt x="10443" y="12576"/>
                </a:cubicBezTo>
                <a:cubicBezTo>
                  <a:pt x="10388" y="12549"/>
                  <a:pt x="10511" y="12526"/>
                  <a:pt x="10567" y="12551"/>
                </a:cubicBezTo>
                <a:cubicBezTo>
                  <a:pt x="10749" y="12631"/>
                  <a:pt x="10527" y="12803"/>
                  <a:pt x="10443" y="12824"/>
                </a:cubicBezTo>
                <a:cubicBezTo>
                  <a:pt x="10321" y="12854"/>
                  <a:pt x="10323" y="12838"/>
                  <a:pt x="10344" y="12774"/>
                </a:cubicBezTo>
              </a:path>
              <a:path w="4292" h="1489">
                <a:moveTo>
                  <a:pt x="10716" y="12328"/>
                </a:moveTo>
                <a:cubicBezTo>
                  <a:pt x="10733" y="12274"/>
                  <a:pt x="10854" y="12268"/>
                  <a:pt x="10914" y="12278"/>
                </a:cubicBezTo>
                <a:cubicBezTo>
                  <a:pt x="11059" y="12301"/>
                  <a:pt x="10895" y="12427"/>
                  <a:pt x="10864" y="12452"/>
                </a:cubicBezTo>
                <a:cubicBezTo>
                  <a:pt x="10856" y="12452"/>
                  <a:pt x="10848" y="12452"/>
                  <a:pt x="10840" y="12452"/>
                </a:cubicBezTo>
                <a:cubicBezTo>
                  <a:pt x="10953" y="12438"/>
                  <a:pt x="11187" y="12428"/>
                  <a:pt x="11088" y="12626"/>
                </a:cubicBezTo>
                <a:cubicBezTo>
                  <a:pt x="11025" y="12752"/>
                  <a:pt x="10834" y="12730"/>
                  <a:pt x="10815" y="12700"/>
                </a:cubicBezTo>
              </a:path>
              <a:path w="4292" h="1489">
                <a:moveTo>
                  <a:pt x="11609" y="12378"/>
                </a:moveTo>
                <a:cubicBezTo>
                  <a:pt x="11609" y="12417"/>
                  <a:pt x="11557" y="12344"/>
                  <a:pt x="11485" y="12378"/>
                </a:cubicBezTo>
                <a:cubicBezTo>
                  <a:pt x="11352" y="12440"/>
                  <a:pt x="11384" y="12667"/>
                  <a:pt x="11534" y="12675"/>
                </a:cubicBezTo>
                <a:cubicBezTo>
                  <a:pt x="11653" y="12651"/>
                  <a:pt x="11689" y="12645"/>
                  <a:pt x="11757" y="12601"/>
                </a:cubicBezTo>
              </a:path>
              <a:path w="4292" h="1489">
                <a:moveTo>
                  <a:pt x="11757" y="12402"/>
                </a:moveTo>
                <a:lnTo>
                  <a:pt x="11757" y="12427"/>
                </a:lnTo>
                <a:lnTo>
                  <a:pt x="11782" y="12526"/>
                </a:lnTo>
                <a:lnTo>
                  <a:pt x="11782" y="12601"/>
                </a:lnTo>
                <a:lnTo>
                  <a:pt x="11807" y="12601"/>
                </a:lnTo>
                <a:lnTo>
                  <a:pt x="11782" y="12576"/>
                </a:lnTo>
                <a:lnTo>
                  <a:pt x="11782" y="12477"/>
                </a:lnTo>
                <a:lnTo>
                  <a:pt x="11807" y="12378"/>
                </a:lnTo>
                <a:lnTo>
                  <a:pt x="11906" y="12353"/>
                </a:lnTo>
                <a:lnTo>
                  <a:pt x="11981" y="12353"/>
                </a:lnTo>
                <a:lnTo>
                  <a:pt x="12055" y="12427"/>
                </a:lnTo>
                <a:lnTo>
                  <a:pt x="12105" y="12526"/>
                </a:lnTo>
                <a:lnTo>
                  <a:pt x="12105" y="12576"/>
                </a:lnTo>
                <a:lnTo>
                  <a:pt x="12105" y="12601"/>
                </a:lnTo>
                <a:lnTo>
                  <a:pt x="12105" y="12576"/>
                </a:lnTo>
                <a:lnTo>
                  <a:pt x="12105" y="12526"/>
                </a:lnTo>
                <a:lnTo>
                  <a:pt x="12129" y="12402"/>
                </a:lnTo>
                <a:lnTo>
                  <a:pt x="12179" y="12328"/>
                </a:lnTo>
                <a:lnTo>
                  <a:pt x="12229" y="12303"/>
                </a:lnTo>
                <a:lnTo>
                  <a:pt x="12278" y="12303"/>
                </a:lnTo>
                <a:lnTo>
                  <a:pt x="12328" y="12353"/>
                </a:lnTo>
                <a:lnTo>
                  <a:pt x="12378" y="12452"/>
                </a:lnTo>
                <a:lnTo>
                  <a:pt x="12378" y="12526"/>
                </a:lnTo>
                <a:lnTo>
                  <a:pt x="12378" y="12601"/>
                </a:lnTo>
                <a:lnTo>
                  <a:pt x="12378" y="12576"/>
                </a:lnTo>
                <a:lnTo>
                  <a:pt x="12378" y="12502"/>
                </a:lnTo>
              </a:path>
              <a:path w="4292" h="1489">
                <a:moveTo>
                  <a:pt x="12402" y="12055"/>
                </a:moveTo>
                <a:cubicBezTo>
                  <a:pt x="12452" y="11985"/>
                  <a:pt x="12485" y="11996"/>
                  <a:pt x="12551" y="11956"/>
                </a:cubicBezTo>
                <a:cubicBezTo>
                  <a:pt x="12611" y="12075"/>
                  <a:pt x="12520" y="12107"/>
                  <a:pt x="12452" y="12204"/>
                </a:cubicBezTo>
                <a:cubicBezTo>
                  <a:pt x="12444" y="12221"/>
                  <a:pt x="12435" y="12237"/>
                  <a:pt x="12427" y="12254"/>
                </a:cubicBezTo>
                <a:cubicBezTo>
                  <a:pt x="12534" y="12254"/>
                  <a:pt x="12621" y="12224"/>
                  <a:pt x="12725" y="12204"/>
                </a:cubicBezTo>
                <a:cubicBezTo>
                  <a:pt x="12733" y="12204"/>
                  <a:pt x="12742" y="12204"/>
                  <a:pt x="12750" y="12204"/>
                </a:cubicBezTo>
              </a:path>
              <a:path w="4292" h="1489">
                <a:moveTo>
                  <a:pt x="8954" y="13221"/>
                </a:moveTo>
                <a:cubicBezTo>
                  <a:pt x="9114" y="13214"/>
                  <a:pt x="9266" y="13196"/>
                  <a:pt x="9426" y="13171"/>
                </a:cubicBezTo>
                <a:cubicBezTo>
                  <a:pt x="9586" y="13146"/>
                  <a:pt x="9736" y="13146"/>
                  <a:pt x="9897" y="13146"/>
                </a:cubicBezTo>
                <a:cubicBezTo>
                  <a:pt x="10046" y="13146"/>
                  <a:pt x="10197" y="13140"/>
                  <a:pt x="10344" y="13122"/>
                </a:cubicBezTo>
                <a:cubicBezTo>
                  <a:pt x="10510" y="13102"/>
                  <a:pt x="10675" y="13065"/>
                  <a:pt x="10840" y="13047"/>
                </a:cubicBezTo>
                <a:cubicBezTo>
                  <a:pt x="10993" y="13030"/>
                  <a:pt x="11157" y="13026"/>
                  <a:pt x="11311" y="13022"/>
                </a:cubicBezTo>
                <a:cubicBezTo>
                  <a:pt x="11438" y="13019"/>
                  <a:pt x="11582" y="13016"/>
                  <a:pt x="11708" y="12998"/>
                </a:cubicBezTo>
                <a:cubicBezTo>
                  <a:pt x="11844" y="12979"/>
                  <a:pt x="11965" y="12973"/>
                  <a:pt x="12105" y="12973"/>
                </a:cubicBezTo>
                <a:cubicBezTo>
                  <a:pt x="12247" y="12973"/>
                  <a:pt x="12392" y="12956"/>
                  <a:pt x="12526" y="12948"/>
                </a:cubicBezTo>
                <a:cubicBezTo>
                  <a:pt x="12641" y="12941"/>
                  <a:pt x="12759" y="12948"/>
                  <a:pt x="12874" y="12948"/>
                </a:cubicBezTo>
                <a:cubicBezTo>
                  <a:pt x="12878" y="12845"/>
                  <a:pt x="12892" y="12751"/>
                  <a:pt x="12898" y="12650"/>
                </a:cubicBezTo>
                <a:cubicBezTo>
                  <a:pt x="12904" y="12553"/>
                  <a:pt x="12880" y="12466"/>
                  <a:pt x="12874" y="12378"/>
                </a:cubicBezTo>
                <a:cubicBezTo>
                  <a:pt x="12864" y="12239"/>
                  <a:pt x="12905" y="12083"/>
                  <a:pt x="12898" y="11956"/>
                </a:cubicBezTo>
                <a:cubicBezTo>
                  <a:pt x="12895" y="11907"/>
                  <a:pt x="12864" y="11851"/>
                  <a:pt x="12849" y="11832"/>
                </a:cubicBezTo>
                <a:cubicBezTo>
                  <a:pt x="12821" y="11796"/>
                  <a:pt x="12775" y="11769"/>
                  <a:pt x="12750" y="11757"/>
                </a:cubicBezTo>
                <a:cubicBezTo>
                  <a:pt x="12724" y="11745"/>
                  <a:pt x="12715" y="11723"/>
                  <a:pt x="12650" y="11733"/>
                </a:cubicBezTo>
                <a:cubicBezTo>
                  <a:pt x="12558" y="11747"/>
                  <a:pt x="12469" y="11789"/>
                  <a:pt x="12378" y="11807"/>
                </a:cubicBezTo>
                <a:cubicBezTo>
                  <a:pt x="12257" y="11831"/>
                  <a:pt x="12127" y="11868"/>
                  <a:pt x="12005" y="11881"/>
                </a:cubicBezTo>
                <a:cubicBezTo>
                  <a:pt x="11930" y="11889"/>
                  <a:pt x="11857" y="11900"/>
                  <a:pt x="11782" y="11906"/>
                </a:cubicBezTo>
                <a:cubicBezTo>
                  <a:pt x="11716" y="11911"/>
                  <a:pt x="11643" y="11927"/>
                  <a:pt x="11584" y="11931"/>
                </a:cubicBezTo>
                <a:cubicBezTo>
                  <a:pt x="11519" y="11936"/>
                  <a:pt x="11436" y="11952"/>
                  <a:pt x="11385" y="11956"/>
                </a:cubicBezTo>
                <a:cubicBezTo>
                  <a:pt x="11297" y="11963"/>
                  <a:pt x="11211" y="11956"/>
                  <a:pt x="11137" y="11956"/>
                </a:cubicBezTo>
                <a:cubicBezTo>
                  <a:pt x="10728" y="11956"/>
                  <a:pt x="10298" y="11995"/>
                  <a:pt x="9897" y="11981"/>
                </a:cubicBezTo>
                <a:cubicBezTo>
                  <a:pt x="9808" y="11978"/>
                  <a:pt x="9691" y="11966"/>
                  <a:pt x="9599" y="11956"/>
                </a:cubicBezTo>
                <a:cubicBezTo>
                  <a:pt x="9485" y="11943"/>
                  <a:pt x="9367" y="11946"/>
                  <a:pt x="9252" y="11931"/>
                </a:cubicBezTo>
                <a:cubicBezTo>
                  <a:pt x="9127" y="11915"/>
                  <a:pt x="9002" y="11902"/>
                  <a:pt x="8880" y="11881"/>
                </a:cubicBezTo>
                <a:cubicBezTo>
                  <a:pt x="8805" y="11868"/>
                  <a:pt x="8736" y="11860"/>
                  <a:pt x="8657" y="11857"/>
                </a:cubicBezTo>
                <a:cubicBezTo>
                  <a:pt x="8649" y="11857"/>
                  <a:pt x="8640" y="11857"/>
                  <a:pt x="8632" y="11857"/>
                </a:cubicBezTo>
                <a:cubicBezTo>
                  <a:pt x="8617" y="11979"/>
                  <a:pt x="8578" y="12127"/>
                  <a:pt x="8607" y="12254"/>
                </a:cubicBezTo>
                <a:cubicBezTo>
                  <a:pt x="8643" y="12410"/>
                  <a:pt x="8714" y="12564"/>
                  <a:pt x="8731" y="12725"/>
                </a:cubicBezTo>
                <a:cubicBezTo>
                  <a:pt x="8738" y="12791"/>
                  <a:pt x="8751" y="12837"/>
                  <a:pt x="8756" y="12898"/>
                </a:cubicBezTo>
                <a:cubicBezTo>
                  <a:pt x="8763" y="12979"/>
                  <a:pt x="8738" y="13079"/>
                  <a:pt x="8781" y="13122"/>
                </a:cubicBezTo>
                <a:cubicBezTo>
                  <a:pt x="8812" y="13153"/>
                  <a:pt x="8840" y="13142"/>
                  <a:pt x="8905" y="13146"/>
                </a:cubicBezTo>
                <a:cubicBezTo>
                  <a:pt x="8930" y="13148"/>
                  <a:pt x="8954" y="13145"/>
                  <a:pt x="8979" y="131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1152360" y="2901960"/>
            <a:ext cx="204840" cy="9360"/>
          </a:xfrm>
          <a:custGeom>
            <a:avLst/>
            <a:gdLst/>
            <a:ahLst/>
            <a:rect l="l" t="t" r="r" b="b"/>
            <a:pathLst>
              <a:path w="571" h="25">
                <a:moveTo>
                  <a:pt x="3225" y="8062"/>
                </a:moveTo>
                <a:cubicBezTo>
                  <a:pt x="3159" y="8062"/>
                  <a:pt x="3337" y="8063"/>
                  <a:pt x="3349" y="8062"/>
                </a:cubicBezTo>
                <a:cubicBezTo>
                  <a:pt x="3382" y="8062"/>
                  <a:pt x="3415" y="8062"/>
                  <a:pt x="3448" y="8062"/>
                </a:cubicBezTo>
              </a:path>
              <a:path w="571" h="25">
                <a:moveTo>
                  <a:pt x="3597" y="8062"/>
                </a:moveTo>
                <a:cubicBezTo>
                  <a:pt x="3658" y="8074"/>
                  <a:pt x="3704" y="8086"/>
                  <a:pt x="3770" y="8086"/>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48" name=""/>
          <p:cNvSpPr/>
          <p:nvPr/>
        </p:nvSpPr>
        <p:spPr>
          <a:xfrm>
            <a:off x="1473120" y="2911320"/>
            <a:ext cx="46080" cy="1800"/>
          </a:xfrm>
          <a:custGeom>
            <a:avLst/>
            <a:gdLst/>
            <a:ahLst/>
            <a:rect l="l" t="t" r="r" b="b"/>
            <a:pathLst>
              <a:path w="125" h="1">
                <a:moveTo>
                  <a:pt x="4093" y="8086"/>
                </a:moveTo>
                <a:cubicBezTo>
                  <a:pt x="4134" y="8086"/>
                  <a:pt x="4176" y="8086"/>
                  <a:pt x="4217" y="8086"/>
                </a:cubicBez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49" name=""/>
          <p:cNvSpPr/>
          <p:nvPr/>
        </p:nvSpPr>
        <p:spPr>
          <a:xfrm>
            <a:off x="1625760" y="2901960"/>
            <a:ext cx="1490400" cy="36360"/>
          </a:xfrm>
          <a:custGeom>
            <a:avLst/>
            <a:gdLst/>
            <a:ahLst/>
            <a:rect l="l" t="t" r="r" b="b"/>
            <a:pathLst>
              <a:path w="4144" h="100">
                <a:moveTo>
                  <a:pt x="4514" y="8111"/>
                </a:moveTo>
                <a:cubicBezTo>
                  <a:pt x="4555" y="8111"/>
                  <a:pt x="4597" y="8111"/>
                  <a:pt x="4638" y="8111"/>
                </a:cubicBezTo>
              </a:path>
              <a:path w="4144" h="100">
                <a:moveTo>
                  <a:pt x="4887" y="8111"/>
                </a:moveTo>
                <a:cubicBezTo>
                  <a:pt x="4953" y="8111"/>
                  <a:pt x="5019" y="8111"/>
                  <a:pt x="5085" y="8111"/>
                </a:cubicBezTo>
              </a:path>
              <a:path w="4144" h="100">
                <a:moveTo>
                  <a:pt x="5184" y="8111"/>
                </a:moveTo>
                <a:cubicBezTo>
                  <a:pt x="5242" y="8111"/>
                  <a:pt x="5300" y="8111"/>
                  <a:pt x="5358" y="8111"/>
                </a:cubicBezTo>
              </a:path>
              <a:path w="4144" h="100">
                <a:moveTo>
                  <a:pt x="5482" y="8111"/>
                </a:moveTo>
                <a:cubicBezTo>
                  <a:pt x="5548" y="8111"/>
                  <a:pt x="5614" y="8111"/>
                  <a:pt x="5680" y="8111"/>
                </a:cubicBezTo>
              </a:path>
              <a:path w="4144" h="100">
                <a:moveTo>
                  <a:pt x="5804" y="8086"/>
                </a:moveTo>
                <a:cubicBezTo>
                  <a:pt x="5864" y="8086"/>
                  <a:pt x="5891" y="8080"/>
                  <a:pt x="5953" y="8062"/>
                </a:cubicBezTo>
              </a:path>
              <a:path w="4144" h="100">
                <a:moveTo>
                  <a:pt x="6077" y="8062"/>
                </a:moveTo>
                <a:cubicBezTo>
                  <a:pt x="6146" y="8062"/>
                  <a:pt x="6148" y="8067"/>
                  <a:pt x="6226" y="8062"/>
                </a:cubicBezTo>
                <a:cubicBezTo>
                  <a:pt x="6259" y="8062"/>
                  <a:pt x="6292" y="8062"/>
                  <a:pt x="6325" y="8062"/>
                </a:cubicBezTo>
              </a:path>
              <a:path w="4144" h="100">
                <a:moveTo>
                  <a:pt x="6524" y="8086"/>
                </a:moveTo>
                <a:cubicBezTo>
                  <a:pt x="6624" y="8086"/>
                  <a:pt x="6720" y="8106"/>
                  <a:pt x="6821" y="8111"/>
                </a:cubicBezTo>
              </a:path>
              <a:path w="4144" h="100">
                <a:moveTo>
                  <a:pt x="7020" y="8111"/>
                </a:moveTo>
                <a:cubicBezTo>
                  <a:pt x="7103" y="8111"/>
                  <a:pt x="7185" y="8111"/>
                  <a:pt x="7268" y="8111"/>
                </a:cubicBezTo>
              </a:path>
              <a:path w="4144" h="100">
                <a:moveTo>
                  <a:pt x="7342" y="8111"/>
                </a:moveTo>
                <a:cubicBezTo>
                  <a:pt x="7383" y="8111"/>
                  <a:pt x="7408" y="8111"/>
                  <a:pt x="7441" y="8111"/>
                </a:cubicBezTo>
              </a:path>
              <a:path w="4144" h="100">
                <a:moveTo>
                  <a:pt x="7441" y="8111"/>
                </a:moveTo>
                <a:lnTo>
                  <a:pt x="7441" y="8111"/>
                </a:lnTo>
              </a:path>
              <a:path w="4144" h="100">
                <a:moveTo>
                  <a:pt x="7615" y="8111"/>
                </a:moveTo>
                <a:cubicBezTo>
                  <a:pt x="7713" y="8153"/>
                  <a:pt x="7848" y="8136"/>
                  <a:pt x="7962" y="8136"/>
                </a:cubicBezTo>
              </a:path>
              <a:path w="4144" h="100">
                <a:moveTo>
                  <a:pt x="8037" y="8136"/>
                </a:moveTo>
                <a:cubicBezTo>
                  <a:pt x="8078" y="8136"/>
                  <a:pt x="8120" y="8136"/>
                  <a:pt x="8161" y="8136"/>
                </a:cubicBezTo>
              </a:path>
              <a:path w="4144" h="100">
                <a:moveTo>
                  <a:pt x="8210" y="8136"/>
                </a:moveTo>
                <a:cubicBezTo>
                  <a:pt x="8315" y="8136"/>
                  <a:pt x="8417" y="8136"/>
                  <a:pt x="8508" y="8161"/>
                </a:cubicBezTo>
                <a:cubicBezTo>
                  <a:pt x="8550" y="8173"/>
                  <a:pt x="8613" y="8161"/>
                  <a:pt x="8657" y="8161"/>
                </a:cubicBezTo>
              </a:path>
            </a:pathLst>
          </a:custGeom>
          <a:noFill/>
          <a:ln cap="rnd" w="34920">
            <a:solidFill>
              <a:srgbClr val="ff00ff"/>
            </a:solidFill>
            <a:round/>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 name=""/>
          <p:cNvSpPr/>
          <p:nvPr/>
        </p:nvSpPr>
        <p:spPr>
          <a:xfrm>
            <a:off x="5527800" y="3446640"/>
            <a:ext cx="44280" cy="777600"/>
          </a:xfrm>
          <a:custGeom>
            <a:avLst/>
            <a:gdLst/>
            <a:ahLst/>
            <a:rect l="l" t="t" r="r" b="b"/>
            <a:pathLst>
              <a:path w="125" h="2159">
                <a:moveTo>
                  <a:pt x="15379" y="11733"/>
                </a:moveTo>
                <a:cubicBezTo>
                  <a:pt x="15404" y="11733"/>
                  <a:pt x="15412" y="11733"/>
                  <a:pt x="15404" y="11708"/>
                </a:cubicBezTo>
              </a:path>
              <a:path w="125" h="2159">
                <a:moveTo>
                  <a:pt x="15429" y="11658"/>
                </a:moveTo>
                <a:cubicBezTo>
                  <a:pt x="15453" y="11658"/>
                  <a:pt x="15461" y="11658"/>
                  <a:pt x="15453" y="11633"/>
                </a:cubicBezTo>
              </a:path>
              <a:path w="125" h="2159">
                <a:moveTo>
                  <a:pt x="15453" y="11534"/>
                </a:moveTo>
                <a:cubicBezTo>
                  <a:pt x="15445" y="11534"/>
                  <a:pt x="15437" y="11534"/>
                  <a:pt x="15429" y="11534"/>
                </a:cubicBezTo>
              </a:path>
              <a:path w="125" h="2159">
                <a:moveTo>
                  <a:pt x="15404" y="11336"/>
                </a:moveTo>
                <a:cubicBezTo>
                  <a:pt x="15404" y="11328"/>
                  <a:pt x="15404" y="11319"/>
                  <a:pt x="15404" y="11311"/>
                </a:cubicBezTo>
              </a:path>
              <a:path w="125" h="2159">
                <a:moveTo>
                  <a:pt x="15453" y="11137"/>
                </a:moveTo>
                <a:cubicBezTo>
                  <a:pt x="15453" y="11112"/>
                  <a:pt x="15453" y="11104"/>
                  <a:pt x="15429" y="11112"/>
                </a:cubicBezTo>
              </a:path>
              <a:path w="125" h="2159">
                <a:moveTo>
                  <a:pt x="15478" y="10964"/>
                </a:moveTo>
                <a:cubicBezTo>
                  <a:pt x="15445" y="10964"/>
                  <a:pt x="15436" y="10956"/>
                  <a:pt x="15453" y="10914"/>
                </a:cubicBezTo>
              </a:path>
              <a:path w="125" h="2159">
                <a:moveTo>
                  <a:pt x="15453" y="10914"/>
                </a:moveTo>
                <a:lnTo>
                  <a:pt x="15453" y="10914"/>
                </a:lnTo>
              </a:path>
              <a:path w="125" h="2159">
                <a:moveTo>
                  <a:pt x="15429" y="10790"/>
                </a:moveTo>
                <a:cubicBezTo>
                  <a:pt x="15429" y="10782"/>
                  <a:pt x="15429" y="10773"/>
                  <a:pt x="15429" y="10765"/>
                </a:cubicBezTo>
              </a:path>
              <a:path w="125" h="2159">
                <a:moveTo>
                  <a:pt x="15404" y="10616"/>
                </a:moveTo>
                <a:cubicBezTo>
                  <a:pt x="15404" y="10600"/>
                  <a:pt x="15404" y="10583"/>
                  <a:pt x="15404" y="10567"/>
                </a:cubicBezTo>
              </a:path>
              <a:path w="125" h="2159">
                <a:moveTo>
                  <a:pt x="15404" y="10393"/>
                </a:moveTo>
                <a:cubicBezTo>
                  <a:pt x="15404" y="10385"/>
                  <a:pt x="15404" y="10376"/>
                  <a:pt x="15404" y="10368"/>
                </a:cubicBezTo>
              </a:path>
              <a:path w="125" h="2159">
                <a:moveTo>
                  <a:pt x="15404" y="10368"/>
                </a:moveTo>
                <a:lnTo>
                  <a:pt x="15404" y="10368"/>
                </a:lnTo>
              </a:path>
              <a:path w="125" h="2159">
                <a:moveTo>
                  <a:pt x="15404" y="10319"/>
                </a:moveTo>
                <a:cubicBezTo>
                  <a:pt x="15396" y="10311"/>
                  <a:pt x="15387" y="10302"/>
                  <a:pt x="15379" y="10294"/>
                </a:cubicBezTo>
              </a:path>
              <a:path w="125" h="2159">
                <a:moveTo>
                  <a:pt x="15404" y="10120"/>
                </a:moveTo>
                <a:cubicBezTo>
                  <a:pt x="15404" y="10112"/>
                  <a:pt x="15404" y="10104"/>
                  <a:pt x="15404" y="10096"/>
                </a:cubicBezTo>
              </a:path>
              <a:path w="125" h="2159">
                <a:moveTo>
                  <a:pt x="15404" y="10096"/>
                </a:moveTo>
                <a:lnTo>
                  <a:pt x="15404" y="10096"/>
                </a:lnTo>
              </a:path>
              <a:path w="125" h="2159">
                <a:moveTo>
                  <a:pt x="15404" y="9947"/>
                </a:moveTo>
                <a:cubicBezTo>
                  <a:pt x="15404" y="9939"/>
                  <a:pt x="15404" y="9930"/>
                  <a:pt x="15404" y="9922"/>
                </a:cubicBezTo>
              </a:path>
              <a:path w="125" h="2159">
                <a:moveTo>
                  <a:pt x="15379" y="9723"/>
                </a:moveTo>
                <a:lnTo>
                  <a:pt x="15379" y="9723"/>
                </a:lnTo>
              </a:path>
              <a:path w="125" h="2159">
                <a:moveTo>
                  <a:pt x="15354" y="9575"/>
                </a:moveTo>
                <a:lnTo>
                  <a:pt x="15354" y="9575"/>
                </a:lnTo>
                <a:lnTo>
                  <a:pt x="15354" y="9575"/>
                </a:lnTo>
              </a:path>
              <a:path w="125" h="2159">
                <a:moveTo>
                  <a:pt x="15354" y="9575"/>
                </a:moveTo>
                <a:lnTo>
                  <a:pt x="15354" y="9575"/>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5518080" y="3125880"/>
            <a:ext cx="9720" cy="241200"/>
          </a:xfrm>
          <a:custGeom>
            <a:avLst/>
            <a:gdLst/>
            <a:ahLst/>
            <a:rect l="l" t="t" r="r" b="b"/>
            <a:pathLst>
              <a:path w="26" h="670">
                <a:moveTo>
                  <a:pt x="15329" y="9351"/>
                </a:moveTo>
                <a:cubicBezTo>
                  <a:pt x="15329" y="9343"/>
                  <a:pt x="15329" y="9335"/>
                  <a:pt x="15329" y="9327"/>
                </a:cubicBezTo>
              </a:path>
              <a:path w="26" h="670">
                <a:moveTo>
                  <a:pt x="15329" y="9153"/>
                </a:moveTo>
                <a:cubicBezTo>
                  <a:pt x="15329" y="9145"/>
                  <a:pt x="15329" y="9136"/>
                  <a:pt x="15329" y="9128"/>
                </a:cubicBezTo>
              </a:path>
              <a:path w="26" h="670">
                <a:moveTo>
                  <a:pt x="15329" y="9128"/>
                </a:moveTo>
                <a:lnTo>
                  <a:pt x="15329" y="9128"/>
                </a:lnTo>
              </a:path>
              <a:path w="26" h="670">
                <a:moveTo>
                  <a:pt x="15329" y="8930"/>
                </a:moveTo>
                <a:cubicBezTo>
                  <a:pt x="15329" y="8922"/>
                  <a:pt x="15329" y="8913"/>
                  <a:pt x="15329" y="8905"/>
                </a:cubicBezTo>
              </a:path>
              <a:path w="26" h="670">
                <a:moveTo>
                  <a:pt x="15354" y="8682"/>
                </a:moveTo>
                <a:lnTo>
                  <a:pt x="15354" y="8682"/>
                </a:lnTo>
                <a:lnTo>
                  <a:pt x="15354" y="8682"/>
                </a:lnTo>
              </a:path>
              <a:path w="26" h="670">
                <a:moveTo>
                  <a:pt x="15354" y="8682"/>
                </a:moveTo>
                <a:lnTo>
                  <a:pt x="15354" y="868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a:off x="5527800" y="2955960"/>
            <a:ext cx="9360" cy="81000"/>
          </a:xfrm>
          <a:custGeom>
            <a:avLst/>
            <a:gdLst/>
            <a:ahLst/>
            <a:rect l="l" t="t" r="r" b="b"/>
            <a:pathLst>
              <a:path w="26" h="225">
                <a:moveTo>
                  <a:pt x="15379" y="8434"/>
                </a:moveTo>
                <a:cubicBezTo>
                  <a:pt x="15379" y="8426"/>
                  <a:pt x="15379" y="8417"/>
                  <a:pt x="15379" y="8409"/>
                </a:cubicBezTo>
              </a:path>
              <a:path w="26" h="225">
                <a:moveTo>
                  <a:pt x="15354" y="8260"/>
                </a:moveTo>
                <a:cubicBezTo>
                  <a:pt x="15354" y="8243"/>
                  <a:pt x="15354" y="8227"/>
                  <a:pt x="15354" y="8210"/>
                </a:cubicBezTo>
              </a:path>
              <a:path w="26" h="225">
                <a:moveTo>
                  <a:pt x="15354" y="8210"/>
                </a:moveTo>
                <a:lnTo>
                  <a:pt x="15354" y="8210"/>
                </a:lnTo>
              </a:path>
            </a:pathLst>
          </a:custGeom>
          <a:noFill/>
          <a:ln cap="rnd" w="34920">
            <a:solidFill>
              <a:srgbClr val="ff00ff"/>
            </a:solidFill>
            <a:round/>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53" name=""/>
          <p:cNvSpPr/>
          <p:nvPr/>
        </p:nvSpPr>
        <p:spPr>
          <a:xfrm>
            <a:off x="5545080" y="2840040"/>
            <a:ext cx="1800" cy="17640"/>
          </a:xfrm>
          <a:custGeom>
            <a:avLst/>
            <a:gdLst/>
            <a:ahLst/>
            <a:rect l="l" t="t" r="r" b="b"/>
            <a:pathLst>
              <a:path w="1" h="51">
                <a:moveTo>
                  <a:pt x="15404" y="7938"/>
                </a:moveTo>
                <a:cubicBezTo>
                  <a:pt x="15404" y="7921"/>
                  <a:pt x="15404" y="7905"/>
                  <a:pt x="15404" y="7888"/>
                </a:cubicBezTo>
              </a:path>
            </a:pathLst>
          </a:custGeom>
          <a:noFill/>
          <a:ln cap="rnd" w="34920">
            <a:solidFill>
              <a:srgbClr val="ff00ff"/>
            </a:solidFill>
            <a:roun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54" name=""/>
          <p:cNvSpPr/>
          <p:nvPr/>
        </p:nvSpPr>
        <p:spPr>
          <a:xfrm>
            <a:off x="5510160" y="2490840"/>
            <a:ext cx="27000" cy="260280"/>
          </a:xfrm>
          <a:custGeom>
            <a:avLst/>
            <a:gdLst/>
            <a:ahLst/>
            <a:rect l="l" t="t" r="r" b="b"/>
            <a:pathLst>
              <a:path w="76" h="720">
                <a:moveTo>
                  <a:pt x="15354" y="7640"/>
                </a:moveTo>
                <a:lnTo>
                  <a:pt x="15354" y="7640"/>
                </a:lnTo>
                <a:lnTo>
                  <a:pt x="15354" y="7640"/>
                </a:lnTo>
              </a:path>
              <a:path w="76" h="720">
                <a:moveTo>
                  <a:pt x="15354" y="7640"/>
                </a:moveTo>
                <a:lnTo>
                  <a:pt x="15354" y="7640"/>
                </a:lnTo>
              </a:path>
              <a:path w="76" h="720">
                <a:moveTo>
                  <a:pt x="15329" y="7466"/>
                </a:moveTo>
                <a:lnTo>
                  <a:pt x="15329" y="7466"/>
                </a:lnTo>
              </a:path>
              <a:path w="76" h="720">
                <a:moveTo>
                  <a:pt x="15354" y="7367"/>
                </a:moveTo>
                <a:lnTo>
                  <a:pt x="15354" y="7367"/>
                </a:lnTo>
                <a:lnTo>
                  <a:pt x="15354" y="7367"/>
                </a:lnTo>
              </a:path>
              <a:path w="76" h="720">
                <a:moveTo>
                  <a:pt x="15354" y="7367"/>
                </a:moveTo>
                <a:lnTo>
                  <a:pt x="15354" y="7367"/>
                </a:lnTo>
              </a:path>
              <a:path w="76" h="720">
                <a:moveTo>
                  <a:pt x="15354" y="7243"/>
                </a:moveTo>
                <a:lnTo>
                  <a:pt x="15354" y="7243"/>
                </a:lnTo>
              </a:path>
              <a:path w="76" h="720">
                <a:moveTo>
                  <a:pt x="15329" y="7144"/>
                </a:moveTo>
                <a:cubicBezTo>
                  <a:pt x="15321" y="7144"/>
                  <a:pt x="15312" y="7144"/>
                  <a:pt x="15304" y="7144"/>
                </a:cubicBezTo>
              </a:path>
              <a:path w="76" h="720">
                <a:moveTo>
                  <a:pt x="15329" y="7045"/>
                </a:moveTo>
                <a:lnTo>
                  <a:pt x="15329" y="7045"/>
                </a:lnTo>
              </a:path>
              <a:path w="76" h="720">
                <a:moveTo>
                  <a:pt x="15379" y="6921"/>
                </a:moveTo>
                <a:lnTo>
                  <a:pt x="15379" y="6921"/>
                </a:lnTo>
                <a:lnTo>
                  <a:pt x="15379" y="6921"/>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5599080" y="2509920"/>
            <a:ext cx="44640" cy="1440"/>
          </a:xfrm>
          <a:custGeom>
            <a:avLst/>
            <a:gdLst/>
            <a:ahLst/>
            <a:rect l="l" t="t" r="r" b="b"/>
            <a:pathLst>
              <a:path w="125" h="1">
                <a:moveTo>
                  <a:pt x="15553" y="6970"/>
                </a:moveTo>
                <a:cubicBezTo>
                  <a:pt x="15611" y="6970"/>
                  <a:pt x="15636" y="6970"/>
                  <a:pt x="15677" y="6970"/>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6" name=""/>
          <p:cNvSpPr/>
          <p:nvPr/>
        </p:nvSpPr>
        <p:spPr>
          <a:xfrm>
            <a:off x="5742000" y="2509920"/>
            <a:ext cx="125280" cy="27000"/>
          </a:xfrm>
          <a:custGeom>
            <a:avLst/>
            <a:gdLst/>
            <a:ahLst/>
            <a:rect l="l" t="t" r="r" b="b"/>
            <a:pathLst>
              <a:path w="349" h="76">
                <a:moveTo>
                  <a:pt x="15949" y="7020"/>
                </a:moveTo>
                <a:cubicBezTo>
                  <a:pt x="16013" y="7052"/>
                  <a:pt x="16044" y="7056"/>
                  <a:pt x="16098" y="7020"/>
                </a:cubicBezTo>
              </a:path>
              <a:path w="349" h="76">
                <a:moveTo>
                  <a:pt x="16098" y="7020"/>
                </a:moveTo>
                <a:lnTo>
                  <a:pt x="16098" y="7020"/>
                </a:lnTo>
              </a:path>
              <a:path w="349" h="76">
                <a:moveTo>
                  <a:pt x="16272" y="6970"/>
                </a:moveTo>
                <a:cubicBezTo>
                  <a:pt x="16280" y="6970"/>
                  <a:pt x="16289" y="6970"/>
                  <a:pt x="16297" y="6970"/>
                </a:cubicBez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157" name=""/>
          <p:cNvSpPr/>
          <p:nvPr/>
        </p:nvSpPr>
        <p:spPr>
          <a:xfrm>
            <a:off x="5965920" y="2509920"/>
            <a:ext cx="88920" cy="1440"/>
          </a:xfrm>
          <a:custGeom>
            <a:avLst/>
            <a:gdLst/>
            <a:ahLst/>
            <a:rect l="l" t="t" r="r" b="b"/>
            <a:pathLst>
              <a:path w="249" h="1">
                <a:moveTo>
                  <a:pt x="16570" y="6970"/>
                </a:moveTo>
                <a:cubicBezTo>
                  <a:pt x="16611" y="6970"/>
                  <a:pt x="16636" y="6970"/>
                  <a:pt x="16669" y="6970"/>
                </a:cubicBezTo>
              </a:path>
              <a:path w="249" h="1">
                <a:moveTo>
                  <a:pt x="16743" y="6970"/>
                </a:moveTo>
                <a:cubicBezTo>
                  <a:pt x="16776" y="6970"/>
                  <a:pt x="16793" y="6970"/>
                  <a:pt x="16818" y="6970"/>
                </a:cubicBezTo>
              </a:path>
              <a:path w="249" h="1">
                <a:moveTo>
                  <a:pt x="16818" y="6970"/>
                </a:moveTo>
                <a:lnTo>
                  <a:pt x="16818" y="6970"/>
                </a:ln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8" name=""/>
          <p:cNvSpPr/>
          <p:nvPr/>
        </p:nvSpPr>
        <p:spPr>
          <a:xfrm>
            <a:off x="6153120" y="2482920"/>
            <a:ext cx="142920" cy="9360"/>
          </a:xfrm>
          <a:custGeom>
            <a:avLst/>
            <a:gdLst/>
            <a:ahLst/>
            <a:rect l="l" t="t" r="r" b="b"/>
            <a:pathLst>
              <a:path w="398" h="26">
                <a:moveTo>
                  <a:pt x="17090" y="6921"/>
                </a:moveTo>
                <a:cubicBezTo>
                  <a:pt x="17141" y="6921"/>
                  <a:pt x="17174" y="6915"/>
                  <a:pt x="17214" y="6896"/>
                </a:cubicBezTo>
              </a:path>
              <a:path w="398" h="26">
                <a:moveTo>
                  <a:pt x="17438" y="6921"/>
                </a:moveTo>
                <a:cubicBezTo>
                  <a:pt x="17454" y="6921"/>
                  <a:pt x="17471" y="6921"/>
                  <a:pt x="17487" y="6921"/>
                </a:cubicBezTo>
              </a:path>
              <a:path w="398" h="26">
                <a:moveTo>
                  <a:pt x="17487" y="6921"/>
                </a:moveTo>
                <a:lnTo>
                  <a:pt x="17487" y="6921"/>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 name=""/>
          <p:cNvSpPr/>
          <p:nvPr/>
        </p:nvSpPr>
        <p:spPr>
          <a:xfrm>
            <a:off x="6402240" y="2482920"/>
            <a:ext cx="27000" cy="9360"/>
          </a:xfrm>
          <a:custGeom>
            <a:avLst/>
            <a:gdLst/>
            <a:ahLst/>
            <a:rect l="l" t="t" r="r" b="b"/>
            <a:pathLst>
              <a:path w="75" h="26">
                <a:moveTo>
                  <a:pt x="17785" y="6896"/>
                </a:moveTo>
                <a:cubicBezTo>
                  <a:pt x="17810" y="6904"/>
                  <a:pt x="17834" y="6913"/>
                  <a:pt x="17859"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0" name=""/>
          <p:cNvSpPr/>
          <p:nvPr/>
        </p:nvSpPr>
        <p:spPr>
          <a:xfrm>
            <a:off x="6518160" y="2490840"/>
            <a:ext cx="81000" cy="9360"/>
          </a:xfrm>
          <a:custGeom>
            <a:avLst/>
            <a:gdLst/>
            <a:ahLst/>
            <a:rect l="l" t="t" r="r" b="b"/>
            <a:pathLst>
              <a:path w="225" h="25">
                <a:moveTo>
                  <a:pt x="18107" y="6945"/>
                </a:moveTo>
                <a:cubicBezTo>
                  <a:pt x="18115" y="6945"/>
                  <a:pt x="18124" y="6945"/>
                  <a:pt x="18132" y="6945"/>
                </a:cubicBezTo>
              </a:path>
              <a:path w="225" h="25">
                <a:moveTo>
                  <a:pt x="18132" y="6945"/>
                </a:moveTo>
                <a:lnTo>
                  <a:pt x="18132" y="6945"/>
                </a:lnTo>
              </a:path>
              <a:path w="225" h="25">
                <a:moveTo>
                  <a:pt x="18306" y="6921"/>
                </a:moveTo>
                <a:cubicBezTo>
                  <a:pt x="18314" y="6921"/>
                  <a:pt x="18323" y="6921"/>
                  <a:pt x="18331"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1" name=""/>
          <p:cNvSpPr/>
          <p:nvPr/>
        </p:nvSpPr>
        <p:spPr>
          <a:xfrm>
            <a:off x="6724800" y="2482920"/>
            <a:ext cx="79200" cy="9360"/>
          </a:xfrm>
          <a:custGeom>
            <a:avLst/>
            <a:gdLst/>
            <a:ahLst/>
            <a:rect l="l" t="t" r="r" b="b"/>
            <a:pathLst>
              <a:path w="224" h="26">
                <a:moveTo>
                  <a:pt x="18678" y="6921"/>
                </a:moveTo>
                <a:cubicBezTo>
                  <a:pt x="18703" y="6921"/>
                  <a:pt x="18727" y="6921"/>
                  <a:pt x="18752" y="6921"/>
                </a:cubicBezTo>
              </a:path>
              <a:path w="224" h="26">
                <a:moveTo>
                  <a:pt x="18752" y="6921"/>
                </a:moveTo>
                <a:lnTo>
                  <a:pt x="18752" y="6921"/>
                </a:lnTo>
              </a:path>
              <a:path w="224" h="26">
                <a:moveTo>
                  <a:pt x="18876" y="6896"/>
                </a:moveTo>
                <a:cubicBezTo>
                  <a:pt x="18884" y="6904"/>
                  <a:pt x="18893" y="6913"/>
                  <a:pt x="18901"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2" name=""/>
          <p:cNvSpPr/>
          <p:nvPr/>
        </p:nvSpPr>
        <p:spPr>
          <a:xfrm>
            <a:off x="6946920" y="2473200"/>
            <a:ext cx="36360" cy="9720"/>
          </a:xfrm>
          <a:custGeom>
            <a:avLst/>
            <a:gdLst/>
            <a:ahLst/>
            <a:rect l="l" t="t" r="r" b="b"/>
            <a:pathLst>
              <a:path w="100" h="26">
                <a:moveTo>
                  <a:pt x="19298" y="6871"/>
                </a:moveTo>
                <a:cubicBezTo>
                  <a:pt x="19298" y="6921"/>
                  <a:pt x="19323" y="6929"/>
                  <a:pt x="19397" y="6896"/>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63" name=""/>
          <p:cNvSpPr/>
          <p:nvPr/>
        </p:nvSpPr>
        <p:spPr>
          <a:xfrm>
            <a:off x="7153200" y="2463840"/>
            <a:ext cx="177840" cy="9360"/>
          </a:xfrm>
          <a:custGeom>
            <a:avLst/>
            <a:gdLst/>
            <a:ahLst/>
            <a:rect l="l" t="t" r="r" b="b"/>
            <a:pathLst>
              <a:path w="497" h="26">
                <a:moveTo>
                  <a:pt x="19869" y="6871"/>
                </a:moveTo>
                <a:cubicBezTo>
                  <a:pt x="19877" y="6871"/>
                  <a:pt x="19885" y="6871"/>
                  <a:pt x="19893" y="6871"/>
                </a:cubicBezTo>
              </a:path>
              <a:path w="497" h="26">
                <a:moveTo>
                  <a:pt x="20017" y="6871"/>
                </a:moveTo>
                <a:cubicBezTo>
                  <a:pt x="20025" y="6871"/>
                  <a:pt x="20034" y="6871"/>
                  <a:pt x="20042" y="6871"/>
                </a:cubicBezTo>
              </a:path>
              <a:path w="497" h="26">
                <a:moveTo>
                  <a:pt x="20042" y="6871"/>
                </a:moveTo>
                <a:lnTo>
                  <a:pt x="20042" y="6871"/>
                </a:lnTo>
              </a:path>
              <a:path w="497" h="26">
                <a:moveTo>
                  <a:pt x="20117" y="6871"/>
                </a:moveTo>
                <a:cubicBezTo>
                  <a:pt x="20142" y="6863"/>
                  <a:pt x="20166" y="6854"/>
                  <a:pt x="20191" y="6846"/>
                </a:cubicBezTo>
              </a:path>
              <a:path w="497" h="26">
                <a:moveTo>
                  <a:pt x="20365" y="6846"/>
                </a:moveTo>
                <a:lnTo>
                  <a:pt x="20365" y="6846"/>
                </a:lnTo>
                <a:lnTo>
                  <a:pt x="20365" y="6846"/>
                </a:lnTo>
              </a:path>
              <a:path w="497" h="26">
                <a:moveTo>
                  <a:pt x="20365" y="6846"/>
                </a:moveTo>
                <a:lnTo>
                  <a:pt x="20365" y="6846"/>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4" name=""/>
          <p:cNvSpPr/>
          <p:nvPr/>
        </p:nvSpPr>
        <p:spPr>
          <a:xfrm>
            <a:off x="7429680" y="2463840"/>
            <a:ext cx="142560" cy="9360"/>
          </a:xfrm>
          <a:custGeom>
            <a:avLst/>
            <a:gdLst/>
            <a:ahLst/>
            <a:rect l="l" t="t" r="r" b="b"/>
            <a:pathLst>
              <a:path w="397" h="26">
                <a:moveTo>
                  <a:pt x="20638" y="6871"/>
                </a:moveTo>
                <a:cubicBezTo>
                  <a:pt x="20663" y="6871"/>
                  <a:pt x="20687" y="6871"/>
                  <a:pt x="20712" y="6871"/>
                </a:cubicBezTo>
              </a:path>
              <a:path w="397" h="26">
                <a:moveTo>
                  <a:pt x="20811" y="6871"/>
                </a:moveTo>
                <a:cubicBezTo>
                  <a:pt x="20819" y="6863"/>
                  <a:pt x="20828" y="6854"/>
                  <a:pt x="20836" y="6846"/>
                </a:cubicBezTo>
              </a:path>
              <a:path w="397" h="26">
                <a:moveTo>
                  <a:pt x="20836" y="6846"/>
                </a:moveTo>
                <a:lnTo>
                  <a:pt x="20836" y="6846"/>
                </a:lnTo>
              </a:path>
              <a:path w="397" h="26">
                <a:moveTo>
                  <a:pt x="21034" y="6846"/>
                </a:moveTo>
                <a:lnTo>
                  <a:pt x="21034" y="6846"/>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5" name=""/>
          <p:cNvSpPr/>
          <p:nvPr/>
        </p:nvSpPr>
        <p:spPr>
          <a:xfrm>
            <a:off x="7705800" y="4187880"/>
            <a:ext cx="1440" cy="9360"/>
          </a:xfrm>
          <a:custGeom>
            <a:avLst/>
            <a:gdLst/>
            <a:ahLst/>
            <a:rect l="l" t="t" r="r" b="b"/>
            <a:pathLst>
              <a:path w="1" h="26">
                <a:moveTo>
                  <a:pt x="21406" y="11633"/>
                </a:moveTo>
                <a:cubicBezTo>
                  <a:pt x="21406" y="11641"/>
                  <a:pt x="21406" y="11650"/>
                  <a:pt x="21406" y="11658"/>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6" name=""/>
          <p:cNvSpPr/>
          <p:nvPr/>
        </p:nvSpPr>
        <p:spPr>
          <a:xfrm>
            <a:off x="7626240" y="3840120"/>
            <a:ext cx="44640" cy="258840"/>
          </a:xfrm>
          <a:custGeom>
            <a:avLst/>
            <a:gdLst/>
            <a:ahLst/>
            <a:rect l="l" t="t" r="r" b="b"/>
            <a:pathLst>
              <a:path w="125" h="720">
                <a:moveTo>
                  <a:pt x="21307" y="11385"/>
                </a:moveTo>
                <a:cubicBezTo>
                  <a:pt x="21307" y="11350"/>
                  <a:pt x="21302" y="11333"/>
                  <a:pt x="21282" y="11311"/>
                </a:cubicBezTo>
              </a:path>
              <a:path w="125" h="720">
                <a:moveTo>
                  <a:pt x="21282" y="11187"/>
                </a:moveTo>
                <a:cubicBezTo>
                  <a:pt x="21274" y="11162"/>
                  <a:pt x="21266" y="11137"/>
                  <a:pt x="21258" y="11112"/>
                </a:cubicBezTo>
              </a:path>
              <a:path w="125" h="720">
                <a:moveTo>
                  <a:pt x="21258" y="11112"/>
                </a:moveTo>
                <a:lnTo>
                  <a:pt x="21258" y="11112"/>
                </a:lnTo>
              </a:path>
              <a:path w="125" h="720">
                <a:moveTo>
                  <a:pt x="21233" y="11013"/>
                </a:moveTo>
                <a:cubicBezTo>
                  <a:pt x="21233" y="11005"/>
                  <a:pt x="21233" y="10996"/>
                  <a:pt x="21233" y="10988"/>
                </a:cubicBezTo>
              </a:path>
              <a:path w="125" h="720">
                <a:moveTo>
                  <a:pt x="21183" y="10840"/>
                </a:moveTo>
                <a:lnTo>
                  <a:pt x="21183" y="10840"/>
                </a:lnTo>
                <a:lnTo>
                  <a:pt x="21183" y="10840"/>
                </a:lnTo>
              </a:path>
              <a:path w="125" h="720">
                <a:moveTo>
                  <a:pt x="21183" y="10840"/>
                </a:moveTo>
                <a:lnTo>
                  <a:pt x="21183" y="10840"/>
                </a:lnTo>
              </a:path>
              <a:path w="125" h="720">
                <a:moveTo>
                  <a:pt x="21183" y="10691"/>
                </a:moveTo>
                <a:cubicBezTo>
                  <a:pt x="21183" y="10683"/>
                  <a:pt x="21183" y="10674"/>
                  <a:pt x="21183" y="1066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7581960" y="2643120"/>
            <a:ext cx="44280" cy="1108080"/>
          </a:xfrm>
          <a:custGeom>
            <a:avLst/>
            <a:gdLst/>
            <a:ahLst/>
            <a:rect l="l" t="t" r="r" b="b"/>
            <a:pathLst>
              <a:path w="125" h="3077">
                <a:moveTo>
                  <a:pt x="21183" y="10418"/>
                </a:moveTo>
                <a:cubicBezTo>
                  <a:pt x="21183" y="10410"/>
                  <a:pt x="21183" y="10401"/>
                  <a:pt x="21183" y="10393"/>
                </a:cubicBezTo>
              </a:path>
              <a:path w="125" h="3077">
                <a:moveTo>
                  <a:pt x="21183" y="10393"/>
                </a:moveTo>
                <a:lnTo>
                  <a:pt x="21183" y="10393"/>
                </a:lnTo>
              </a:path>
              <a:path w="125" h="3077">
                <a:moveTo>
                  <a:pt x="21158" y="10269"/>
                </a:moveTo>
                <a:cubicBezTo>
                  <a:pt x="21158" y="10244"/>
                  <a:pt x="21158" y="10236"/>
                  <a:pt x="21158" y="10220"/>
                </a:cubicBezTo>
              </a:path>
              <a:path w="125" h="3077">
                <a:moveTo>
                  <a:pt x="21158" y="10071"/>
                </a:moveTo>
                <a:cubicBezTo>
                  <a:pt x="21158" y="10063"/>
                  <a:pt x="21158" y="10054"/>
                  <a:pt x="21158" y="10046"/>
                </a:cubicBezTo>
              </a:path>
              <a:path w="125" h="3077">
                <a:moveTo>
                  <a:pt x="21158" y="10046"/>
                </a:moveTo>
                <a:lnTo>
                  <a:pt x="21158" y="10046"/>
                </a:lnTo>
              </a:path>
              <a:path w="125" h="3077">
                <a:moveTo>
                  <a:pt x="21183" y="9872"/>
                </a:moveTo>
                <a:cubicBezTo>
                  <a:pt x="21183" y="9856"/>
                  <a:pt x="21183" y="9839"/>
                  <a:pt x="21183" y="9823"/>
                </a:cubicBezTo>
              </a:path>
              <a:path w="125" h="3077">
                <a:moveTo>
                  <a:pt x="21183" y="9649"/>
                </a:moveTo>
                <a:cubicBezTo>
                  <a:pt x="21175" y="9624"/>
                  <a:pt x="21166" y="9600"/>
                  <a:pt x="21158" y="9575"/>
                </a:cubicBezTo>
              </a:path>
              <a:path w="125" h="3077">
                <a:moveTo>
                  <a:pt x="21158" y="9575"/>
                </a:moveTo>
                <a:lnTo>
                  <a:pt x="21158" y="9575"/>
                </a:lnTo>
              </a:path>
              <a:path w="125" h="3077">
                <a:moveTo>
                  <a:pt x="21158" y="9451"/>
                </a:moveTo>
                <a:cubicBezTo>
                  <a:pt x="21158" y="9426"/>
                  <a:pt x="21158" y="9418"/>
                  <a:pt x="21158" y="9401"/>
                </a:cubicBezTo>
              </a:path>
              <a:path w="125" h="3077">
                <a:moveTo>
                  <a:pt x="21158" y="9252"/>
                </a:moveTo>
                <a:cubicBezTo>
                  <a:pt x="21158" y="9217"/>
                  <a:pt x="21154" y="9200"/>
                  <a:pt x="21134" y="9178"/>
                </a:cubicBezTo>
              </a:path>
              <a:path w="125" h="3077">
                <a:moveTo>
                  <a:pt x="21134" y="9178"/>
                </a:moveTo>
                <a:lnTo>
                  <a:pt x="21134" y="9178"/>
                </a:lnTo>
              </a:path>
              <a:path w="125" h="3077">
                <a:moveTo>
                  <a:pt x="21134" y="8979"/>
                </a:moveTo>
                <a:cubicBezTo>
                  <a:pt x="21134" y="8971"/>
                  <a:pt x="21134" y="8962"/>
                  <a:pt x="21134" y="8954"/>
                </a:cubicBezTo>
              </a:path>
              <a:path w="125" h="3077">
                <a:moveTo>
                  <a:pt x="21134" y="8756"/>
                </a:moveTo>
                <a:cubicBezTo>
                  <a:pt x="21134" y="8706"/>
                  <a:pt x="21134" y="8673"/>
                  <a:pt x="21134" y="8632"/>
                </a:cubicBezTo>
              </a:path>
              <a:path w="125" h="3077">
                <a:moveTo>
                  <a:pt x="21134" y="8434"/>
                </a:moveTo>
                <a:lnTo>
                  <a:pt x="21134" y="8434"/>
                </a:lnTo>
                <a:lnTo>
                  <a:pt x="21134" y="8434"/>
                </a:lnTo>
              </a:path>
              <a:path w="125" h="3077">
                <a:moveTo>
                  <a:pt x="21134" y="8434"/>
                </a:moveTo>
                <a:lnTo>
                  <a:pt x="21134" y="8434"/>
                </a:lnTo>
              </a:path>
              <a:path w="125" h="3077">
                <a:moveTo>
                  <a:pt x="21134" y="8310"/>
                </a:moveTo>
                <a:cubicBezTo>
                  <a:pt x="21134" y="8302"/>
                  <a:pt x="21134" y="8293"/>
                  <a:pt x="21134" y="8285"/>
                </a:cubicBezTo>
              </a:path>
              <a:path w="125" h="3077">
                <a:moveTo>
                  <a:pt x="21109" y="8111"/>
                </a:moveTo>
                <a:cubicBezTo>
                  <a:pt x="21109" y="8095"/>
                  <a:pt x="21109" y="8078"/>
                  <a:pt x="21109" y="8062"/>
                </a:cubicBezTo>
              </a:path>
              <a:path w="125" h="3077">
                <a:moveTo>
                  <a:pt x="21109" y="8062"/>
                </a:moveTo>
                <a:lnTo>
                  <a:pt x="21109" y="8062"/>
                </a:lnTo>
              </a:path>
              <a:path w="125" h="3077">
                <a:moveTo>
                  <a:pt x="21134" y="7938"/>
                </a:moveTo>
                <a:cubicBezTo>
                  <a:pt x="21126" y="7938"/>
                  <a:pt x="21117" y="7938"/>
                  <a:pt x="21109" y="7938"/>
                </a:cubicBezTo>
              </a:path>
              <a:path w="125" h="3077">
                <a:moveTo>
                  <a:pt x="21134" y="7813"/>
                </a:moveTo>
                <a:cubicBezTo>
                  <a:pt x="21126" y="7780"/>
                  <a:pt x="21117" y="7747"/>
                  <a:pt x="21109" y="7714"/>
                </a:cubicBezTo>
              </a:path>
              <a:path w="125" h="3077">
                <a:moveTo>
                  <a:pt x="21109" y="7714"/>
                </a:moveTo>
                <a:lnTo>
                  <a:pt x="21109" y="7714"/>
                </a:lnTo>
              </a:path>
              <a:path w="125" h="3077">
                <a:moveTo>
                  <a:pt x="21084" y="7615"/>
                </a:moveTo>
                <a:cubicBezTo>
                  <a:pt x="21084" y="7598"/>
                  <a:pt x="21084" y="7582"/>
                  <a:pt x="21084" y="7565"/>
                </a:cubicBezTo>
              </a:path>
              <a:path w="125" h="3077">
                <a:moveTo>
                  <a:pt x="21084" y="7491"/>
                </a:moveTo>
                <a:cubicBezTo>
                  <a:pt x="21084" y="7483"/>
                  <a:pt x="21084" y="7474"/>
                  <a:pt x="21084" y="7466"/>
                </a:cubicBezTo>
              </a:path>
              <a:path w="125" h="3077">
                <a:moveTo>
                  <a:pt x="21084" y="7466"/>
                </a:moveTo>
                <a:lnTo>
                  <a:pt x="21084" y="7466"/>
                </a:lnTo>
              </a:path>
              <a:path w="125" h="3077">
                <a:moveTo>
                  <a:pt x="21059" y="7342"/>
                </a:moveTo>
                <a:lnTo>
                  <a:pt x="21059" y="734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7581960" y="2527200"/>
            <a:ext cx="7920" cy="27000"/>
          </a:xfrm>
          <a:custGeom>
            <a:avLst/>
            <a:gdLst/>
            <a:ahLst/>
            <a:rect l="l" t="t" r="r" b="b"/>
            <a:pathLst>
              <a:path w="26" h="75">
                <a:moveTo>
                  <a:pt x="21084" y="7094"/>
                </a:moveTo>
                <a:lnTo>
                  <a:pt x="21084" y="7094"/>
                </a:lnTo>
              </a:path>
              <a:path w="26" h="75">
                <a:moveTo>
                  <a:pt x="21059" y="7069"/>
                </a:moveTo>
                <a:lnTo>
                  <a:pt x="21059" y="7069"/>
                </a:lnTo>
                <a:lnTo>
                  <a:pt x="21059" y="7069"/>
                </a:lnTo>
              </a:path>
              <a:path w="26" h="75">
                <a:moveTo>
                  <a:pt x="21059" y="7020"/>
                </a:moveTo>
                <a:lnTo>
                  <a:pt x="21059" y="7020"/>
                </a:lnTo>
                <a:lnTo>
                  <a:pt x="21059" y="7020"/>
                </a:lnTo>
                <a:lnTo>
                  <a:pt x="21059" y="7020"/>
                </a:lnTo>
              </a:path>
              <a:path w="26" h="75">
                <a:moveTo>
                  <a:pt x="21059" y="7020"/>
                </a:moveTo>
                <a:lnTo>
                  <a:pt x="21059" y="7020"/>
                </a:ln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169" name=""/>
          <p:cNvSpPr/>
          <p:nvPr/>
        </p:nvSpPr>
        <p:spPr>
          <a:xfrm>
            <a:off x="7796160" y="2000160"/>
            <a:ext cx="884160" cy="598680"/>
          </a:xfrm>
          <a:custGeom>
            <a:avLst/>
            <a:gdLst/>
            <a:ahLst/>
            <a:rect l="l" t="t" r="r" b="b"/>
            <a:pathLst>
              <a:path w="2457" h="1663">
                <a:moveTo>
                  <a:pt x="21754" y="5755"/>
                </a:moveTo>
                <a:cubicBezTo>
                  <a:pt x="21820" y="5689"/>
                  <a:pt x="21706" y="6073"/>
                  <a:pt x="21704" y="6102"/>
                </a:cubicBezTo>
                <a:cubicBezTo>
                  <a:pt x="21703" y="6116"/>
                  <a:pt x="21679" y="6498"/>
                  <a:pt x="21679" y="6449"/>
                </a:cubicBezTo>
                <a:cubicBezTo>
                  <a:pt x="21656" y="6269"/>
                  <a:pt x="21643" y="6111"/>
                  <a:pt x="21679" y="5928"/>
                </a:cubicBezTo>
                <a:cubicBezTo>
                  <a:pt x="21710" y="5772"/>
                  <a:pt x="21769" y="5665"/>
                  <a:pt x="21878" y="5556"/>
                </a:cubicBezTo>
                <a:cubicBezTo>
                  <a:pt x="22040" y="5734"/>
                  <a:pt x="22023" y="5934"/>
                  <a:pt x="22027" y="6176"/>
                </a:cubicBezTo>
                <a:cubicBezTo>
                  <a:pt x="22028" y="6251"/>
                  <a:pt x="22027" y="6325"/>
                  <a:pt x="22027" y="6400"/>
                </a:cubicBezTo>
              </a:path>
              <a:path w="2457" h="1663">
                <a:moveTo>
                  <a:pt x="21679" y="6176"/>
                </a:moveTo>
                <a:cubicBezTo>
                  <a:pt x="21857" y="6122"/>
                  <a:pt x="22014" y="6086"/>
                  <a:pt x="22200" y="6077"/>
                </a:cubicBezTo>
              </a:path>
              <a:path w="2457" h="1663">
                <a:moveTo>
                  <a:pt x="22349" y="5978"/>
                </a:moveTo>
                <a:cubicBezTo>
                  <a:pt x="22451" y="5952"/>
                  <a:pt x="22515" y="5928"/>
                  <a:pt x="22622" y="5928"/>
                </a:cubicBezTo>
              </a:path>
              <a:path w="2457" h="1663">
                <a:moveTo>
                  <a:pt x="22349" y="6201"/>
                </a:moveTo>
                <a:cubicBezTo>
                  <a:pt x="22498" y="6186"/>
                  <a:pt x="22601" y="6153"/>
                  <a:pt x="22746" y="6102"/>
                </a:cubicBezTo>
              </a:path>
              <a:path w="2457" h="1663">
                <a:moveTo>
                  <a:pt x="22845" y="5655"/>
                </a:moveTo>
                <a:cubicBezTo>
                  <a:pt x="22886" y="5842"/>
                  <a:pt x="22917" y="6050"/>
                  <a:pt x="22994" y="6226"/>
                </a:cubicBezTo>
                <a:cubicBezTo>
                  <a:pt x="23002" y="6234"/>
                  <a:pt x="23011" y="6243"/>
                  <a:pt x="23019" y="6251"/>
                </a:cubicBezTo>
                <a:cubicBezTo>
                  <a:pt x="23019" y="6160"/>
                  <a:pt x="22999" y="6054"/>
                  <a:pt x="23068" y="5978"/>
                </a:cubicBezTo>
                <a:cubicBezTo>
                  <a:pt x="23161" y="5931"/>
                  <a:pt x="23188" y="5910"/>
                  <a:pt x="23242" y="5978"/>
                </a:cubicBezTo>
                <a:cubicBezTo>
                  <a:pt x="23278" y="6079"/>
                  <a:pt x="23313" y="6285"/>
                  <a:pt x="23143" y="6325"/>
                </a:cubicBezTo>
                <a:cubicBezTo>
                  <a:pt x="23079" y="6293"/>
                  <a:pt x="23059" y="6270"/>
                  <a:pt x="23068" y="6201"/>
                </a:cubicBezTo>
              </a:path>
              <a:path w="2457" h="1663">
                <a:moveTo>
                  <a:pt x="23490" y="5680"/>
                </a:moveTo>
                <a:cubicBezTo>
                  <a:pt x="23520" y="5845"/>
                  <a:pt x="23551" y="6044"/>
                  <a:pt x="23614" y="6201"/>
                </a:cubicBezTo>
                <a:cubicBezTo>
                  <a:pt x="23622" y="6209"/>
                  <a:pt x="23631" y="6218"/>
                  <a:pt x="23639" y="6226"/>
                </a:cubicBezTo>
                <a:cubicBezTo>
                  <a:pt x="23639" y="6146"/>
                  <a:pt x="23615" y="6062"/>
                  <a:pt x="23688" y="6003"/>
                </a:cubicBezTo>
                <a:cubicBezTo>
                  <a:pt x="23804" y="5909"/>
                  <a:pt x="23912" y="6110"/>
                  <a:pt x="23937" y="6176"/>
                </a:cubicBezTo>
                <a:cubicBezTo>
                  <a:pt x="23964" y="6247"/>
                  <a:pt x="23961" y="6303"/>
                  <a:pt x="23961" y="6375"/>
                </a:cubicBezTo>
              </a:path>
              <a:path w="2457" h="1663">
                <a:moveTo>
                  <a:pt x="23093" y="6697"/>
                </a:moveTo>
                <a:cubicBezTo>
                  <a:pt x="23374" y="6627"/>
                  <a:pt x="23670" y="6572"/>
                  <a:pt x="23961" y="6548"/>
                </a:cubicBezTo>
                <a:cubicBezTo>
                  <a:pt x="24055" y="6548"/>
                  <a:pt x="24076" y="6527"/>
                  <a:pt x="24110" y="6573"/>
                </a:cubicBezTo>
              </a:path>
              <a:path w="2457" h="1663">
                <a:moveTo>
                  <a:pt x="23540" y="6796"/>
                </a:moveTo>
                <a:cubicBezTo>
                  <a:pt x="23645" y="6772"/>
                  <a:pt x="23740" y="6756"/>
                  <a:pt x="23837" y="6796"/>
                </a:cubicBezTo>
                <a:cubicBezTo>
                  <a:pt x="23807" y="6957"/>
                  <a:pt x="23722" y="7060"/>
                  <a:pt x="23614" y="7193"/>
                </a:cubicBezTo>
                <a:cubicBezTo>
                  <a:pt x="23606" y="7201"/>
                  <a:pt x="23597" y="7210"/>
                  <a:pt x="23589" y="7218"/>
                </a:cubicBezTo>
                <a:cubicBezTo>
                  <a:pt x="23684" y="7218"/>
                  <a:pt x="23769" y="7165"/>
                  <a:pt x="23862" y="7144"/>
                </a:cubicBezTo>
                <a:cubicBezTo>
                  <a:pt x="23870" y="7144"/>
                  <a:pt x="23879" y="7144"/>
                  <a:pt x="23887" y="714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7724880" y="2901960"/>
            <a:ext cx="160200" cy="250920"/>
          </a:xfrm>
          <a:custGeom>
            <a:avLst/>
            <a:gdLst/>
            <a:ahLst/>
            <a:rect l="l" t="t" r="r" b="b"/>
            <a:pathLst>
              <a:path w="448" h="695">
                <a:moveTo>
                  <a:pt x="21506" y="8210"/>
                </a:moveTo>
                <a:cubicBezTo>
                  <a:pt x="21506" y="8389"/>
                  <a:pt x="21505" y="8555"/>
                  <a:pt x="21481" y="8731"/>
                </a:cubicBezTo>
                <a:cubicBezTo>
                  <a:pt x="21408" y="8779"/>
                  <a:pt x="21502" y="8436"/>
                  <a:pt x="21506" y="8409"/>
                </a:cubicBezTo>
                <a:cubicBezTo>
                  <a:pt x="21528" y="8260"/>
                  <a:pt x="21575" y="8186"/>
                  <a:pt x="21654" y="8062"/>
                </a:cubicBezTo>
                <a:cubicBezTo>
                  <a:pt x="21814" y="8101"/>
                  <a:pt x="21839" y="8280"/>
                  <a:pt x="21853" y="8434"/>
                </a:cubicBezTo>
                <a:cubicBezTo>
                  <a:pt x="21863" y="8541"/>
                  <a:pt x="21853" y="8813"/>
                  <a:pt x="21853" y="8706"/>
                </a:cubicBezTo>
              </a:path>
              <a:path w="448" h="695">
                <a:moveTo>
                  <a:pt x="21481" y="8558"/>
                </a:moveTo>
                <a:cubicBezTo>
                  <a:pt x="21621" y="8520"/>
                  <a:pt x="21759" y="8493"/>
                  <a:pt x="21903" y="84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8018640" y="2928960"/>
            <a:ext cx="384120" cy="196920"/>
          </a:xfrm>
          <a:custGeom>
            <a:avLst/>
            <a:gdLst/>
            <a:ahLst/>
            <a:rect l="l" t="t" r="r" b="b"/>
            <a:pathLst>
              <a:path w="1067" h="547">
                <a:moveTo>
                  <a:pt x="22275" y="8409"/>
                </a:moveTo>
                <a:cubicBezTo>
                  <a:pt x="22377" y="8379"/>
                  <a:pt x="22502" y="8331"/>
                  <a:pt x="22572" y="8384"/>
                </a:cubicBezTo>
              </a:path>
              <a:path w="1067" h="547">
                <a:moveTo>
                  <a:pt x="22423" y="8558"/>
                </a:moveTo>
                <a:cubicBezTo>
                  <a:pt x="22539" y="8535"/>
                  <a:pt x="22573" y="8528"/>
                  <a:pt x="22647" y="8508"/>
                </a:cubicBezTo>
              </a:path>
              <a:path w="1067" h="547">
                <a:moveTo>
                  <a:pt x="22647" y="8508"/>
                </a:moveTo>
                <a:lnTo>
                  <a:pt x="22647" y="8508"/>
                </a:lnTo>
              </a:path>
              <a:path w="1067" h="547">
                <a:moveTo>
                  <a:pt x="22746" y="8161"/>
                </a:moveTo>
                <a:cubicBezTo>
                  <a:pt x="22738" y="8153"/>
                  <a:pt x="22729" y="8144"/>
                  <a:pt x="22721" y="8136"/>
                </a:cubicBezTo>
                <a:cubicBezTo>
                  <a:pt x="22750" y="8252"/>
                  <a:pt x="22756" y="8381"/>
                  <a:pt x="22771" y="8508"/>
                </a:cubicBezTo>
                <a:cubicBezTo>
                  <a:pt x="22780" y="8585"/>
                  <a:pt x="22796" y="8616"/>
                  <a:pt x="22796" y="8682"/>
                </a:cubicBezTo>
              </a:path>
              <a:path w="1067" h="547">
                <a:moveTo>
                  <a:pt x="22920" y="8260"/>
                </a:moveTo>
                <a:cubicBezTo>
                  <a:pt x="22986" y="8192"/>
                  <a:pt x="23030" y="8193"/>
                  <a:pt x="23118" y="8210"/>
                </a:cubicBezTo>
                <a:cubicBezTo>
                  <a:pt x="23146" y="8364"/>
                  <a:pt x="23098" y="8441"/>
                  <a:pt x="22994" y="8558"/>
                </a:cubicBezTo>
                <a:cubicBezTo>
                  <a:pt x="22986" y="8566"/>
                  <a:pt x="22977" y="8574"/>
                  <a:pt x="22969" y="8582"/>
                </a:cubicBezTo>
                <a:cubicBezTo>
                  <a:pt x="23066" y="8606"/>
                  <a:pt x="23154" y="8552"/>
                  <a:pt x="23267" y="8533"/>
                </a:cubicBezTo>
                <a:cubicBezTo>
                  <a:pt x="23308" y="8533"/>
                  <a:pt x="23316" y="8533"/>
                  <a:pt x="23341" y="853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8242200" y="2813040"/>
            <a:ext cx="509760" cy="669960"/>
          </a:xfrm>
          <a:custGeom>
            <a:avLst/>
            <a:gdLst/>
            <a:ahLst/>
            <a:rect l="l" t="t" r="r" b="b"/>
            <a:pathLst>
              <a:path w="1415" h="1862">
                <a:moveTo>
                  <a:pt x="23515" y="7863"/>
                </a:moveTo>
                <a:cubicBezTo>
                  <a:pt x="23485" y="7982"/>
                  <a:pt x="23438" y="8125"/>
                  <a:pt x="23440" y="8260"/>
                </a:cubicBezTo>
                <a:cubicBezTo>
                  <a:pt x="23443" y="8438"/>
                  <a:pt x="23506" y="8629"/>
                  <a:pt x="23664" y="8731"/>
                </a:cubicBezTo>
                <a:cubicBezTo>
                  <a:pt x="23672" y="8731"/>
                  <a:pt x="23680" y="8731"/>
                  <a:pt x="23688" y="8731"/>
                </a:cubicBezTo>
              </a:path>
              <a:path w="1415" h="1862">
                <a:moveTo>
                  <a:pt x="23937" y="8086"/>
                </a:moveTo>
                <a:cubicBezTo>
                  <a:pt x="23919" y="7978"/>
                  <a:pt x="23827" y="8071"/>
                  <a:pt x="23738" y="8086"/>
                </a:cubicBezTo>
                <a:cubicBezTo>
                  <a:pt x="23697" y="8093"/>
                  <a:pt x="23641" y="8092"/>
                  <a:pt x="23639" y="8136"/>
                </a:cubicBezTo>
                <a:cubicBezTo>
                  <a:pt x="23639" y="8221"/>
                  <a:pt x="23633" y="8241"/>
                  <a:pt x="23664" y="8285"/>
                </a:cubicBezTo>
                <a:cubicBezTo>
                  <a:pt x="23729" y="8274"/>
                  <a:pt x="23852" y="8222"/>
                  <a:pt x="23912" y="8285"/>
                </a:cubicBezTo>
                <a:cubicBezTo>
                  <a:pt x="24022" y="8400"/>
                  <a:pt x="23843" y="8491"/>
                  <a:pt x="23763" y="8508"/>
                </a:cubicBezTo>
                <a:cubicBezTo>
                  <a:pt x="23721" y="8508"/>
                  <a:pt x="23705" y="8516"/>
                  <a:pt x="23713" y="8483"/>
                </a:cubicBezTo>
              </a:path>
              <a:path w="1415" h="1862">
                <a:moveTo>
                  <a:pt x="23961" y="7813"/>
                </a:moveTo>
                <a:cubicBezTo>
                  <a:pt x="24062" y="7838"/>
                  <a:pt x="24140" y="7943"/>
                  <a:pt x="24185" y="8037"/>
                </a:cubicBezTo>
                <a:cubicBezTo>
                  <a:pt x="24274" y="8223"/>
                  <a:pt x="24248" y="8394"/>
                  <a:pt x="24135" y="8558"/>
                </a:cubicBezTo>
                <a:cubicBezTo>
                  <a:pt x="24105" y="8587"/>
                  <a:pt x="24091" y="8598"/>
                  <a:pt x="24061" y="8607"/>
                </a:cubicBezTo>
              </a:path>
              <a:path w="1415" h="1862">
                <a:moveTo>
                  <a:pt x="22920" y="9004"/>
                </a:moveTo>
                <a:cubicBezTo>
                  <a:pt x="22951" y="8978"/>
                  <a:pt x="23199" y="8923"/>
                  <a:pt x="23316" y="8905"/>
                </a:cubicBezTo>
                <a:cubicBezTo>
                  <a:pt x="23626" y="8856"/>
                  <a:pt x="23965" y="8835"/>
                  <a:pt x="24259" y="8731"/>
                </a:cubicBezTo>
                <a:cubicBezTo>
                  <a:pt x="24287" y="8731"/>
                  <a:pt x="24298" y="8729"/>
                  <a:pt x="24309" y="8706"/>
                </a:cubicBezTo>
              </a:path>
              <a:path w="1415" h="1862">
                <a:moveTo>
                  <a:pt x="23713" y="9054"/>
                </a:moveTo>
                <a:cubicBezTo>
                  <a:pt x="23713" y="9079"/>
                  <a:pt x="23713" y="9087"/>
                  <a:pt x="23688" y="9079"/>
                </a:cubicBezTo>
                <a:cubicBezTo>
                  <a:pt x="23741" y="9066"/>
                  <a:pt x="23774" y="9054"/>
                  <a:pt x="23837" y="9054"/>
                </a:cubicBezTo>
                <a:cubicBezTo>
                  <a:pt x="23930" y="9054"/>
                  <a:pt x="23918" y="9197"/>
                  <a:pt x="23887" y="9252"/>
                </a:cubicBezTo>
                <a:cubicBezTo>
                  <a:pt x="23830" y="9352"/>
                  <a:pt x="23723" y="9424"/>
                  <a:pt x="23664" y="9525"/>
                </a:cubicBezTo>
                <a:cubicBezTo>
                  <a:pt x="23616" y="9608"/>
                  <a:pt x="23601" y="9592"/>
                  <a:pt x="23589" y="9674"/>
                </a:cubicBezTo>
                <a:cubicBezTo>
                  <a:pt x="23612" y="9616"/>
                  <a:pt x="23673" y="9560"/>
                  <a:pt x="23713" y="9525"/>
                </a:cubicBezTo>
                <a:cubicBezTo>
                  <a:pt x="23815" y="9437"/>
                  <a:pt x="23790" y="9509"/>
                  <a:pt x="23912" y="9500"/>
                </a:cubicBezTo>
                <a:cubicBezTo>
                  <a:pt x="23979" y="9477"/>
                  <a:pt x="23997" y="9472"/>
                  <a:pt x="24036" y="945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7769160" y="3732120"/>
            <a:ext cx="704880" cy="438120"/>
          </a:xfrm>
          <a:custGeom>
            <a:avLst/>
            <a:gdLst/>
            <a:ahLst/>
            <a:rect l="l" t="t" r="r" b="b"/>
            <a:pathLst>
              <a:path w="1961" h="1217">
                <a:moveTo>
                  <a:pt x="21654" y="10790"/>
                </a:moveTo>
                <a:cubicBezTo>
                  <a:pt x="21654" y="10935"/>
                  <a:pt x="21614" y="11048"/>
                  <a:pt x="21580" y="11187"/>
                </a:cubicBezTo>
                <a:cubicBezTo>
                  <a:pt x="21580" y="11195"/>
                  <a:pt x="21580" y="11204"/>
                  <a:pt x="21580" y="11212"/>
                </a:cubicBezTo>
                <a:cubicBezTo>
                  <a:pt x="21591" y="11003"/>
                  <a:pt x="21611" y="10820"/>
                  <a:pt x="21729" y="10641"/>
                </a:cubicBezTo>
                <a:cubicBezTo>
                  <a:pt x="21774" y="10597"/>
                  <a:pt x="21784" y="10581"/>
                  <a:pt x="21828" y="10592"/>
                </a:cubicBezTo>
                <a:cubicBezTo>
                  <a:pt x="21907" y="10749"/>
                  <a:pt x="21976" y="10928"/>
                  <a:pt x="21952" y="11112"/>
                </a:cubicBezTo>
                <a:cubicBezTo>
                  <a:pt x="21928" y="11160"/>
                  <a:pt x="21920" y="11175"/>
                  <a:pt x="21927" y="11212"/>
                </a:cubicBezTo>
              </a:path>
              <a:path w="1961" h="1217">
                <a:moveTo>
                  <a:pt x="21630" y="10988"/>
                </a:moveTo>
                <a:cubicBezTo>
                  <a:pt x="21748" y="10959"/>
                  <a:pt x="21858" y="10896"/>
                  <a:pt x="21977" y="10864"/>
                </a:cubicBezTo>
                <a:cubicBezTo>
                  <a:pt x="21985" y="10864"/>
                  <a:pt x="21994" y="10864"/>
                  <a:pt x="22002" y="10864"/>
                </a:cubicBezTo>
              </a:path>
              <a:path w="1961" h="1217">
                <a:moveTo>
                  <a:pt x="22200" y="10765"/>
                </a:moveTo>
                <a:cubicBezTo>
                  <a:pt x="22296" y="10735"/>
                  <a:pt x="22377" y="10706"/>
                  <a:pt x="22473" y="10691"/>
                </a:cubicBezTo>
              </a:path>
              <a:path w="1961" h="1217">
                <a:moveTo>
                  <a:pt x="22250" y="10939"/>
                </a:moveTo>
                <a:cubicBezTo>
                  <a:pt x="22348" y="10930"/>
                  <a:pt x="22465" y="10925"/>
                  <a:pt x="22547" y="10889"/>
                </a:cubicBezTo>
              </a:path>
              <a:path w="1961" h="1217">
                <a:moveTo>
                  <a:pt x="22845" y="10418"/>
                </a:moveTo>
                <a:cubicBezTo>
                  <a:pt x="22845" y="10410"/>
                  <a:pt x="22845" y="10401"/>
                  <a:pt x="22845" y="10393"/>
                </a:cubicBezTo>
                <a:cubicBezTo>
                  <a:pt x="22845" y="10326"/>
                  <a:pt x="22833" y="10476"/>
                  <a:pt x="22820" y="10542"/>
                </a:cubicBezTo>
                <a:cubicBezTo>
                  <a:pt x="22802" y="10638"/>
                  <a:pt x="22741" y="10845"/>
                  <a:pt x="22870" y="10864"/>
                </a:cubicBezTo>
                <a:cubicBezTo>
                  <a:pt x="23008" y="10884"/>
                  <a:pt x="23045" y="10834"/>
                  <a:pt x="23118" y="10740"/>
                </a:cubicBezTo>
                <a:cubicBezTo>
                  <a:pt x="23143" y="10716"/>
                  <a:pt x="23151" y="10708"/>
                  <a:pt x="23118" y="10691"/>
                </a:cubicBezTo>
                <a:cubicBezTo>
                  <a:pt x="23006" y="10719"/>
                  <a:pt x="22927" y="10808"/>
                  <a:pt x="22944" y="10939"/>
                </a:cubicBezTo>
                <a:cubicBezTo>
                  <a:pt x="22952" y="10939"/>
                  <a:pt x="22961" y="10939"/>
                  <a:pt x="22969" y="10939"/>
                </a:cubicBezTo>
              </a:path>
              <a:path w="1961" h="1217">
                <a:moveTo>
                  <a:pt x="23316" y="10393"/>
                </a:moveTo>
                <a:cubicBezTo>
                  <a:pt x="23194" y="10557"/>
                  <a:pt x="23168" y="10630"/>
                  <a:pt x="23242" y="10815"/>
                </a:cubicBezTo>
                <a:cubicBezTo>
                  <a:pt x="23388" y="10793"/>
                  <a:pt x="23692" y="10684"/>
                  <a:pt x="23490" y="10468"/>
                </a:cubicBezTo>
                <a:cubicBezTo>
                  <a:pt x="23366" y="10418"/>
                  <a:pt x="23325" y="10401"/>
                  <a:pt x="23242" y="10468"/>
                </a:cubicBezTo>
              </a:path>
              <a:path w="1961" h="1217">
                <a:moveTo>
                  <a:pt x="22796" y="11162"/>
                </a:moveTo>
                <a:cubicBezTo>
                  <a:pt x="23014" y="11062"/>
                  <a:pt x="23224" y="11005"/>
                  <a:pt x="23465" y="10988"/>
                </a:cubicBezTo>
                <a:cubicBezTo>
                  <a:pt x="23490" y="10988"/>
                  <a:pt x="23498" y="10988"/>
                  <a:pt x="23515" y="10988"/>
                </a:cubicBezTo>
              </a:path>
              <a:path w="1961" h="1217">
                <a:moveTo>
                  <a:pt x="23093" y="11212"/>
                </a:moveTo>
                <a:cubicBezTo>
                  <a:pt x="23170" y="11204"/>
                  <a:pt x="23221" y="11198"/>
                  <a:pt x="23292" y="11212"/>
                </a:cubicBezTo>
                <a:cubicBezTo>
                  <a:pt x="23279" y="11344"/>
                  <a:pt x="23229" y="11431"/>
                  <a:pt x="23143" y="11534"/>
                </a:cubicBezTo>
                <a:cubicBezTo>
                  <a:pt x="23126" y="11551"/>
                  <a:pt x="23110" y="11567"/>
                  <a:pt x="23093" y="11584"/>
                </a:cubicBezTo>
                <a:cubicBezTo>
                  <a:pt x="23185" y="11564"/>
                  <a:pt x="23270" y="11510"/>
                  <a:pt x="23366" y="11485"/>
                </a:cubicBezTo>
                <a:cubicBezTo>
                  <a:pt x="23374" y="11485"/>
                  <a:pt x="23383" y="11485"/>
                  <a:pt x="23391" y="1148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7554960" y="4106880"/>
            <a:ext cx="1473120" cy="696960"/>
          </a:xfrm>
          <a:custGeom>
            <a:avLst/>
            <a:gdLst/>
            <a:ahLst/>
            <a:rect l="l" t="t" r="r" b="b"/>
            <a:pathLst>
              <a:path w="4094" h="1936">
                <a:moveTo>
                  <a:pt x="21654" y="12229"/>
                </a:moveTo>
                <a:cubicBezTo>
                  <a:pt x="21617" y="12379"/>
                  <a:pt x="21564" y="12530"/>
                  <a:pt x="21506" y="12675"/>
                </a:cubicBezTo>
                <a:cubicBezTo>
                  <a:pt x="21506" y="12705"/>
                  <a:pt x="21617" y="12329"/>
                  <a:pt x="21630" y="12303"/>
                </a:cubicBezTo>
                <a:cubicBezTo>
                  <a:pt x="21684" y="12194"/>
                  <a:pt x="21734" y="12115"/>
                  <a:pt x="21828" y="12080"/>
                </a:cubicBezTo>
                <a:cubicBezTo>
                  <a:pt x="21964" y="12225"/>
                  <a:pt x="22043" y="12365"/>
                  <a:pt x="22002" y="12576"/>
                </a:cubicBezTo>
                <a:cubicBezTo>
                  <a:pt x="21994" y="12593"/>
                  <a:pt x="21985" y="12609"/>
                  <a:pt x="21977" y="12626"/>
                </a:cubicBezTo>
              </a:path>
              <a:path w="4094" h="1936">
                <a:moveTo>
                  <a:pt x="21605" y="12477"/>
                </a:moveTo>
                <a:cubicBezTo>
                  <a:pt x="21778" y="12422"/>
                  <a:pt x="21953" y="12381"/>
                  <a:pt x="22126" y="12328"/>
                </a:cubicBezTo>
              </a:path>
              <a:path w="4094" h="1936">
                <a:moveTo>
                  <a:pt x="22324" y="12303"/>
                </a:moveTo>
                <a:cubicBezTo>
                  <a:pt x="22418" y="12280"/>
                  <a:pt x="22501" y="12261"/>
                  <a:pt x="22597" y="12254"/>
                </a:cubicBezTo>
              </a:path>
              <a:path w="4094" h="1936">
                <a:moveTo>
                  <a:pt x="22374" y="12427"/>
                </a:moveTo>
                <a:cubicBezTo>
                  <a:pt x="22504" y="12401"/>
                  <a:pt x="22550" y="12389"/>
                  <a:pt x="22622" y="12328"/>
                </a:cubicBezTo>
              </a:path>
              <a:path w="4094" h="1936">
                <a:moveTo>
                  <a:pt x="22969" y="12154"/>
                </a:moveTo>
                <a:cubicBezTo>
                  <a:pt x="23008" y="12154"/>
                  <a:pt x="23174" y="12142"/>
                  <a:pt x="23143" y="12229"/>
                </a:cubicBezTo>
                <a:cubicBezTo>
                  <a:pt x="23122" y="12288"/>
                  <a:pt x="23062" y="12335"/>
                  <a:pt x="23019" y="12378"/>
                </a:cubicBezTo>
                <a:cubicBezTo>
                  <a:pt x="23076" y="12301"/>
                  <a:pt x="23227" y="12347"/>
                  <a:pt x="23192" y="12477"/>
                </a:cubicBezTo>
                <a:cubicBezTo>
                  <a:pt x="23158" y="12607"/>
                  <a:pt x="22882" y="12742"/>
                  <a:pt x="22771" y="12650"/>
                </a:cubicBezTo>
                <a:cubicBezTo>
                  <a:pt x="22771" y="12625"/>
                  <a:pt x="22771" y="12601"/>
                  <a:pt x="22771" y="12576"/>
                </a:cubicBezTo>
              </a:path>
              <a:path w="4094" h="1936">
                <a:moveTo>
                  <a:pt x="23440" y="12179"/>
                </a:moveTo>
                <a:cubicBezTo>
                  <a:pt x="23344" y="12314"/>
                  <a:pt x="23317" y="12409"/>
                  <a:pt x="23341" y="12576"/>
                </a:cubicBezTo>
                <a:cubicBezTo>
                  <a:pt x="23482" y="12598"/>
                  <a:pt x="23672" y="12558"/>
                  <a:pt x="23614" y="12353"/>
                </a:cubicBezTo>
                <a:cubicBezTo>
                  <a:pt x="23575" y="12214"/>
                  <a:pt x="23449" y="12199"/>
                  <a:pt x="23341" y="12179"/>
                </a:cubicBezTo>
              </a:path>
              <a:path w="4094" h="1936">
                <a:moveTo>
                  <a:pt x="24085" y="12477"/>
                </a:moveTo>
                <a:cubicBezTo>
                  <a:pt x="24077" y="12460"/>
                  <a:pt x="24069" y="12444"/>
                  <a:pt x="24061" y="12427"/>
                </a:cubicBezTo>
                <a:cubicBezTo>
                  <a:pt x="24061" y="12471"/>
                  <a:pt x="24068" y="12692"/>
                  <a:pt x="24036" y="12626"/>
                </a:cubicBezTo>
                <a:cubicBezTo>
                  <a:pt x="24019" y="12585"/>
                  <a:pt x="24003" y="12543"/>
                  <a:pt x="23986" y="12502"/>
                </a:cubicBezTo>
              </a:path>
              <a:path w="4094" h="1936">
                <a:moveTo>
                  <a:pt x="24011" y="12254"/>
                </a:moveTo>
                <a:cubicBezTo>
                  <a:pt x="24036" y="12254"/>
                  <a:pt x="24060" y="12254"/>
                  <a:pt x="24085" y="12254"/>
                </a:cubicBezTo>
              </a:path>
              <a:path w="4094" h="1936">
                <a:moveTo>
                  <a:pt x="24085" y="12254"/>
                </a:moveTo>
                <a:lnTo>
                  <a:pt x="24085" y="12254"/>
                </a:lnTo>
              </a:path>
              <a:path w="4094" h="1936">
                <a:moveTo>
                  <a:pt x="24309" y="12477"/>
                </a:moveTo>
                <a:cubicBezTo>
                  <a:pt x="24331" y="12500"/>
                  <a:pt x="24336" y="12508"/>
                  <a:pt x="24358" y="12502"/>
                </a:cubicBezTo>
                <a:cubicBezTo>
                  <a:pt x="24342" y="12455"/>
                  <a:pt x="24303" y="12315"/>
                  <a:pt x="24358" y="12278"/>
                </a:cubicBezTo>
                <a:cubicBezTo>
                  <a:pt x="24487" y="12191"/>
                  <a:pt x="24533" y="12324"/>
                  <a:pt x="24581" y="12402"/>
                </a:cubicBezTo>
                <a:cubicBezTo>
                  <a:pt x="24589" y="12410"/>
                  <a:pt x="24598" y="12419"/>
                  <a:pt x="24606" y="12427"/>
                </a:cubicBezTo>
              </a:path>
              <a:path w="4094" h="1936">
                <a:moveTo>
                  <a:pt x="24631" y="11857"/>
                </a:moveTo>
                <a:cubicBezTo>
                  <a:pt x="24682" y="11838"/>
                  <a:pt x="24701" y="11832"/>
                  <a:pt x="24755" y="11832"/>
                </a:cubicBezTo>
                <a:cubicBezTo>
                  <a:pt x="24741" y="11914"/>
                  <a:pt x="24723" y="11954"/>
                  <a:pt x="24681" y="12030"/>
                </a:cubicBezTo>
                <a:cubicBezTo>
                  <a:pt x="24755" y="12030"/>
                  <a:pt x="24830" y="12030"/>
                  <a:pt x="24904" y="12030"/>
                </a:cubicBezTo>
              </a:path>
              <a:path w="4094" h="1936">
                <a:moveTo>
                  <a:pt x="21282" y="13320"/>
                </a:moveTo>
                <a:cubicBezTo>
                  <a:pt x="21414" y="13285"/>
                  <a:pt x="21495" y="13266"/>
                  <a:pt x="21630" y="13246"/>
                </a:cubicBezTo>
                <a:cubicBezTo>
                  <a:pt x="22148" y="13169"/>
                  <a:pt x="22672" y="13155"/>
                  <a:pt x="23192" y="13097"/>
                </a:cubicBezTo>
                <a:cubicBezTo>
                  <a:pt x="23494" y="13063"/>
                  <a:pt x="23789" y="12994"/>
                  <a:pt x="24085" y="12948"/>
                </a:cubicBezTo>
                <a:cubicBezTo>
                  <a:pt x="24224" y="12926"/>
                  <a:pt x="24367" y="12916"/>
                  <a:pt x="24507" y="12898"/>
                </a:cubicBezTo>
                <a:cubicBezTo>
                  <a:pt x="24665" y="12877"/>
                  <a:pt x="24824" y="12883"/>
                  <a:pt x="24978" y="12849"/>
                </a:cubicBezTo>
                <a:cubicBezTo>
                  <a:pt x="25106" y="12820"/>
                  <a:pt x="25049" y="12855"/>
                  <a:pt x="25078" y="12750"/>
                </a:cubicBezTo>
                <a:cubicBezTo>
                  <a:pt x="25140" y="12524"/>
                  <a:pt x="25072" y="12210"/>
                  <a:pt x="25053" y="11981"/>
                </a:cubicBezTo>
                <a:cubicBezTo>
                  <a:pt x="25038" y="11798"/>
                  <a:pt x="25048" y="11615"/>
                  <a:pt x="25028" y="11435"/>
                </a:cubicBezTo>
                <a:cubicBezTo>
                  <a:pt x="25028" y="11427"/>
                  <a:pt x="25028" y="11418"/>
                  <a:pt x="25028" y="11410"/>
                </a:cubicBezTo>
                <a:cubicBezTo>
                  <a:pt x="24958" y="11443"/>
                  <a:pt x="24879" y="11477"/>
                  <a:pt x="24805" y="11509"/>
                </a:cubicBezTo>
                <a:cubicBezTo>
                  <a:pt x="24624" y="11588"/>
                  <a:pt x="24451" y="11581"/>
                  <a:pt x="24259" y="11609"/>
                </a:cubicBezTo>
                <a:cubicBezTo>
                  <a:pt x="24092" y="11633"/>
                  <a:pt x="23909" y="11693"/>
                  <a:pt x="23738" y="11658"/>
                </a:cubicBezTo>
                <a:cubicBezTo>
                  <a:pt x="23544" y="11618"/>
                  <a:pt x="23372" y="11568"/>
                  <a:pt x="23168" y="11559"/>
                </a:cubicBezTo>
                <a:cubicBezTo>
                  <a:pt x="22931" y="11548"/>
                  <a:pt x="22709" y="11555"/>
                  <a:pt x="22473" y="11559"/>
                </a:cubicBezTo>
                <a:cubicBezTo>
                  <a:pt x="22267" y="11562"/>
                  <a:pt x="22056" y="11584"/>
                  <a:pt x="21853" y="11609"/>
                </a:cubicBezTo>
                <a:cubicBezTo>
                  <a:pt x="21701" y="11627"/>
                  <a:pt x="21543" y="11692"/>
                  <a:pt x="21406" y="11757"/>
                </a:cubicBezTo>
                <a:cubicBezTo>
                  <a:pt x="21298" y="11808"/>
                  <a:pt x="21163" y="11900"/>
                  <a:pt x="21059" y="11931"/>
                </a:cubicBezTo>
                <a:cubicBezTo>
                  <a:pt x="21018" y="11931"/>
                  <a:pt x="21010" y="11931"/>
                  <a:pt x="20985" y="11931"/>
                </a:cubicBezTo>
                <a:cubicBezTo>
                  <a:pt x="21046" y="12115"/>
                  <a:pt x="21112" y="12315"/>
                  <a:pt x="21183" y="12502"/>
                </a:cubicBezTo>
                <a:cubicBezTo>
                  <a:pt x="21216" y="12589"/>
                  <a:pt x="21270" y="12714"/>
                  <a:pt x="21282" y="12799"/>
                </a:cubicBezTo>
                <a:cubicBezTo>
                  <a:pt x="21292" y="12867"/>
                  <a:pt x="21258" y="12951"/>
                  <a:pt x="21258" y="13022"/>
                </a:cubicBezTo>
                <a:cubicBezTo>
                  <a:pt x="21258" y="13027"/>
                  <a:pt x="21274" y="13074"/>
                  <a:pt x="21258" y="13122"/>
                </a:cubicBezTo>
                <a:cubicBezTo>
                  <a:pt x="21233" y="13200"/>
                  <a:pt x="21218" y="13260"/>
                  <a:pt x="21208" y="1334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2670120" y="4983120"/>
            <a:ext cx="1800" cy="1800"/>
          </a:xfrm>
          <a:custGeom>
            <a:avLst/>
            <a:gdLst/>
            <a:ahLst/>
            <a:rect l="l" t="t" r="r" b="b"/>
            <a:pathLst>
              <a:path w="1" h="1">
                <a:moveTo>
                  <a:pt x="7417" y="13841"/>
                </a:moveTo>
                <a:lnTo>
                  <a:pt x="7417" y="13841"/>
                </a:lnTo>
                <a:lnTo>
                  <a:pt x="7417" y="13841"/>
                </a:lnTo>
              </a:path>
              <a:path w="1" h="1">
                <a:moveTo>
                  <a:pt x="7417" y="13841"/>
                </a:moveTo>
                <a:lnTo>
                  <a:pt x="7417" y="13841"/>
                </a:lnTo>
              </a:path>
              <a:path w="1" h="1">
                <a:moveTo>
                  <a:pt x="7417" y="13841"/>
                </a:moveTo>
                <a:lnTo>
                  <a:pt x="7417" y="13841"/>
                </a:ln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76" name=""/>
          <p:cNvSpPr/>
          <p:nvPr/>
        </p:nvSpPr>
        <p:spPr>
          <a:xfrm>
            <a:off x="2776680" y="4929120"/>
            <a:ext cx="117360" cy="19080"/>
          </a:xfrm>
          <a:custGeom>
            <a:avLst/>
            <a:gdLst/>
            <a:ahLst/>
            <a:rect l="l" t="t" r="r" b="b"/>
            <a:pathLst>
              <a:path w="324" h="51">
                <a:moveTo>
                  <a:pt x="8037" y="13692"/>
                </a:moveTo>
                <a:cubicBezTo>
                  <a:pt x="8029" y="13692"/>
                  <a:pt x="8020" y="13692"/>
                  <a:pt x="8012" y="13692"/>
                </a:cubicBezTo>
              </a:path>
              <a:path w="324" h="51">
                <a:moveTo>
                  <a:pt x="7863" y="13717"/>
                </a:moveTo>
                <a:lnTo>
                  <a:pt x="7863" y="13717"/>
                </a:lnTo>
                <a:lnTo>
                  <a:pt x="7863" y="13717"/>
                </a:lnTo>
              </a:path>
              <a:path w="324" h="51">
                <a:moveTo>
                  <a:pt x="7739" y="13742"/>
                </a:moveTo>
                <a:cubicBezTo>
                  <a:pt x="7731" y="13742"/>
                  <a:pt x="7722" y="13742"/>
                  <a:pt x="7714" y="13742"/>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77" name=""/>
          <p:cNvSpPr/>
          <p:nvPr/>
        </p:nvSpPr>
        <p:spPr>
          <a:xfrm>
            <a:off x="3036960" y="4902120"/>
            <a:ext cx="106200" cy="1800"/>
          </a:xfrm>
          <a:custGeom>
            <a:avLst/>
            <a:gdLst/>
            <a:ahLst/>
            <a:rect l="l" t="t" r="r" b="b"/>
            <a:pathLst>
              <a:path w="298" h="1">
                <a:moveTo>
                  <a:pt x="8731" y="13618"/>
                </a:moveTo>
                <a:cubicBezTo>
                  <a:pt x="8723" y="13618"/>
                  <a:pt x="8714" y="13618"/>
                  <a:pt x="8706" y="13618"/>
                </a:cubicBezTo>
              </a:path>
              <a:path w="298" h="1">
                <a:moveTo>
                  <a:pt x="8483" y="13618"/>
                </a:moveTo>
                <a:cubicBezTo>
                  <a:pt x="8467" y="13618"/>
                  <a:pt x="8450" y="13618"/>
                  <a:pt x="8434" y="13618"/>
                </a:cubicBez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78" name=""/>
          <p:cNvSpPr/>
          <p:nvPr/>
        </p:nvSpPr>
        <p:spPr>
          <a:xfrm>
            <a:off x="3259080" y="4919760"/>
            <a:ext cx="206280" cy="46080"/>
          </a:xfrm>
          <a:custGeom>
            <a:avLst/>
            <a:gdLst/>
            <a:ahLst/>
            <a:rect l="l" t="t" r="r" b="b"/>
            <a:pathLst>
              <a:path w="571" h="125">
                <a:moveTo>
                  <a:pt x="9624" y="13791"/>
                </a:moveTo>
                <a:cubicBezTo>
                  <a:pt x="9616" y="13791"/>
                  <a:pt x="9607" y="13791"/>
                  <a:pt x="9599" y="13791"/>
                </a:cubicBezTo>
              </a:path>
              <a:path w="571" h="125">
                <a:moveTo>
                  <a:pt x="9500" y="13742"/>
                </a:moveTo>
                <a:lnTo>
                  <a:pt x="9500" y="13742"/>
                </a:lnTo>
              </a:path>
              <a:path w="571" h="125">
                <a:moveTo>
                  <a:pt x="9277" y="13692"/>
                </a:moveTo>
                <a:cubicBezTo>
                  <a:pt x="9269" y="13692"/>
                  <a:pt x="9260" y="13692"/>
                  <a:pt x="9252" y="13692"/>
                </a:cubicBezTo>
              </a:path>
              <a:path w="571" h="125">
                <a:moveTo>
                  <a:pt x="9252" y="13692"/>
                </a:moveTo>
                <a:lnTo>
                  <a:pt x="9252" y="13692"/>
                </a:lnTo>
              </a:path>
              <a:path w="571" h="125">
                <a:moveTo>
                  <a:pt x="9079" y="13692"/>
                </a:moveTo>
                <a:cubicBezTo>
                  <a:pt x="9071" y="13684"/>
                  <a:pt x="9062" y="13675"/>
                  <a:pt x="9054" y="13667"/>
                </a:cubicBezTo>
              </a:path>
            </a:pathLst>
          </a:custGeom>
          <a:noFill/>
          <a:ln cap="rnd" w="34920">
            <a:solidFill>
              <a:srgbClr val="ff00ff"/>
            </a:solidFill>
            <a:round/>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9" name=""/>
          <p:cNvSpPr/>
          <p:nvPr/>
        </p:nvSpPr>
        <p:spPr>
          <a:xfrm>
            <a:off x="3581280" y="4919760"/>
            <a:ext cx="44640" cy="28440"/>
          </a:xfrm>
          <a:custGeom>
            <a:avLst/>
            <a:gdLst/>
            <a:ahLst/>
            <a:rect l="l" t="t" r="r" b="b"/>
            <a:pathLst>
              <a:path w="125" h="76">
                <a:moveTo>
                  <a:pt x="10071" y="13667"/>
                </a:moveTo>
                <a:lnTo>
                  <a:pt x="10071" y="13667"/>
                </a:lnTo>
              </a:path>
              <a:path w="125" h="76">
                <a:moveTo>
                  <a:pt x="9947" y="13717"/>
                </a:moveTo>
                <a:cubicBezTo>
                  <a:pt x="9947" y="13725"/>
                  <a:pt x="9947" y="13734"/>
                  <a:pt x="9947" y="13742"/>
                </a:cubicBezTo>
              </a:path>
            </a:pathLst>
          </a:custGeom>
          <a:noFill/>
          <a:ln cap="rnd" w="34920">
            <a:solidFill>
              <a:srgbClr val="ff00ff"/>
            </a:solidFill>
            <a:round/>
          </a:ln>
        </p:spPr>
        <p:style>
          <a:lnRef idx="0"/>
          <a:fillRef idx="0"/>
          <a:effectRef idx="0"/>
          <a:fontRef idx="minor"/>
        </p:style>
        <p:txBody>
          <a:bodyPr lIns="90000" rIns="90000" tIns="-18360" bIns="-18360" anchor="t">
            <a:noAutofit/>
          </a:bodyPr>
          <a:p>
            <a:endParaRPr b="0" lang="en-US" sz="1800" spc="-1" strike="noStrike">
              <a:solidFill>
                <a:srgbClr val="003366"/>
              </a:solidFill>
              <a:latin typeface="Arial"/>
            </a:endParaRPr>
          </a:p>
        </p:txBody>
      </p:sp>
      <p:sp>
        <p:nvSpPr>
          <p:cNvPr id="180" name=""/>
          <p:cNvSpPr/>
          <p:nvPr/>
        </p:nvSpPr>
        <p:spPr>
          <a:xfrm>
            <a:off x="3768840" y="4902120"/>
            <a:ext cx="71280" cy="19080"/>
          </a:xfrm>
          <a:custGeom>
            <a:avLst/>
            <a:gdLst/>
            <a:ahLst/>
            <a:rect l="l" t="t" r="r" b="b"/>
            <a:pathLst>
              <a:path w="199" h="50">
                <a:moveTo>
                  <a:pt x="10666" y="13618"/>
                </a:moveTo>
                <a:lnTo>
                  <a:pt x="10666" y="13618"/>
                </a:lnTo>
              </a:path>
              <a:path w="199" h="50">
                <a:moveTo>
                  <a:pt x="10492" y="13667"/>
                </a:moveTo>
                <a:cubicBezTo>
                  <a:pt x="10484" y="13667"/>
                  <a:pt x="10476" y="13667"/>
                  <a:pt x="10468" y="13667"/>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1" name=""/>
          <p:cNvSpPr/>
          <p:nvPr/>
        </p:nvSpPr>
        <p:spPr>
          <a:xfrm>
            <a:off x="3983040" y="4911840"/>
            <a:ext cx="17640" cy="1440"/>
          </a:xfrm>
          <a:custGeom>
            <a:avLst/>
            <a:gdLst/>
            <a:ahLst/>
            <a:rect l="l" t="t" r="r" b="b"/>
            <a:pathLst>
              <a:path w="50" h="1">
                <a:moveTo>
                  <a:pt x="11112" y="13643"/>
                </a:moveTo>
                <a:cubicBezTo>
                  <a:pt x="11088" y="13643"/>
                  <a:pt x="11079" y="13643"/>
                  <a:pt x="11063" y="13643"/>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82" name=""/>
          <p:cNvSpPr/>
          <p:nvPr/>
        </p:nvSpPr>
        <p:spPr>
          <a:xfrm>
            <a:off x="4116240" y="4911840"/>
            <a:ext cx="71640" cy="9360"/>
          </a:xfrm>
          <a:custGeom>
            <a:avLst/>
            <a:gdLst/>
            <a:ahLst/>
            <a:rect l="l" t="t" r="r" b="b"/>
            <a:pathLst>
              <a:path w="199" h="25">
                <a:moveTo>
                  <a:pt x="11633" y="13667"/>
                </a:moveTo>
                <a:cubicBezTo>
                  <a:pt x="11625" y="13667"/>
                  <a:pt x="11617" y="13667"/>
                  <a:pt x="11609" y="13667"/>
                </a:cubicBezTo>
              </a:path>
              <a:path w="199" h="25">
                <a:moveTo>
                  <a:pt x="11435" y="13643"/>
                </a:moveTo>
                <a:lnTo>
                  <a:pt x="11435" y="13643"/>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 name=""/>
          <p:cNvSpPr/>
          <p:nvPr/>
        </p:nvSpPr>
        <p:spPr>
          <a:xfrm>
            <a:off x="4295880" y="4894200"/>
            <a:ext cx="133200" cy="285840"/>
          </a:xfrm>
          <a:custGeom>
            <a:avLst/>
            <a:gdLst/>
            <a:ahLst/>
            <a:rect l="l" t="t" r="r" b="b"/>
            <a:pathLst>
              <a:path w="373" h="795">
                <a:moveTo>
                  <a:pt x="12154" y="14387"/>
                </a:moveTo>
                <a:cubicBezTo>
                  <a:pt x="12204" y="14370"/>
                  <a:pt x="12253" y="14354"/>
                  <a:pt x="12303" y="14337"/>
                </a:cubicBezTo>
              </a:path>
              <a:path w="373" h="795">
                <a:moveTo>
                  <a:pt x="12278" y="13593"/>
                </a:moveTo>
                <a:lnTo>
                  <a:pt x="12278" y="13593"/>
                </a:lnTo>
                <a:lnTo>
                  <a:pt x="12278" y="13593"/>
                </a:lnTo>
              </a:path>
              <a:path w="373" h="795">
                <a:moveTo>
                  <a:pt x="11931" y="13643"/>
                </a:moveTo>
                <a:lnTo>
                  <a:pt x="11931" y="13643"/>
                </a:lnTo>
                <a:lnTo>
                  <a:pt x="11931" y="13643"/>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a:off x="4545000" y="4857840"/>
            <a:ext cx="500040" cy="233280"/>
          </a:xfrm>
          <a:custGeom>
            <a:avLst/>
            <a:gdLst/>
            <a:ahLst/>
            <a:rect l="l" t="t" r="r" b="b"/>
            <a:pathLst>
              <a:path w="1390" h="646">
                <a:moveTo>
                  <a:pt x="13419" y="13667"/>
                </a:moveTo>
                <a:cubicBezTo>
                  <a:pt x="13448" y="13639"/>
                  <a:pt x="13483" y="13605"/>
                  <a:pt x="13519" y="13593"/>
                </a:cubicBezTo>
                <a:cubicBezTo>
                  <a:pt x="13527" y="13593"/>
                  <a:pt x="13535" y="13593"/>
                  <a:pt x="13543" y="13593"/>
                </a:cubicBezTo>
              </a:path>
              <a:path w="1390" h="646">
                <a:moveTo>
                  <a:pt x="13667" y="13618"/>
                </a:moveTo>
                <a:cubicBezTo>
                  <a:pt x="13700" y="13618"/>
                  <a:pt x="13734" y="13618"/>
                  <a:pt x="13767" y="13618"/>
                </a:cubicBezTo>
              </a:path>
              <a:path w="1390" h="646">
                <a:moveTo>
                  <a:pt x="13990" y="13618"/>
                </a:moveTo>
                <a:cubicBezTo>
                  <a:pt x="13998" y="13618"/>
                  <a:pt x="14007" y="13618"/>
                  <a:pt x="14015" y="13618"/>
                </a:cubicBezTo>
              </a:path>
              <a:path w="1390" h="646">
                <a:moveTo>
                  <a:pt x="12774" y="14139"/>
                </a:moveTo>
                <a:cubicBezTo>
                  <a:pt x="12830" y="14107"/>
                  <a:pt x="13031" y="14035"/>
                  <a:pt x="13072" y="13990"/>
                </a:cubicBezTo>
                <a:cubicBezTo>
                  <a:pt x="13123" y="13934"/>
                  <a:pt x="13155" y="13940"/>
                  <a:pt x="13221" y="13891"/>
                </a:cubicBezTo>
                <a:cubicBezTo>
                  <a:pt x="13293" y="13837"/>
                  <a:pt x="13225" y="13858"/>
                  <a:pt x="13271" y="13791"/>
                </a:cubicBezTo>
                <a:cubicBezTo>
                  <a:pt x="13287" y="13768"/>
                  <a:pt x="13295" y="13742"/>
                  <a:pt x="13295" y="13692"/>
                </a:cubicBezTo>
                <a:cubicBezTo>
                  <a:pt x="13295" y="13674"/>
                  <a:pt x="13337" y="13575"/>
                  <a:pt x="13345" y="13568"/>
                </a:cubicBezTo>
                <a:cubicBezTo>
                  <a:pt x="13352" y="13562"/>
                  <a:pt x="13413" y="13529"/>
                  <a:pt x="13419" y="13519"/>
                </a:cubicBezTo>
                <a:cubicBezTo>
                  <a:pt x="13446" y="13477"/>
                  <a:pt x="13345" y="13494"/>
                  <a:pt x="13295" y="13494"/>
                </a:cubicBezTo>
              </a:path>
              <a:path w="1390" h="646">
                <a:moveTo>
                  <a:pt x="13047" y="13543"/>
                </a:moveTo>
                <a:cubicBezTo>
                  <a:pt x="13022" y="13543"/>
                  <a:pt x="12998" y="13543"/>
                  <a:pt x="12973" y="13543"/>
                </a:cubicBezTo>
              </a:path>
              <a:path w="1390" h="646">
                <a:moveTo>
                  <a:pt x="12650" y="13543"/>
                </a:moveTo>
                <a:cubicBezTo>
                  <a:pt x="12642" y="13543"/>
                  <a:pt x="12634" y="13543"/>
                  <a:pt x="12626" y="135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5153040" y="4911840"/>
            <a:ext cx="106200" cy="9360"/>
          </a:xfrm>
          <a:custGeom>
            <a:avLst/>
            <a:gdLst/>
            <a:ahLst/>
            <a:rect l="l" t="t" r="r" b="b"/>
            <a:pathLst>
              <a:path w="299" h="25">
                <a:moveTo>
                  <a:pt x="14312" y="13643"/>
                </a:moveTo>
                <a:cubicBezTo>
                  <a:pt x="14345" y="13643"/>
                  <a:pt x="14362" y="13643"/>
                  <a:pt x="14387" y="13643"/>
                </a:cubicBezTo>
              </a:path>
              <a:path w="299" h="25">
                <a:moveTo>
                  <a:pt x="14560" y="13667"/>
                </a:moveTo>
                <a:cubicBezTo>
                  <a:pt x="14585" y="13667"/>
                  <a:pt x="14593" y="13667"/>
                  <a:pt x="14610" y="13667"/>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6" name=""/>
          <p:cNvSpPr/>
          <p:nvPr/>
        </p:nvSpPr>
        <p:spPr>
          <a:xfrm>
            <a:off x="5375160" y="4929120"/>
            <a:ext cx="73080" cy="9720"/>
          </a:xfrm>
          <a:custGeom>
            <a:avLst/>
            <a:gdLst/>
            <a:ahLst/>
            <a:rect l="l" t="t" r="r" b="b"/>
            <a:pathLst>
              <a:path w="200" h="26">
                <a:moveTo>
                  <a:pt x="14932" y="13717"/>
                </a:moveTo>
                <a:lnTo>
                  <a:pt x="14932" y="13717"/>
                </a:lnTo>
                <a:lnTo>
                  <a:pt x="14932" y="13717"/>
                </a:lnTo>
              </a:path>
              <a:path w="200" h="26">
                <a:moveTo>
                  <a:pt x="15106" y="13692"/>
                </a:moveTo>
                <a:cubicBezTo>
                  <a:pt x="15114" y="13692"/>
                  <a:pt x="15123" y="13692"/>
                  <a:pt x="15131" y="13692"/>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7" name=""/>
          <p:cNvSpPr/>
          <p:nvPr/>
        </p:nvSpPr>
        <p:spPr>
          <a:xfrm>
            <a:off x="5562720" y="4946760"/>
            <a:ext cx="98280" cy="9360"/>
          </a:xfrm>
          <a:custGeom>
            <a:avLst/>
            <a:gdLst/>
            <a:ahLst/>
            <a:rect l="l" t="t" r="r" b="b"/>
            <a:pathLst>
              <a:path w="274" h="26">
                <a:moveTo>
                  <a:pt x="15453" y="13742"/>
                </a:moveTo>
                <a:cubicBezTo>
                  <a:pt x="15470" y="13742"/>
                  <a:pt x="15486" y="13742"/>
                  <a:pt x="15503" y="13742"/>
                </a:cubicBezTo>
              </a:path>
              <a:path w="274" h="26">
                <a:moveTo>
                  <a:pt x="15701" y="13742"/>
                </a:moveTo>
                <a:cubicBezTo>
                  <a:pt x="15701" y="13767"/>
                  <a:pt x="15701" y="13775"/>
                  <a:pt x="15726" y="13767"/>
                </a:cubicBezTo>
              </a:path>
              <a:path w="274" h="26">
                <a:moveTo>
                  <a:pt x="15726" y="13767"/>
                </a:moveTo>
                <a:lnTo>
                  <a:pt x="15726" y="13767"/>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8" name=""/>
          <p:cNvSpPr/>
          <p:nvPr/>
        </p:nvSpPr>
        <p:spPr>
          <a:xfrm>
            <a:off x="5769000" y="4964040"/>
            <a:ext cx="54000" cy="9720"/>
          </a:xfrm>
          <a:custGeom>
            <a:avLst/>
            <a:gdLst/>
            <a:ahLst/>
            <a:rect l="l" t="t" r="r" b="b"/>
            <a:pathLst>
              <a:path w="150" h="26">
                <a:moveTo>
                  <a:pt x="16024" y="13816"/>
                </a:moveTo>
                <a:cubicBezTo>
                  <a:pt x="16097" y="13791"/>
                  <a:pt x="16121" y="13783"/>
                  <a:pt x="16173" y="13791"/>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9" name=""/>
          <p:cNvSpPr/>
          <p:nvPr/>
        </p:nvSpPr>
        <p:spPr>
          <a:xfrm>
            <a:off x="5796000" y="5054760"/>
            <a:ext cx="7920" cy="133200"/>
          </a:xfrm>
          <a:custGeom>
            <a:avLst/>
            <a:gdLst/>
            <a:ahLst/>
            <a:rect l="l" t="t" r="r" b="b"/>
            <a:pathLst>
              <a:path w="26" h="374">
                <a:moveTo>
                  <a:pt x="16123" y="14412"/>
                </a:moveTo>
                <a:cubicBezTo>
                  <a:pt x="16123" y="14395"/>
                  <a:pt x="16123" y="14379"/>
                  <a:pt x="16123" y="14362"/>
                </a:cubicBezTo>
              </a:path>
              <a:path w="26" h="374">
                <a:moveTo>
                  <a:pt x="16123" y="14362"/>
                </a:moveTo>
                <a:lnTo>
                  <a:pt x="16123" y="14362"/>
                </a:lnTo>
              </a:path>
              <a:path w="26" h="374">
                <a:moveTo>
                  <a:pt x="16098" y="14188"/>
                </a:moveTo>
                <a:lnTo>
                  <a:pt x="16098" y="14188"/>
                </a:lnTo>
              </a:path>
              <a:path w="26" h="374">
                <a:moveTo>
                  <a:pt x="16123" y="14039"/>
                </a:moveTo>
                <a:lnTo>
                  <a:pt x="16123" y="14039"/>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6205680" y="4884840"/>
            <a:ext cx="420480" cy="241200"/>
          </a:xfrm>
          <a:custGeom>
            <a:avLst/>
            <a:gdLst/>
            <a:ahLst/>
            <a:rect l="l" t="t" r="r" b="b"/>
            <a:pathLst>
              <a:path w="1167" h="671">
                <a:moveTo>
                  <a:pt x="17388" y="13742"/>
                </a:moveTo>
                <a:cubicBezTo>
                  <a:pt x="17399" y="13689"/>
                  <a:pt x="17441" y="13643"/>
                  <a:pt x="17413" y="13717"/>
                </a:cubicBezTo>
                <a:cubicBezTo>
                  <a:pt x="17349" y="13882"/>
                  <a:pt x="17297" y="14046"/>
                  <a:pt x="17239" y="14213"/>
                </a:cubicBezTo>
                <a:cubicBezTo>
                  <a:pt x="17239" y="14257"/>
                  <a:pt x="17328" y="13888"/>
                  <a:pt x="17338" y="13866"/>
                </a:cubicBezTo>
                <a:cubicBezTo>
                  <a:pt x="17393" y="13751"/>
                  <a:pt x="17490" y="13609"/>
                  <a:pt x="17611" y="13568"/>
                </a:cubicBezTo>
                <a:cubicBezTo>
                  <a:pt x="17690" y="13737"/>
                  <a:pt x="17710" y="13922"/>
                  <a:pt x="17686" y="14114"/>
                </a:cubicBezTo>
                <a:cubicBezTo>
                  <a:pt x="17667" y="14171"/>
                  <a:pt x="17658" y="14178"/>
                  <a:pt x="17661" y="14213"/>
                </a:cubicBezTo>
              </a:path>
              <a:path w="1167" h="671">
                <a:moveTo>
                  <a:pt x="17264" y="13940"/>
                </a:moveTo>
                <a:cubicBezTo>
                  <a:pt x="17421" y="13940"/>
                  <a:pt x="17557" y="13908"/>
                  <a:pt x="17711" y="13891"/>
                </a:cubicBezTo>
                <a:cubicBezTo>
                  <a:pt x="17736" y="13891"/>
                  <a:pt x="17760" y="13891"/>
                  <a:pt x="17785" y="13891"/>
                </a:cubicBezTo>
              </a:path>
              <a:path w="1167" h="671">
                <a:moveTo>
                  <a:pt x="18107" y="13915"/>
                </a:moveTo>
                <a:cubicBezTo>
                  <a:pt x="18185" y="13903"/>
                  <a:pt x="18250" y="13891"/>
                  <a:pt x="18331" y="13891"/>
                </a:cubicBezTo>
              </a:path>
              <a:path w="1167" h="671">
                <a:moveTo>
                  <a:pt x="18058" y="14089"/>
                </a:moveTo>
                <a:cubicBezTo>
                  <a:pt x="18175" y="14081"/>
                  <a:pt x="18287" y="14064"/>
                  <a:pt x="18405" y="1406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6732720" y="4840200"/>
            <a:ext cx="393480" cy="258840"/>
          </a:xfrm>
          <a:custGeom>
            <a:avLst/>
            <a:gdLst/>
            <a:ahLst/>
            <a:rect l="l" t="t" r="r" b="b"/>
            <a:pathLst>
              <a:path w="1092" h="720">
                <a:moveTo>
                  <a:pt x="18752" y="13593"/>
                </a:moveTo>
                <a:cubicBezTo>
                  <a:pt x="18752" y="13585"/>
                  <a:pt x="18752" y="13576"/>
                  <a:pt x="18752" y="13568"/>
                </a:cubicBezTo>
                <a:cubicBezTo>
                  <a:pt x="18696" y="13491"/>
                  <a:pt x="18709" y="13492"/>
                  <a:pt x="18728" y="13643"/>
                </a:cubicBezTo>
                <a:cubicBezTo>
                  <a:pt x="18750" y="13818"/>
                  <a:pt x="18777" y="13987"/>
                  <a:pt x="18777" y="14163"/>
                </a:cubicBezTo>
                <a:cubicBezTo>
                  <a:pt x="18786" y="14070"/>
                  <a:pt x="18790" y="13907"/>
                  <a:pt x="18876" y="13841"/>
                </a:cubicBezTo>
                <a:cubicBezTo>
                  <a:pt x="18980" y="13761"/>
                  <a:pt x="19145" y="13831"/>
                  <a:pt x="19149" y="13965"/>
                </a:cubicBezTo>
                <a:cubicBezTo>
                  <a:pt x="19153" y="14103"/>
                  <a:pt x="19057" y="14130"/>
                  <a:pt x="18951" y="14139"/>
                </a:cubicBezTo>
                <a:cubicBezTo>
                  <a:pt x="18906" y="14139"/>
                  <a:pt x="18893" y="14142"/>
                  <a:pt x="18876" y="14114"/>
                </a:cubicBezTo>
              </a:path>
              <a:path w="1092" h="720">
                <a:moveTo>
                  <a:pt x="19273" y="13469"/>
                </a:moveTo>
                <a:cubicBezTo>
                  <a:pt x="19281" y="13461"/>
                  <a:pt x="19290" y="13452"/>
                  <a:pt x="19298" y="13444"/>
                </a:cubicBezTo>
                <a:cubicBezTo>
                  <a:pt x="19298" y="13554"/>
                  <a:pt x="19317" y="13657"/>
                  <a:pt x="19323" y="13767"/>
                </a:cubicBezTo>
                <a:cubicBezTo>
                  <a:pt x="19330" y="13900"/>
                  <a:pt x="19348" y="14030"/>
                  <a:pt x="19348" y="14163"/>
                </a:cubicBezTo>
                <a:cubicBezTo>
                  <a:pt x="19348" y="14082"/>
                  <a:pt x="19358" y="14019"/>
                  <a:pt x="19372" y="13940"/>
                </a:cubicBezTo>
                <a:cubicBezTo>
                  <a:pt x="19385" y="13868"/>
                  <a:pt x="19409" y="13850"/>
                  <a:pt x="19472" y="13816"/>
                </a:cubicBezTo>
                <a:cubicBezTo>
                  <a:pt x="19511" y="13795"/>
                  <a:pt x="19601" y="13766"/>
                  <a:pt x="19645" y="13791"/>
                </a:cubicBezTo>
                <a:cubicBezTo>
                  <a:pt x="19705" y="13825"/>
                  <a:pt x="19756" y="13950"/>
                  <a:pt x="19769" y="14015"/>
                </a:cubicBezTo>
                <a:cubicBezTo>
                  <a:pt x="19780" y="14070"/>
                  <a:pt x="19743" y="14122"/>
                  <a:pt x="19794" y="1413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5803920" y="5214960"/>
            <a:ext cx="36360" cy="544320"/>
          </a:xfrm>
          <a:custGeom>
            <a:avLst/>
            <a:gdLst/>
            <a:ahLst/>
            <a:rect l="l" t="t" r="r" b="b"/>
            <a:pathLst>
              <a:path w="100" h="1514">
                <a:moveTo>
                  <a:pt x="16222" y="15999"/>
                </a:moveTo>
                <a:lnTo>
                  <a:pt x="16222" y="15999"/>
                </a:lnTo>
              </a:path>
              <a:path w="100" h="1514">
                <a:moveTo>
                  <a:pt x="16222" y="15999"/>
                </a:moveTo>
                <a:lnTo>
                  <a:pt x="16222" y="15999"/>
                </a:lnTo>
              </a:path>
              <a:path w="100" h="1514">
                <a:moveTo>
                  <a:pt x="16222" y="15776"/>
                </a:moveTo>
                <a:cubicBezTo>
                  <a:pt x="16214" y="15776"/>
                  <a:pt x="16205" y="15776"/>
                  <a:pt x="16197" y="15776"/>
                </a:cubicBezTo>
              </a:path>
              <a:path w="100" h="1514">
                <a:moveTo>
                  <a:pt x="16173" y="15577"/>
                </a:moveTo>
                <a:cubicBezTo>
                  <a:pt x="16181" y="15569"/>
                  <a:pt x="16189" y="15561"/>
                  <a:pt x="16197" y="15553"/>
                </a:cubicBezTo>
              </a:path>
              <a:path w="100" h="1514">
                <a:moveTo>
                  <a:pt x="16173" y="15429"/>
                </a:moveTo>
                <a:cubicBezTo>
                  <a:pt x="16173" y="15379"/>
                  <a:pt x="16173" y="15362"/>
                  <a:pt x="16173" y="15329"/>
                </a:cubicBezTo>
              </a:path>
              <a:path w="100" h="1514">
                <a:moveTo>
                  <a:pt x="16173" y="15329"/>
                </a:moveTo>
                <a:lnTo>
                  <a:pt x="16173" y="15329"/>
                </a:lnTo>
              </a:path>
              <a:path w="100" h="1514">
                <a:moveTo>
                  <a:pt x="16123" y="15106"/>
                </a:moveTo>
                <a:cubicBezTo>
                  <a:pt x="16123" y="15089"/>
                  <a:pt x="16123" y="15073"/>
                  <a:pt x="16123" y="15056"/>
                </a:cubicBezTo>
              </a:path>
              <a:path w="100" h="1514">
                <a:moveTo>
                  <a:pt x="16123" y="14957"/>
                </a:moveTo>
                <a:cubicBezTo>
                  <a:pt x="16123" y="14941"/>
                  <a:pt x="16123" y="14924"/>
                  <a:pt x="16123" y="14908"/>
                </a:cubicBezTo>
              </a:path>
              <a:path w="100" h="1514">
                <a:moveTo>
                  <a:pt x="16123" y="14908"/>
                </a:moveTo>
                <a:lnTo>
                  <a:pt x="16123" y="14908"/>
                </a:lnTo>
              </a:path>
              <a:path w="100" h="1514">
                <a:moveTo>
                  <a:pt x="16123" y="14833"/>
                </a:moveTo>
                <a:cubicBezTo>
                  <a:pt x="16123" y="14825"/>
                  <a:pt x="16123" y="14816"/>
                  <a:pt x="16123" y="14808"/>
                </a:cubicBezTo>
              </a:path>
              <a:path w="100" h="1514">
                <a:moveTo>
                  <a:pt x="16123" y="14709"/>
                </a:moveTo>
                <a:cubicBezTo>
                  <a:pt x="16123" y="14701"/>
                  <a:pt x="16123" y="14692"/>
                  <a:pt x="16123" y="14684"/>
                </a:cubicBezTo>
              </a:path>
              <a:path w="100" h="1514">
                <a:moveTo>
                  <a:pt x="16123" y="14684"/>
                </a:moveTo>
                <a:lnTo>
                  <a:pt x="16123" y="14684"/>
                </a:lnTo>
              </a:path>
              <a:path w="100" h="1514">
                <a:moveTo>
                  <a:pt x="16123" y="14536"/>
                </a:moveTo>
                <a:cubicBezTo>
                  <a:pt x="16123" y="14519"/>
                  <a:pt x="16123" y="14503"/>
                  <a:pt x="16123" y="1448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242040" y="5099040"/>
            <a:ext cx="1339920" cy="866880"/>
          </a:xfrm>
          <a:custGeom>
            <a:avLst/>
            <a:gdLst/>
            <a:ahLst/>
            <a:rect l="l" t="t" r="r" b="b"/>
            <a:pathLst>
              <a:path w="3722" h="2408">
                <a:moveTo>
                  <a:pt x="18554" y="14362"/>
                </a:moveTo>
                <a:cubicBezTo>
                  <a:pt x="18659" y="14362"/>
                  <a:pt x="18773" y="14373"/>
                  <a:pt x="18876" y="14387"/>
                </a:cubicBezTo>
                <a:cubicBezTo>
                  <a:pt x="19049" y="14410"/>
                  <a:pt x="19223" y="14445"/>
                  <a:pt x="19397" y="14461"/>
                </a:cubicBezTo>
                <a:cubicBezTo>
                  <a:pt x="19522" y="14473"/>
                  <a:pt x="19642" y="14486"/>
                  <a:pt x="19769" y="14486"/>
                </a:cubicBezTo>
                <a:cubicBezTo>
                  <a:pt x="19810" y="14486"/>
                  <a:pt x="19852" y="14486"/>
                  <a:pt x="19893" y="14486"/>
                </a:cubicBezTo>
              </a:path>
              <a:path w="3722" h="2408">
                <a:moveTo>
                  <a:pt x="18976" y="14610"/>
                </a:moveTo>
                <a:cubicBezTo>
                  <a:pt x="19046" y="14589"/>
                  <a:pt x="19078" y="14585"/>
                  <a:pt x="19149" y="14585"/>
                </a:cubicBezTo>
                <a:cubicBezTo>
                  <a:pt x="19138" y="14722"/>
                  <a:pt x="19122" y="14745"/>
                  <a:pt x="19025" y="14833"/>
                </a:cubicBezTo>
                <a:cubicBezTo>
                  <a:pt x="18979" y="14880"/>
                  <a:pt x="18967" y="14894"/>
                  <a:pt x="18926" y="14908"/>
                </a:cubicBezTo>
                <a:cubicBezTo>
                  <a:pt x="19002" y="14908"/>
                  <a:pt x="19072" y="14886"/>
                  <a:pt x="19149" y="14883"/>
                </a:cubicBezTo>
                <a:cubicBezTo>
                  <a:pt x="19191" y="14883"/>
                  <a:pt x="19199" y="14883"/>
                  <a:pt x="19224" y="14883"/>
                </a:cubicBezTo>
              </a:path>
              <a:path w="3722" h="2408">
                <a:moveTo>
                  <a:pt x="17859" y="14163"/>
                </a:moveTo>
                <a:cubicBezTo>
                  <a:pt x="17859" y="14171"/>
                  <a:pt x="17859" y="14180"/>
                  <a:pt x="17859" y="14188"/>
                </a:cubicBezTo>
                <a:cubicBezTo>
                  <a:pt x="17910" y="14205"/>
                  <a:pt x="17876" y="14240"/>
                  <a:pt x="17859" y="14288"/>
                </a:cubicBezTo>
                <a:cubicBezTo>
                  <a:pt x="17837" y="14349"/>
                  <a:pt x="17806" y="14384"/>
                  <a:pt x="17785" y="14436"/>
                </a:cubicBezTo>
              </a:path>
              <a:path w="3722" h="2408">
                <a:moveTo>
                  <a:pt x="17909" y="14188"/>
                </a:moveTo>
                <a:cubicBezTo>
                  <a:pt x="17954" y="14199"/>
                  <a:pt x="17980" y="14245"/>
                  <a:pt x="18008" y="14288"/>
                </a:cubicBezTo>
                <a:cubicBezTo>
                  <a:pt x="18037" y="14333"/>
                  <a:pt x="18131" y="14388"/>
                  <a:pt x="18083" y="14412"/>
                </a:cubicBezTo>
                <a:cubicBezTo>
                  <a:pt x="18038" y="14435"/>
                  <a:pt x="17914" y="14425"/>
                  <a:pt x="17859" y="14436"/>
                </a:cubicBezTo>
                <a:cubicBezTo>
                  <a:pt x="17835" y="14436"/>
                  <a:pt x="17826" y="14436"/>
                  <a:pt x="17810" y="14436"/>
                </a:cubicBezTo>
              </a:path>
              <a:path w="3722" h="2408">
                <a:moveTo>
                  <a:pt x="17487" y="15453"/>
                </a:moveTo>
                <a:cubicBezTo>
                  <a:pt x="17568" y="15427"/>
                  <a:pt x="17434" y="15587"/>
                  <a:pt x="17413" y="15652"/>
                </a:cubicBezTo>
                <a:cubicBezTo>
                  <a:pt x="17389" y="15771"/>
                  <a:pt x="17383" y="15808"/>
                  <a:pt x="17338" y="15875"/>
                </a:cubicBezTo>
                <a:cubicBezTo>
                  <a:pt x="17358" y="15915"/>
                  <a:pt x="17440" y="15695"/>
                  <a:pt x="17462" y="15652"/>
                </a:cubicBezTo>
                <a:cubicBezTo>
                  <a:pt x="17523" y="15534"/>
                  <a:pt x="17570" y="15383"/>
                  <a:pt x="17686" y="15304"/>
                </a:cubicBezTo>
                <a:cubicBezTo>
                  <a:pt x="17803" y="15224"/>
                  <a:pt x="17841" y="15378"/>
                  <a:pt x="17859" y="15453"/>
                </a:cubicBezTo>
                <a:cubicBezTo>
                  <a:pt x="17890" y="15579"/>
                  <a:pt x="17859" y="15676"/>
                  <a:pt x="17859" y="15801"/>
                </a:cubicBezTo>
                <a:cubicBezTo>
                  <a:pt x="17859" y="15825"/>
                  <a:pt x="17859" y="15833"/>
                  <a:pt x="17835" y="15825"/>
                </a:cubicBezTo>
              </a:path>
              <a:path w="3722" h="2408">
                <a:moveTo>
                  <a:pt x="17388" y="15701"/>
                </a:moveTo>
                <a:cubicBezTo>
                  <a:pt x="17507" y="15665"/>
                  <a:pt x="17662" y="15619"/>
                  <a:pt x="17785" y="15627"/>
                </a:cubicBezTo>
                <a:cubicBezTo>
                  <a:pt x="17810" y="15635"/>
                  <a:pt x="17834" y="15644"/>
                  <a:pt x="17859" y="15652"/>
                </a:cubicBezTo>
              </a:path>
              <a:path w="3722" h="2408">
                <a:moveTo>
                  <a:pt x="18132" y="15677"/>
                </a:moveTo>
                <a:cubicBezTo>
                  <a:pt x="18119" y="15754"/>
                  <a:pt x="18074" y="15826"/>
                  <a:pt x="18058" y="15900"/>
                </a:cubicBezTo>
                <a:cubicBezTo>
                  <a:pt x="18058" y="15916"/>
                  <a:pt x="18058" y="15933"/>
                  <a:pt x="18058" y="15949"/>
                </a:cubicBezTo>
              </a:path>
              <a:path w="3722" h="2408">
                <a:moveTo>
                  <a:pt x="18182" y="15602"/>
                </a:moveTo>
                <a:cubicBezTo>
                  <a:pt x="18216" y="15613"/>
                  <a:pt x="18275" y="15706"/>
                  <a:pt x="18306" y="15751"/>
                </a:cubicBezTo>
                <a:cubicBezTo>
                  <a:pt x="18319" y="15770"/>
                  <a:pt x="18353" y="15846"/>
                  <a:pt x="18355" y="15850"/>
                </a:cubicBezTo>
                <a:cubicBezTo>
                  <a:pt x="18355" y="15858"/>
                  <a:pt x="18355" y="15867"/>
                  <a:pt x="18355" y="15875"/>
                </a:cubicBezTo>
                <a:cubicBezTo>
                  <a:pt x="18269" y="15875"/>
                  <a:pt x="18162" y="15868"/>
                  <a:pt x="18083" y="15875"/>
                </a:cubicBezTo>
                <a:cubicBezTo>
                  <a:pt x="18025" y="15894"/>
                  <a:pt x="18018" y="15903"/>
                  <a:pt x="17983" y="15900"/>
                </a:cubicBezTo>
              </a:path>
              <a:path w="3722" h="2408">
                <a:moveTo>
                  <a:pt x="18777" y="15553"/>
                </a:moveTo>
                <a:lnTo>
                  <a:pt x="18777" y="15553"/>
                </a:lnTo>
              </a:path>
              <a:path w="3722" h="2408">
                <a:moveTo>
                  <a:pt x="18653" y="15453"/>
                </a:moveTo>
                <a:cubicBezTo>
                  <a:pt x="18747" y="15432"/>
                  <a:pt x="18829" y="15429"/>
                  <a:pt x="18926" y="15429"/>
                </a:cubicBezTo>
              </a:path>
              <a:path w="3722" h="2408">
                <a:moveTo>
                  <a:pt x="18728" y="15602"/>
                </a:moveTo>
                <a:cubicBezTo>
                  <a:pt x="18797" y="15614"/>
                  <a:pt x="18854" y="15627"/>
                  <a:pt x="18926" y="15627"/>
                </a:cubicBezTo>
                <a:cubicBezTo>
                  <a:pt x="18934" y="15627"/>
                  <a:pt x="18943" y="15627"/>
                  <a:pt x="18951" y="15627"/>
                </a:cubicBezTo>
              </a:path>
              <a:path w="3722" h="2408">
                <a:moveTo>
                  <a:pt x="19224" y="15205"/>
                </a:moveTo>
                <a:cubicBezTo>
                  <a:pt x="19224" y="15267"/>
                  <a:pt x="19220" y="15295"/>
                  <a:pt x="19199" y="15354"/>
                </a:cubicBezTo>
                <a:cubicBezTo>
                  <a:pt x="19175" y="15419"/>
                  <a:pt x="19108" y="15532"/>
                  <a:pt x="19124" y="15602"/>
                </a:cubicBezTo>
                <a:cubicBezTo>
                  <a:pt x="19142" y="15678"/>
                  <a:pt x="19225" y="15716"/>
                  <a:pt x="19298" y="15701"/>
                </a:cubicBezTo>
                <a:cubicBezTo>
                  <a:pt x="19357" y="15689"/>
                  <a:pt x="19406" y="15643"/>
                  <a:pt x="19447" y="15602"/>
                </a:cubicBezTo>
                <a:cubicBezTo>
                  <a:pt x="19455" y="15594"/>
                  <a:pt x="19464" y="15585"/>
                  <a:pt x="19472" y="15577"/>
                </a:cubicBezTo>
                <a:cubicBezTo>
                  <a:pt x="19429" y="15546"/>
                  <a:pt x="19404" y="15533"/>
                  <a:pt x="19348" y="15528"/>
                </a:cubicBezTo>
                <a:cubicBezTo>
                  <a:pt x="19285" y="15523"/>
                  <a:pt x="19266" y="15568"/>
                  <a:pt x="19248" y="15627"/>
                </a:cubicBezTo>
                <a:cubicBezTo>
                  <a:pt x="19248" y="15655"/>
                  <a:pt x="19250" y="15666"/>
                  <a:pt x="19273" y="15677"/>
                </a:cubicBezTo>
              </a:path>
              <a:path w="3722" h="2408">
                <a:moveTo>
                  <a:pt x="19794" y="15007"/>
                </a:moveTo>
                <a:cubicBezTo>
                  <a:pt x="19736" y="15108"/>
                  <a:pt x="19705" y="15215"/>
                  <a:pt x="19670" y="15329"/>
                </a:cubicBezTo>
                <a:cubicBezTo>
                  <a:pt x="19644" y="15416"/>
                  <a:pt x="19611" y="15588"/>
                  <a:pt x="19645" y="15677"/>
                </a:cubicBezTo>
                <a:cubicBezTo>
                  <a:pt x="19647" y="15683"/>
                  <a:pt x="19702" y="15712"/>
                  <a:pt x="19720" y="15726"/>
                </a:cubicBezTo>
              </a:path>
              <a:path w="3722" h="2408">
                <a:moveTo>
                  <a:pt x="19869" y="15205"/>
                </a:moveTo>
                <a:cubicBezTo>
                  <a:pt x="19896" y="15177"/>
                  <a:pt x="19962" y="15127"/>
                  <a:pt x="19993" y="15131"/>
                </a:cubicBezTo>
                <a:cubicBezTo>
                  <a:pt x="20106" y="15146"/>
                  <a:pt x="20044" y="15300"/>
                  <a:pt x="20017" y="15354"/>
                </a:cubicBezTo>
                <a:cubicBezTo>
                  <a:pt x="19976" y="15437"/>
                  <a:pt x="19879" y="15539"/>
                  <a:pt x="19794" y="15577"/>
                </a:cubicBezTo>
                <a:cubicBezTo>
                  <a:pt x="19786" y="15577"/>
                  <a:pt x="19777" y="15577"/>
                  <a:pt x="19769" y="15577"/>
                </a:cubicBezTo>
                <a:cubicBezTo>
                  <a:pt x="19826" y="15566"/>
                  <a:pt x="19882" y="15514"/>
                  <a:pt x="19943" y="15528"/>
                </a:cubicBezTo>
                <a:cubicBezTo>
                  <a:pt x="19992" y="15539"/>
                  <a:pt x="20020" y="15585"/>
                  <a:pt x="20042" y="15602"/>
                </a:cubicBezTo>
                <a:cubicBezTo>
                  <a:pt x="20050" y="15610"/>
                  <a:pt x="20059" y="15619"/>
                  <a:pt x="20067" y="15627"/>
                </a:cubicBezTo>
              </a:path>
              <a:path w="3722" h="2408">
                <a:moveTo>
                  <a:pt x="20290" y="15528"/>
                </a:moveTo>
                <a:cubicBezTo>
                  <a:pt x="20298" y="15528"/>
                  <a:pt x="20307" y="15528"/>
                  <a:pt x="20315" y="15528"/>
                </a:cubicBezTo>
              </a:path>
              <a:path w="3722" h="2408">
                <a:moveTo>
                  <a:pt x="20662" y="15032"/>
                </a:moveTo>
                <a:cubicBezTo>
                  <a:pt x="20635" y="15067"/>
                  <a:pt x="20540" y="15074"/>
                  <a:pt x="20513" y="15106"/>
                </a:cubicBezTo>
                <a:cubicBezTo>
                  <a:pt x="20494" y="15129"/>
                  <a:pt x="20471" y="15278"/>
                  <a:pt x="20464" y="15304"/>
                </a:cubicBezTo>
                <a:cubicBezTo>
                  <a:pt x="20504" y="15296"/>
                  <a:pt x="20568" y="15260"/>
                  <a:pt x="20613" y="15280"/>
                </a:cubicBezTo>
                <a:cubicBezTo>
                  <a:pt x="20660" y="15301"/>
                  <a:pt x="20806" y="15404"/>
                  <a:pt x="20737" y="15478"/>
                </a:cubicBezTo>
                <a:cubicBezTo>
                  <a:pt x="20683" y="15536"/>
                  <a:pt x="20573" y="15555"/>
                  <a:pt x="20538" y="15503"/>
                </a:cubicBezTo>
              </a:path>
              <a:path w="3722" h="2408">
                <a:moveTo>
                  <a:pt x="20861" y="14883"/>
                </a:moveTo>
                <a:cubicBezTo>
                  <a:pt x="21002" y="14978"/>
                  <a:pt x="21043" y="15082"/>
                  <a:pt x="21059" y="15255"/>
                </a:cubicBezTo>
                <a:cubicBezTo>
                  <a:pt x="21066" y="15333"/>
                  <a:pt x="21052" y="15599"/>
                  <a:pt x="20935" y="15627"/>
                </a:cubicBezTo>
                <a:cubicBezTo>
                  <a:pt x="20902" y="15627"/>
                  <a:pt x="20869" y="15627"/>
                  <a:pt x="20836" y="15627"/>
                </a:cubicBezTo>
              </a:path>
              <a:path w="3722" h="2408">
                <a:moveTo>
                  <a:pt x="18802" y="15925"/>
                </a:moveTo>
                <a:cubicBezTo>
                  <a:pt x="19275" y="15925"/>
                  <a:pt x="19746" y="15924"/>
                  <a:pt x="20216" y="15900"/>
                </a:cubicBezTo>
                <a:cubicBezTo>
                  <a:pt x="20471" y="15887"/>
                  <a:pt x="20730" y="15900"/>
                  <a:pt x="20985" y="15900"/>
                </a:cubicBezTo>
              </a:path>
              <a:path w="3722" h="2408">
                <a:moveTo>
                  <a:pt x="19397" y="16222"/>
                </a:moveTo>
                <a:cubicBezTo>
                  <a:pt x="19456" y="16246"/>
                  <a:pt x="19518" y="16203"/>
                  <a:pt x="19596" y="16197"/>
                </a:cubicBezTo>
                <a:cubicBezTo>
                  <a:pt x="19604" y="16197"/>
                  <a:pt x="19613" y="16197"/>
                  <a:pt x="19621" y="16197"/>
                </a:cubicBezTo>
                <a:cubicBezTo>
                  <a:pt x="19643" y="16300"/>
                  <a:pt x="19609" y="16365"/>
                  <a:pt x="19521" y="16446"/>
                </a:cubicBezTo>
                <a:cubicBezTo>
                  <a:pt x="19467" y="16496"/>
                  <a:pt x="19394" y="16556"/>
                  <a:pt x="19323" y="16570"/>
                </a:cubicBezTo>
                <a:cubicBezTo>
                  <a:pt x="19409" y="16570"/>
                  <a:pt x="19482" y="16535"/>
                  <a:pt x="19571" y="16545"/>
                </a:cubicBezTo>
                <a:cubicBezTo>
                  <a:pt x="19637" y="16552"/>
                  <a:pt x="19662" y="16570"/>
                  <a:pt x="19720" y="165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5732640" y="5857920"/>
            <a:ext cx="1322280" cy="696960"/>
          </a:xfrm>
          <a:custGeom>
            <a:avLst/>
            <a:gdLst/>
            <a:ahLst/>
            <a:rect l="l" t="t" r="r" b="b"/>
            <a:pathLst>
              <a:path w="3672" h="1936">
                <a:moveTo>
                  <a:pt x="16049" y="17562"/>
                </a:moveTo>
                <a:cubicBezTo>
                  <a:pt x="16041" y="17562"/>
                  <a:pt x="16032" y="17562"/>
                  <a:pt x="16024" y="17562"/>
                </a:cubicBezTo>
              </a:path>
              <a:path w="3672" h="1936">
                <a:moveTo>
                  <a:pt x="15949" y="17165"/>
                </a:moveTo>
                <a:cubicBezTo>
                  <a:pt x="15941" y="17165"/>
                  <a:pt x="15933" y="17165"/>
                  <a:pt x="15925" y="17165"/>
                </a:cubicBezTo>
              </a:path>
              <a:path w="3672" h="1936">
                <a:moveTo>
                  <a:pt x="16123" y="17363"/>
                </a:moveTo>
                <a:cubicBezTo>
                  <a:pt x="16123" y="17371"/>
                  <a:pt x="16123" y="17380"/>
                  <a:pt x="16123" y="17388"/>
                </a:cubicBezTo>
              </a:path>
              <a:path w="3672" h="1936">
                <a:moveTo>
                  <a:pt x="16123" y="17214"/>
                </a:moveTo>
                <a:cubicBezTo>
                  <a:pt x="16123" y="17206"/>
                  <a:pt x="16123" y="17198"/>
                  <a:pt x="16123" y="17190"/>
                </a:cubicBezTo>
              </a:path>
              <a:path w="3672" h="1936">
                <a:moveTo>
                  <a:pt x="16123" y="17115"/>
                </a:moveTo>
                <a:cubicBezTo>
                  <a:pt x="16123" y="17107"/>
                  <a:pt x="16123" y="17098"/>
                  <a:pt x="16123" y="17090"/>
                </a:cubicBezTo>
              </a:path>
              <a:path w="3672" h="1936">
                <a:moveTo>
                  <a:pt x="16123" y="16917"/>
                </a:moveTo>
                <a:lnTo>
                  <a:pt x="16123" y="16917"/>
                </a:lnTo>
              </a:path>
              <a:path w="3672" h="1936">
                <a:moveTo>
                  <a:pt x="16098" y="16793"/>
                </a:moveTo>
                <a:cubicBezTo>
                  <a:pt x="16098" y="16785"/>
                  <a:pt x="16098" y="16776"/>
                  <a:pt x="16098" y="16768"/>
                </a:cubicBezTo>
              </a:path>
              <a:path w="3672" h="1936">
                <a:moveTo>
                  <a:pt x="16123" y="16619"/>
                </a:moveTo>
                <a:cubicBezTo>
                  <a:pt x="16123" y="16586"/>
                  <a:pt x="16123" y="16570"/>
                  <a:pt x="16123" y="16545"/>
                </a:cubicBezTo>
              </a:path>
              <a:path w="3672" h="1936">
                <a:moveTo>
                  <a:pt x="16148" y="16297"/>
                </a:moveTo>
                <a:cubicBezTo>
                  <a:pt x="16156" y="16289"/>
                  <a:pt x="16165" y="16280"/>
                  <a:pt x="16173" y="16272"/>
                </a:cubicBezTo>
              </a:path>
              <a:path w="3672" h="1936">
                <a:moveTo>
                  <a:pt x="17090" y="17438"/>
                </a:moveTo>
                <a:cubicBezTo>
                  <a:pt x="17090" y="17566"/>
                  <a:pt x="17042" y="17667"/>
                  <a:pt x="16991" y="17785"/>
                </a:cubicBezTo>
                <a:cubicBezTo>
                  <a:pt x="16983" y="17802"/>
                  <a:pt x="16974" y="17818"/>
                  <a:pt x="16966" y="17835"/>
                </a:cubicBezTo>
                <a:cubicBezTo>
                  <a:pt x="16966" y="17708"/>
                  <a:pt x="17030" y="17598"/>
                  <a:pt x="17090" y="17487"/>
                </a:cubicBezTo>
                <a:cubicBezTo>
                  <a:pt x="17127" y="17420"/>
                  <a:pt x="17203" y="17208"/>
                  <a:pt x="17314" y="17214"/>
                </a:cubicBezTo>
                <a:cubicBezTo>
                  <a:pt x="17485" y="17224"/>
                  <a:pt x="17393" y="17509"/>
                  <a:pt x="17388" y="17587"/>
                </a:cubicBezTo>
                <a:cubicBezTo>
                  <a:pt x="17387" y="17603"/>
                  <a:pt x="17363" y="17867"/>
                  <a:pt x="17363" y="17810"/>
                </a:cubicBezTo>
              </a:path>
              <a:path w="3672" h="1936">
                <a:moveTo>
                  <a:pt x="17041" y="17587"/>
                </a:moveTo>
                <a:cubicBezTo>
                  <a:pt x="17141" y="17547"/>
                  <a:pt x="17232" y="17521"/>
                  <a:pt x="17338" y="17512"/>
                </a:cubicBezTo>
              </a:path>
              <a:path w="3672" h="1936">
                <a:moveTo>
                  <a:pt x="17562" y="17636"/>
                </a:moveTo>
                <a:cubicBezTo>
                  <a:pt x="17562" y="17743"/>
                  <a:pt x="17489" y="17814"/>
                  <a:pt x="17438" y="17909"/>
                </a:cubicBezTo>
                <a:cubicBezTo>
                  <a:pt x="17363" y="18048"/>
                  <a:pt x="17461" y="17814"/>
                  <a:pt x="17462" y="17810"/>
                </a:cubicBezTo>
              </a:path>
              <a:path w="3672" h="1936">
                <a:moveTo>
                  <a:pt x="17611" y="17661"/>
                </a:moveTo>
                <a:cubicBezTo>
                  <a:pt x="17689" y="17622"/>
                  <a:pt x="17704" y="17741"/>
                  <a:pt x="17735" y="17810"/>
                </a:cubicBezTo>
                <a:cubicBezTo>
                  <a:pt x="17764" y="17873"/>
                  <a:pt x="17776" y="17868"/>
                  <a:pt x="17785" y="17934"/>
                </a:cubicBezTo>
                <a:cubicBezTo>
                  <a:pt x="17738" y="17840"/>
                  <a:pt x="17632" y="17866"/>
                  <a:pt x="17537" y="17884"/>
                </a:cubicBezTo>
                <a:cubicBezTo>
                  <a:pt x="17463" y="17903"/>
                  <a:pt x="17456" y="17911"/>
                  <a:pt x="17413" y="17909"/>
                </a:cubicBezTo>
              </a:path>
              <a:path w="3672" h="1936">
                <a:moveTo>
                  <a:pt x="18107" y="17487"/>
                </a:moveTo>
                <a:cubicBezTo>
                  <a:pt x="18132" y="17487"/>
                  <a:pt x="18157" y="17487"/>
                  <a:pt x="18182" y="17487"/>
                </a:cubicBezTo>
              </a:path>
              <a:path w="3672" h="1936">
                <a:moveTo>
                  <a:pt x="18083" y="17388"/>
                </a:moveTo>
                <a:cubicBezTo>
                  <a:pt x="18155" y="17403"/>
                  <a:pt x="18185" y="17451"/>
                  <a:pt x="18256" y="17462"/>
                </a:cubicBezTo>
                <a:cubicBezTo>
                  <a:pt x="18264" y="17462"/>
                  <a:pt x="18273" y="17462"/>
                  <a:pt x="18281" y="17462"/>
                </a:cubicBezTo>
              </a:path>
              <a:path w="3672" h="1936">
                <a:moveTo>
                  <a:pt x="19050" y="17214"/>
                </a:moveTo>
                <a:cubicBezTo>
                  <a:pt x="19050" y="17172"/>
                  <a:pt x="19006" y="17426"/>
                  <a:pt x="19000" y="17462"/>
                </a:cubicBezTo>
                <a:cubicBezTo>
                  <a:pt x="19000" y="17487"/>
                  <a:pt x="19000" y="17495"/>
                  <a:pt x="19000" y="17512"/>
                </a:cubicBezTo>
              </a:path>
              <a:path w="3672" h="1936">
                <a:moveTo>
                  <a:pt x="19273" y="17115"/>
                </a:moveTo>
                <a:cubicBezTo>
                  <a:pt x="19273" y="17199"/>
                  <a:pt x="19330" y="17148"/>
                  <a:pt x="19372" y="17190"/>
                </a:cubicBezTo>
                <a:cubicBezTo>
                  <a:pt x="19458" y="17275"/>
                  <a:pt x="19411" y="17360"/>
                  <a:pt x="19323" y="17413"/>
                </a:cubicBezTo>
                <a:cubicBezTo>
                  <a:pt x="19290" y="17413"/>
                  <a:pt x="19281" y="17405"/>
                  <a:pt x="19298" y="17363"/>
                </a:cubicBezTo>
              </a:path>
              <a:path w="3672" h="1936">
                <a:moveTo>
                  <a:pt x="19273" y="17066"/>
                </a:moveTo>
                <a:cubicBezTo>
                  <a:pt x="19349" y="17002"/>
                  <a:pt x="19434" y="16964"/>
                  <a:pt x="19521" y="16917"/>
                </a:cubicBezTo>
                <a:cubicBezTo>
                  <a:pt x="19593" y="16878"/>
                  <a:pt x="19585" y="16876"/>
                  <a:pt x="19596" y="16942"/>
                </a:cubicBezTo>
              </a:path>
              <a:path w="3672" h="1936">
                <a:moveTo>
                  <a:pt x="18926" y="17735"/>
                </a:moveTo>
                <a:cubicBezTo>
                  <a:pt x="18974" y="17700"/>
                  <a:pt x="19067" y="17654"/>
                  <a:pt x="19124" y="17636"/>
                </a:cubicBezTo>
                <a:cubicBezTo>
                  <a:pt x="19238" y="17601"/>
                  <a:pt x="19359" y="17563"/>
                  <a:pt x="19472" y="17537"/>
                </a:cubicBezTo>
                <a:cubicBezTo>
                  <a:pt x="19480" y="17537"/>
                  <a:pt x="19488" y="17537"/>
                  <a:pt x="19496" y="17537"/>
                </a:cubicBezTo>
              </a:path>
              <a:path w="3672" h="1936">
                <a:moveTo>
                  <a:pt x="19248" y="17859"/>
                </a:moveTo>
                <a:cubicBezTo>
                  <a:pt x="19292" y="17817"/>
                  <a:pt x="19255" y="17863"/>
                  <a:pt x="19248" y="17909"/>
                </a:cubicBezTo>
                <a:cubicBezTo>
                  <a:pt x="19248" y="17851"/>
                  <a:pt x="19260" y="17831"/>
                  <a:pt x="19323" y="17810"/>
                </a:cubicBezTo>
                <a:cubicBezTo>
                  <a:pt x="19392" y="17787"/>
                  <a:pt x="19356" y="17987"/>
                  <a:pt x="19348" y="18008"/>
                </a:cubicBezTo>
                <a:cubicBezTo>
                  <a:pt x="19312" y="18097"/>
                  <a:pt x="19206" y="18172"/>
                  <a:pt x="19124" y="18207"/>
                </a:cubicBezTo>
                <a:cubicBezTo>
                  <a:pt x="19116" y="18207"/>
                  <a:pt x="19108" y="18207"/>
                  <a:pt x="19100" y="18207"/>
                </a:cubicBezTo>
                <a:cubicBezTo>
                  <a:pt x="19111" y="18128"/>
                  <a:pt x="19134" y="18101"/>
                  <a:pt x="19224" y="18083"/>
                </a:cubicBezTo>
                <a:cubicBezTo>
                  <a:pt x="19284" y="18071"/>
                  <a:pt x="19302" y="18092"/>
                  <a:pt x="19348" y="18107"/>
                </a:cubicBezTo>
                <a:cubicBezTo>
                  <a:pt x="19390" y="18121"/>
                  <a:pt x="19381" y="18101"/>
                  <a:pt x="19422" y="1813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7545240" y="5715000"/>
            <a:ext cx="1366920" cy="625320"/>
          </a:xfrm>
          <a:custGeom>
            <a:avLst/>
            <a:gdLst/>
            <a:ahLst/>
            <a:rect l="l" t="t" r="r" b="b"/>
            <a:pathLst>
              <a:path w="3796" h="1737">
                <a:moveTo>
                  <a:pt x="21406" y="16520"/>
                </a:moveTo>
                <a:cubicBezTo>
                  <a:pt x="21382" y="16642"/>
                  <a:pt x="21349" y="16771"/>
                  <a:pt x="21307" y="16892"/>
                </a:cubicBezTo>
                <a:cubicBezTo>
                  <a:pt x="21280" y="16969"/>
                  <a:pt x="21254" y="17094"/>
                  <a:pt x="21233" y="16991"/>
                </a:cubicBezTo>
              </a:path>
              <a:path w="3796" h="1737">
                <a:moveTo>
                  <a:pt x="21382" y="16470"/>
                </a:moveTo>
                <a:cubicBezTo>
                  <a:pt x="21492" y="16567"/>
                  <a:pt x="21513" y="16677"/>
                  <a:pt x="21555" y="16818"/>
                </a:cubicBezTo>
                <a:cubicBezTo>
                  <a:pt x="21573" y="16880"/>
                  <a:pt x="21573" y="16899"/>
                  <a:pt x="21605" y="16942"/>
                </a:cubicBezTo>
              </a:path>
              <a:path w="3796" h="1737">
                <a:moveTo>
                  <a:pt x="21357" y="16842"/>
                </a:moveTo>
                <a:cubicBezTo>
                  <a:pt x="21407" y="16842"/>
                  <a:pt x="21456" y="16842"/>
                  <a:pt x="21506" y="16842"/>
                </a:cubicBezTo>
              </a:path>
              <a:path w="3796" h="1737">
                <a:moveTo>
                  <a:pt x="21803" y="16793"/>
                </a:moveTo>
                <a:cubicBezTo>
                  <a:pt x="21803" y="16881"/>
                  <a:pt x="21793" y="16980"/>
                  <a:pt x="21779" y="17066"/>
                </a:cubicBezTo>
                <a:cubicBezTo>
                  <a:pt x="21760" y="17140"/>
                  <a:pt x="21752" y="17147"/>
                  <a:pt x="21754" y="17190"/>
                </a:cubicBezTo>
              </a:path>
              <a:path w="3796" h="1737">
                <a:moveTo>
                  <a:pt x="21853" y="16818"/>
                </a:moveTo>
                <a:cubicBezTo>
                  <a:pt x="21853" y="16763"/>
                  <a:pt x="21916" y="16947"/>
                  <a:pt x="21927" y="16966"/>
                </a:cubicBezTo>
                <a:cubicBezTo>
                  <a:pt x="21966" y="17032"/>
                  <a:pt x="22002" y="17065"/>
                  <a:pt x="22002" y="17140"/>
                </a:cubicBezTo>
                <a:cubicBezTo>
                  <a:pt x="21906" y="17150"/>
                  <a:pt x="21842" y="17188"/>
                  <a:pt x="21754" y="17214"/>
                </a:cubicBezTo>
                <a:cubicBezTo>
                  <a:pt x="21726" y="17214"/>
                  <a:pt x="21715" y="17216"/>
                  <a:pt x="21704" y="17239"/>
                </a:cubicBezTo>
              </a:path>
              <a:path w="3796" h="1737">
                <a:moveTo>
                  <a:pt x="22076" y="16619"/>
                </a:moveTo>
                <a:cubicBezTo>
                  <a:pt x="22117" y="16619"/>
                  <a:pt x="22159" y="16619"/>
                  <a:pt x="22200" y="16619"/>
                </a:cubicBezTo>
              </a:path>
              <a:path w="3796" h="1737">
                <a:moveTo>
                  <a:pt x="22076" y="16818"/>
                </a:moveTo>
                <a:cubicBezTo>
                  <a:pt x="22117" y="16818"/>
                  <a:pt x="22159" y="16818"/>
                  <a:pt x="22200" y="16818"/>
                </a:cubicBezTo>
              </a:path>
              <a:path w="3796" h="1737">
                <a:moveTo>
                  <a:pt x="22473" y="16495"/>
                </a:moveTo>
                <a:cubicBezTo>
                  <a:pt x="22448" y="16495"/>
                  <a:pt x="22440" y="16495"/>
                  <a:pt x="22448" y="16470"/>
                </a:cubicBezTo>
                <a:cubicBezTo>
                  <a:pt x="22533" y="16470"/>
                  <a:pt x="22616" y="16481"/>
                  <a:pt x="22696" y="16446"/>
                </a:cubicBezTo>
                <a:cubicBezTo>
                  <a:pt x="22704" y="16438"/>
                  <a:pt x="22713" y="16429"/>
                  <a:pt x="22721" y="16421"/>
                </a:cubicBezTo>
                <a:cubicBezTo>
                  <a:pt x="22721" y="16558"/>
                  <a:pt x="22714" y="16686"/>
                  <a:pt x="22671" y="16818"/>
                </a:cubicBezTo>
                <a:cubicBezTo>
                  <a:pt x="22654" y="16868"/>
                  <a:pt x="22647" y="16869"/>
                  <a:pt x="22647" y="16917"/>
                </a:cubicBezTo>
              </a:path>
              <a:path w="3796" h="1737">
                <a:moveTo>
                  <a:pt x="23019" y="16768"/>
                </a:moveTo>
                <a:cubicBezTo>
                  <a:pt x="23019" y="16813"/>
                  <a:pt x="23016" y="16833"/>
                  <a:pt x="23044" y="16793"/>
                </a:cubicBezTo>
              </a:path>
              <a:path w="3796" h="1737">
                <a:moveTo>
                  <a:pt x="23366" y="16421"/>
                </a:moveTo>
                <a:cubicBezTo>
                  <a:pt x="23350" y="16470"/>
                  <a:pt x="23309" y="16454"/>
                  <a:pt x="23267" y="16446"/>
                </a:cubicBezTo>
                <a:cubicBezTo>
                  <a:pt x="23242" y="16446"/>
                  <a:pt x="23234" y="16446"/>
                  <a:pt x="23217" y="16446"/>
                </a:cubicBezTo>
                <a:cubicBezTo>
                  <a:pt x="23211" y="16492"/>
                  <a:pt x="23201" y="16526"/>
                  <a:pt x="23192" y="16570"/>
                </a:cubicBezTo>
                <a:cubicBezTo>
                  <a:pt x="23226" y="16602"/>
                  <a:pt x="23347" y="16588"/>
                  <a:pt x="23416" y="16594"/>
                </a:cubicBezTo>
                <a:cubicBezTo>
                  <a:pt x="23498" y="16601"/>
                  <a:pt x="23542" y="16640"/>
                  <a:pt x="23490" y="16718"/>
                </a:cubicBezTo>
                <a:cubicBezTo>
                  <a:pt x="23460" y="16763"/>
                  <a:pt x="23362" y="16806"/>
                  <a:pt x="23316" y="16818"/>
                </a:cubicBezTo>
              </a:path>
              <a:path w="3796" h="1737">
                <a:moveTo>
                  <a:pt x="23788" y="16743"/>
                </a:moveTo>
                <a:cubicBezTo>
                  <a:pt x="23801" y="16811"/>
                  <a:pt x="23829" y="16871"/>
                  <a:pt x="23837" y="16942"/>
                </a:cubicBezTo>
                <a:cubicBezTo>
                  <a:pt x="23825" y="16872"/>
                  <a:pt x="23779" y="16783"/>
                  <a:pt x="23837" y="16718"/>
                </a:cubicBezTo>
                <a:cubicBezTo>
                  <a:pt x="23904" y="16643"/>
                  <a:pt x="23979" y="16744"/>
                  <a:pt x="24011" y="16793"/>
                </a:cubicBezTo>
                <a:cubicBezTo>
                  <a:pt x="24033" y="16836"/>
                  <a:pt x="24037" y="16848"/>
                  <a:pt x="24061" y="16867"/>
                </a:cubicBezTo>
                <a:cubicBezTo>
                  <a:pt x="24035" y="16800"/>
                  <a:pt x="24014" y="16753"/>
                  <a:pt x="24085" y="16718"/>
                </a:cubicBezTo>
                <a:cubicBezTo>
                  <a:pt x="24102" y="16710"/>
                  <a:pt x="24118" y="16702"/>
                  <a:pt x="24135" y="16694"/>
                </a:cubicBezTo>
                <a:cubicBezTo>
                  <a:pt x="24107" y="16609"/>
                  <a:pt x="24044" y="16758"/>
                  <a:pt x="24036" y="16793"/>
                </a:cubicBezTo>
                <a:cubicBezTo>
                  <a:pt x="24036" y="16844"/>
                  <a:pt x="24035" y="16863"/>
                  <a:pt x="24011" y="16892"/>
                </a:cubicBezTo>
              </a:path>
              <a:path w="3796" h="1737">
                <a:moveTo>
                  <a:pt x="24085" y="16222"/>
                </a:moveTo>
                <a:cubicBezTo>
                  <a:pt x="24144" y="16237"/>
                  <a:pt x="24158" y="16240"/>
                  <a:pt x="24234" y="16222"/>
                </a:cubicBezTo>
                <a:cubicBezTo>
                  <a:pt x="24259" y="16214"/>
                  <a:pt x="24284" y="16205"/>
                  <a:pt x="24309" y="16197"/>
                </a:cubicBezTo>
                <a:cubicBezTo>
                  <a:pt x="24349" y="16260"/>
                  <a:pt x="24379" y="16334"/>
                  <a:pt x="24309" y="16396"/>
                </a:cubicBezTo>
                <a:cubicBezTo>
                  <a:pt x="24284" y="16396"/>
                  <a:pt x="24276" y="16396"/>
                  <a:pt x="24284" y="16421"/>
                </a:cubicBezTo>
                <a:cubicBezTo>
                  <a:pt x="24366" y="16421"/>
                  <a:pt x="24430" y="16402"/>
                  <a:pt x="24507" y="16396"/>
                </a:cubicBezTo>
                <a:cubicBezTo>
                  <a:pt x="24515" y="16396"/>
                  <a:pt x="24524" y="16396"/>
                  <a:pt x="24532" y="16396"/>
                </a:cubicBezTo>
              </a:path>
              <a:path w="3796" h="1737">
                <a:moveTo>
                  <a:pt x="24160" y="16768"/>
                </a:moveTo>
                <a:cubicBezTo>
                  <a:pt x="24168" y="16760"/>
                  <a:pt x="24177" y="16751"/>
                  <a:pt x="24185" y="16743"/>
                </a:cubicBezTo>
                <a:cubicBezTo>
                  <a:pt x="24196" y="16779"/>
                  <a:pt x="24198" y="16779"/>
                  <a:pt x="24209" y="16743"/>
                </a:cubicBezTo>
                <a:cubicBezTo>
                  <a:pt x="24280" y="16743"/>
                  <a:pt x="24284" y="16744"/>
                  <a:pt x="24333" y="16793"/>
                </a:cubicBezTo>
                <a:cubicBezTo>
                  <a:pt x="24376" y="16836"/>
                  <a:pt x="24402" y="16886"/>
                  <a:pt x="24408" y="16942"/>
                </a:cubicBezTo>
                <a:cubicBezTo>
                  <a:pt x="24408" y="16950"/>
                  <a:pt x="24408" y="16958"/>
                  <a:pt x="24408" y="16966"/>
                </a:cubicBezTo>
              </a:path>
              <a:path w="3796" h="1737">
                <a:moveTo>
                  <a:pt x="21530" y="17562"/>
                </a:moveTo>
                <a:cubicBezTo>
                  <a:pt x="21665" y="17535"/>
                  <a:pt x="21794" y="17498"/>
                  <a:pt x="21927" y="17462"/>
                </a:cubicBezTo>
                <a:cubicBezTo>
                  <a:pt x="22177" y="17395"/>
                  <a:pt x="22442" y="17341"/>
                  <a:pt x="22696" y="17289"/>
                </a:cubicBezTo>
                <a:cubicBezTo>
                  <a:pt x="22962" y="17235"/>
                  <a:pt x="23225" y="17207"/>
                  <a:pt x="23490" y="17165"/>
                </a:cubicBezTo>
                <a:cubicBezTo>
                  <a:pt x="23664" y="17138"/>
                  <a:pt x="23837" y="17103"/>
                  <a:pt x="24011" y="17090"/>
                </a:cubicBezTo>
                <a:cubicBezTo>
                  <a:pt x="24161" y="17079"/>
                  <a:pt x="24084" y="17083"/>
                  <a:pt x="24185" y="17041"/>
                </a:cubicBezTo>
                <a:cubicBezTo>
                  <a:pt x="24258" y="17010"/>
                  <a:pt x="24356" y="16956"/>
                  <a:pt x="24433" y="16942"/>
                </a:cubicBezTo>
                <a:cubicBezTo>
                  <a:pt x="24501" y="16930"/>
                  <a:pt x="24586" y="16942"/>
                  <a:pt x="24656" y="16942"/>
                </a:cubicBezTo>
                <a:cubicBezTo>
                  <a:pt x="24668" y="16886"/>
                  <a:pt x="24670" y="16825"/>
                  <a:pt x="24681" y="16768"/>
                </a:cubicBezTo>
                <a:cubicBezTo>
                  <a:pt x="24697" y="16682"/>
                  <a:pt x="24723" y="16584"/>
                  <a:pt x="24730" y="16495"/>
                </a:cubicBezTo>
                <a:cubicBezTo>
                  <a:pt x="24738" y="16401"/>
                  <a:pt x="24748" y="16315"/>
                  <a:pt x="24755" y="16222"/>
                </a:cubicBezTo>
                <a:cubicBezTo>
                  <a:pt x="24760" y="16158"/>
                  <a:pt x="24786" y="15936"/>
                  <a:pt x="24730" y="15900"/>
                </a:cubicBezTo>
                <a:cubicBezTo>
                  <a:pt x="24693" y="15876"/>
                  <a:pt x="24693" y="15867"/>
                  <a:pt x="24606" y="15875"/>
                </a:cubicBezTo>
                <a:cubicBezTo>
                  <a:pt x="24490" y="15885"/>
                  <a:pt x="24345" y="15936"/>
                  <a:pt x="24234" y="15974"/>
                </a:cubicBezTo>
                <a:cubicBezTo>
                  <a:pt x="24147" y="16004"/>
                  <a:pt x="24045" y="16067"/>
                  <a:pt x="23986" y="16098"/>
                </a:cubicBezTo>
                <a:cubicBezTo>
                  <a:pt x="23901" y="16143"/>
                  <a:pt x="23836" y="16194"/>
                  <a:pt x="23738" y="16222"/>
                </a:cubicBezTo>
                <a:cubicBezTo>
                  <a:pt x="23659" y="16245"/>
                  <a:pt x="23567" y="16251"/>
                  <a:pt x="23490" y="16272"/>
                </a:cubicBezTo>
                <a:cubicBezTo>
                  <a:pt x="23380" y="16303"/>
                  <a:pt x="23279" y="16320"/>
                  <a:pt x="23168" y="16346"/>
                </a:cubicBezTo>
                <a:cubicBezTo>
                  <a:pt x="23032" y="16378"/>
                  <a:pt x="22913" y="16406"/>
                  <a:pt x="22771" y="16396"/>
                </a:cubicBezTo>
                <a:cubicBezTo>
                  <a:pt x="22669" y="16389"/>
                  <a:pt x="22573" y="16354"/>
                  <a:pt x="22473" y="16346"/>
                </a:cubicBezTo>
                <a:cubicBezTo>
                  <a:pt x="22360" y="16337"/>
                  <a:pt x="22260" y="16369"/>
                  <a:pt x="22151" y="16396"/>
                </a:cubicBezTo>
                <a:cubicBezTo>
                  <a:pt x="22005" y="16433"/>
                  <a:pt x="21854" y="16440"/>
                  <a:pt x="21704" y="16470"/>
                </a:cubicBezTo>
                <a:cubicBezTo>
                  <a:pt x="21578" y="16496"/>
                  <a:pt x="21456" y="16515"/>
                  <a:pt x="21332" y="16545"/>
                </a:cubicBezTo>
                <a:cubicBezTo>
                  <a:pt x="21246" y="16565"/>
                  <a:pt x="21166" y="16596"/>
                  <a:pt x="21084" y="16619"/>
                </a:cubicBezTo>
                <a:cubicBezTo>
                  <a:pt x="21043" y="16631"/>
                  <a:pt x="21001" y="16634"/>
                  <a:pt x="20960" y="16644"/>
                </a:cubicBezTo>
                <a:cubicBezTo>
                  <a:pt x="20997" y="16779"/>
                  <a:pt x="21027" y="16937"/>
                  <a:pt x="21084" y="17066"/>
                </a:cubicBezTo>
                <a:cubicBezTo>
                  <a:pt x="21154" y="17225"/>
                  <a:pt x="21210" y="17371"/>
                  <a:pt x="21258" y="17537"/>
                </a:cubicBezTo>
                <a:cubicBezTo>
                  <a:pt x="21266" y="17565"/>
                  <a:pt x="21274" y="17584"/>
                  <a:pt x="21282" y="17611"/>
                </a:cubicBezTo>
                <a:cubicBezTo>
                  <a:pt x="21387" y="17588"/>
                  <a:pt x="21497" y="17561"/>
                  <a:pt x="21605" y="17537"/>
                </a:cubicBezTo>
                <a:cubicBezTo>
                  <a:pt x="21613" y="17537"/>
                  <a:pt x="21622" y="17537"/>
                  <a:pt x="21630" y="175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2500200" y="5929200"/>
            <a:ext cx="27000" cy="366840"/>
          </a:xfrm>
          <a:custGeom>
            <a:avLst/>
            <a:gdLst/>
            <a:ahLst/>
            <a:rect l="l" t="t" r="r" b="b"/>
            <a:pathLst>
              <a:path w="76" h="1018">
                <a:moveTo>
                  <a:pt x="7020" y="17462"/>
                </a:moveTo>
                <a:cubicBezTo>
                  <a:pt x="7020" y="17525"/>
                  <a:pt x="6976" y="17354"/>
                  <a:pt x="6970" y="17338"/>
                </a:cubicBezTo>
              </a:path>
              <a:path w="76" h="1018">
                <a:moveTo>
                  <a:pt x="6945" y="17190"/>
                </a:moveTo>
                <a:cubicBezTo>
                  <a:pt x="6945" y="17182"/>
                  <a:pt x="6945" y="17173"/>
                  <a:pt x="6945" y="17165"/>
                </a:cubicBezTo>
              </a:path>
              <a:path w="76" h="1018">
                <a:moveTo>
                  <a:pt x="6995" y="17041"/>
                </a:moveTo>
                <a:cubicBezTo>
                  <a:pt x="6995" y="17016"/>
                  <a:pt x="6995" y="17008"/>
                  <a:pt x="6995" y="16991"/>
                </a:cubicBezTo>
              </a:path>
              <a:path w="76" h="1018">
                <a:moveTo>
                  <a:pt x="6995" y="16793"/>
                </a:moveTo>
                <a:lnTo>
                  <a:pt x="6995" y="16793"/>
                </a:lnTo>
              </a:path>
              <a:path w="76" h="1018">
                <a:moveTo>
                  <a:pt x="6995" y="16669"/>
                </a:moveTo>
                <a:cubicBezTo>
                  <a:pt x="6995" y="16661"/>
                  <a:pt x="6995" y="16652"/>
                  <a:pt x="6995" y="16644"/>
                </a:cubicBezTo>
              </a:path>
              <a:path w="76" h="1018">
                <a:moveTo>
                  <a:pt x="7020" y="16470"/>
                </a:moveTo>
                <a:lnTo>
                  <a:pt x="7020" y="16470"/>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a:off x="2517840" y="4964040"/>
            <a:ext cx="108000" cy="866880"/>
          </a:xfrm>
          <a:custGeom>
            <a:avLst/>
            <a:gdLst/>
            <a:ahLst/>
            <a:rect l="l" t="t" r="r" b="b"/>
            <a:pathLst>
              <a:path w="299" h="2407">
                <a:moveTo>
                  <a:pt x="6995" y="16197"/>
                </a:moveTo>
                <a:lnTo>
                  <a:pt x="6995" y="16197"/>
                </a:lnTo>
                <a:lnTo>
                  <a:pt x="6995" y="16197"/>
                </a:lnTo>
              </a:path>
              <a:path w="299" h="2407">
                <a:moveTo>
                  <a:pt x="7020" y="16073"/>
                </a:moveTo>
                <a:lnTo>
                  <a:pt x="7020" y="16073"/>
                </a:lnTo>
                <a:lnTo>
                  <a:pt x="7020" y="16073"/>
                </a:lnTo>
              </a:path>
              <a:path w="299" h="2407">
                <a:moveTo>
                  <a:pt x="7020" y="16073"/>
                </a:moveTo>
                <a:lnTo>
                  <a:pt x="7020" y="16073"/>
                </a:lnTo>
              </a:path>
              <a:path w="299" h="2407">
                <a:moveTo>
                  <a:pt x="7020" y="15875"/>
                </a:moveTo>
                <a:cubicBezTo>
                  <a:pt x="7020" y="15867"/>
                  <a:pt x="7020" y="15858"/>
                  <a:pt x="7020" y="15850"/>
                </a:cubicBezTo>
              </a:path>
              <a:path w="299" h="2407">
                <a:moveTo>
                  <a:pt x="7045" y="15677"/>
                </a:moveTo>
                <a:lnTo>
                  <a:pt x="7045" y="15677"/>
                </a:lnTo>
              </a:path>
              <a:path w="299" h="2407">
                <a:moveTo>
                  <a:pt x="7045" y="15503"/>
                </a:moveTo>
                <a:cubicBezTo>
                  <a:pt x="7037" y="15495"/>
                  <a:pt x="7028" y="15486"/>
                  <a:pt x="7020" y="15478"/>
                </a:cubicBezTo>
              </a:path>
              <a:path w="299" h="2407">
                <a:moveTo>
                  <a:pt x="7020" y="15478"/>
                </a:moveTo>
                <a:lnTo>
                  <a:pt x="7020" y="15478"/>
                </a:lnTo>
              </a:path>
              <a:path w="299" h="2407">
                <a:moveTo>
                  <a:pt x="7045" y="15280"/>
                </a:moveTo>
                <a:cubicBezTo>
                  <a:pt x="7012" y="15280"/>
                  <a:pt x="7003" y="15272"/>
                  <a:pt x="7020" y="15230"/>
                </a:cubicBezTo>
              </a:path>
              <a:path w="299" h="2407">
                <a:moveTo>
                  <a:pt x="7020" y="15106"/>
                </a:moveTo>
                <a:lnTo>
                  <a:pt x="7020" y="15106"/>
                </a:lnTo>
              </a:path>
              <a:path w="299" h="2407">
                <a:moveTo>
                  <a:pt x="7045" y="15056"/>
                </a:moveTo>
                <a:lnTo>
                  <a:pt x="7045" y="15056"/>
                </a:lnTo>
                <a:lnTo>
                  <a:pt x="7045" y="15056"/>
                </a:lnTo>
              </a:path>
              <a:path w="299" h="2407">
                <a:moveTo>
                  <a:pt x="7045" y="15056"/>
                </a:moveTo>
                <a:lnTo>
                  <a:pt x="7045" y="15056"/>
                </a:lnTo>
              </a:path>
              <a:path w="299" h="2407">
                <a:moveTo>
                  <a:pt x="7094" y="14908"/>
                </a:moveTo>
                <a:cubicBezTo>
                  <a:pt x="7094" y="14900"/>
                  <a:pt x="7094" y="14891"/>
                  <a:pt x="7094" y="14883"/>
                </a:cubicBezTo>
              </a:path>
              <a:path w="299" h="2407">
                <a:moveTo>
                  <a:pt x="7094" y="14709"/>
                </a:moveTo>
                <a:lnTo>
                  <a:pt x="7094" y="14709"/>
                </a:lnTo>
              </a:path>
              <a:path w="299" h="2407">
                <a:moveTo>
                  <a:pt x="7094" y="14585"/>
                </a:moveTo>
                <a:cubicBezTo>
                  <a:pt x="7094" y="14577"/>
                  <a:pt x="7094" y="14568"/>
                  <a:pt x="7094" y="14560"/>
                </a:cubicBezTo>
              </a:path>
              <a:path w="299" h="2407">
                <a:moveTo>
                  <a:pt x="7094" y="14560"/>
                </a:moveTo>
                <a:lnTo>
                  <a:pt x="7094" y="14560"/>
                </a:lnTo>
              </a:path>
              <a:path w="299" h="2407">
                <a:moveTo>
                  <a:pt x="7144" y="14362"/>
                </a:moveTo>
                <a:cubicBezTo>
                  <a:pt x="7136" y="14362"/>
                  <a:pt x="7127" y="14362"/>
                  <a:pt x="7119" y="14362"/>
                </a:cubicBezTo>
              </a:path>
              <a:path w="299" h="2407">
                <a:moveTo>
                  <a:pt x="7094" y="14188"/>
                </a:moveTo>
                <a:lnTo>
                  <a:pt x="7094" y="14188"/>
                </a:lnTo>
              </a:path>
              <a:path w="299" h="2407">
                <a:moveTo>
                  <a:pt x="7094" y="14089"/>
                </a:moveTo>
                <a:lnTo>
                  <a:pt x="7094" y="14089"/>
                </a:lnTo>
                <a:lnTo>
                  <a:pt x="7094" y="14089"/>
                </a:lnTo>
              </a:path>
              <a:path w="299" h="2407">
                <a:moveTo>
                  <a:pt x="7094" y="14089"/>
                </a:moveTo>
                <a:lnTo>
                  <a:pt x="7094" y="14089"/>
                </a:lnTo>
              </a:path>
              <a:path w="299" h="2407">
                <a:moveTo>
                  <a:pt x="7144" y="14015"/>
                </a:moveTo>
                <a:cubicBezTo>
                  <a:pt x="7144" y="14007"/>
                  <a:pt x="7144" y="13998"/>
                  <a:pt x="7144" y="13990"/>
                </a:cubicBezTo>
              </a:path>
              <a:path w="299" h="2407">
                <a:moveTo>
                  <a:pt x="7144" y="13940"/>
                </a:moveTo>
                <a:cubicBezTo>
                  <a:pt x="7144" y="13932"/>
                  <a:pt x="7144" y="13923"/>
                  <a:pt x="7144" y="13915"/>
                </a:cubicBezTo>
              </a:path>
              <a:path w="299" h="2407">
                <a:moveTo>
                  <a:pt x="7144" y="13891"/>
                </a:moveTo>
                <a:lnTo>
                  <a:pt x="7144" y="13891"/>
                </a:lnTo>
              </a:path>
              <a:path w="299" h="2407">
                <a:moveTo>
                  <a:pt x="7169" y="13866"/>
                </a:moveTo>
                <a:lnTo>
                  <a:pt x="7169" y="13866"/>
                </a:lnTo>
              </a:path>
              <a:path w="299" h="2407">
                <a:moveTo>
                  <a:pt x="7169" y="13791"/>
                </a:moveTo>
                <a:lnTo>
                  <a:pt x="7169" y="13791"/>
                </a:lnTo>
              </a:path>
              <a:path w="299" h="2407">
                <a:moveTo>
                  <a:pt x="7293" y="13866"/>
                </a:moveTo>
                <a:lnTo>
                  <a:pt x="7293" y="13866"/>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4">
                                  <p:stCondLst>
                                    <p:cond delay="0"/>
                                  </p:stCondLst>
                                  <p:childTnLst>
                                    <p:set>
                                      <p:cBhvr>
                                        <p:cTn id="177" dur="1" fill="hold">
                                          <p:stCondLst>
                                            <p:cond delay="0"/>
                                          </p:stCondLst>
                                        </p:cTn>
                                        <p:tgtEl>
                                          <p:spTgt spid="126"/>
                                        </p:tgtEl>
                                        <p:attrNameLst>
                                          <p:attrName>style.visibility</p:attrName>
                                        </p:attrNameLst>
                                      </p:cBhvr>
                                      <p:to>
                                        <p:strVal val="visible"/>
                                      </p:to>
                                    </p:set>
                                    <p:anim calcmode="lin" valueType="num" from="(-#ppt_w/2)" to="(#ppt_x)">
                                      <p:cBhvr additive="repl">
                                        <p:cTn id="178" dur="600" fill="hold">
                                          <p:stCondLst>
                                            <p:cond delay="0"/>
                                          </p:stCondLst>
                                        </p:cTn>
                                        <p:tgtEl>
                                          <p:spTgt spid="126"/>
                                        </p:tgtEl>
                                        <p:attrNameLst>
                                          <p:attrName>ppt_x</p:attrName>
                                        </p:attrNameLst>
                                      </p:cBhvr>
                                    </p:anim>
                                    <p:anim calcmode="lin" valueType="num" from="0" to="-1">
                                      <p:cBhvr additive="repl">
                                        <p:cTn id="179" dur="200" autoRev="1" fill="hold">
                                          <p:stCondLst>
                                            <p:cond delay="600"/>
                                          </p:stCondLst>
                                        </p:cTn>
                                        <p:tgtEl>
                                          <p:spTgt spid="126"/>
                                        </p:tgtEl>
                                        <p:attrNameLst>
                                          <p:attrName>xshear</p:attrName>
                                        </p:attrNameLst>
                                      </p:cBhvr>
                                    </p:anim>
                                    <p:animScale>
                                      <p:cBhvr>
                                        <p:cTn id="180" dur="200" autoRev="1" fill="hold">
                                          <p:stCondLst>
                                            <p:cond delay="600"/>
                                          </p:stCondLst>
                                        </p:cTn>
                                        <p:tgtEl>
                                          <p:spTgt spid="126"/>
                                        </p:tgtEl>
                                      </p:cBhvr>
                                      <p:from x="100000" y="100000"/>
                                      <p:to x="80000" y="100000"/>
                                    </p:animScale>
                                    <p:anim calcmode="lin" valueType="num" by="(#ppt_h/3+#ppt_w*0.1)">
                                      <p:cBhvr additive="sum">
                                        <p:cTn id="181" dur="200" autoRev="1" fill="hold">
                                          <p:stCondLst>
                                            <p:cond delay="600"/>
                                          </p:stCondLst>
                                        </p:cTn>
                                        <p:tgtEl>
                                          <p:spTgt spid="126"/>
                                        </p:tgtEl>
                                        <p:attrNameLst>
                                          <p:attrName>ppt_x</p:attrName>
                                        </p:attrNameLst>
                                      </p:cBhvr>
                                    </p:anim>
                                  </p:childTnLst>
                                </p:cTn>
                              </p:par>
                              <p:par>
                                <p:cTn id="182" nodeType="withEffect" fill="hold" presetClass="entr" presetID="34">
                                  <p:stCondLst>
                                    <p:cond delay="0"/>
                                  </p:stCondLst>
                                  <p:childTnLst>
                                    <p:set>
                                      <p:cBhvr>
                                        <p:cTn id="183" dur="1" fill="hold">
                                          <p:stCondLst>
                                            <p:cond delay="0"/>
                                          </p:stCondLst>
                                        </p:cTn>
                                        <p:tgtEl>
                                          <p:spTgt spid="127"/>
                                        </p:tgtEl>
                                        <p:attrNameLst>
                                          <p:attrName>style.visibility</p:attrName>
                                        </p:attrNameLst>
                                      </p:cBhvr>
                                      <p:to>
                                        <p:strVal val="visible"/>
                                      </p:to>
                                    </p:set>
                                    <p:anim calcmode="lin" valueType="num" from="(-#ppt_w/2)" to="(#ppt_x)">
                                      <p:cBhvr additive="repl">
                                        <p:cTn id="184" dur="600" fill="hold">
                                          <p:stCondLst>
                                            <p:cond delay="0"/>
                                          </p:stCondLst>
                                        </p:cTn>
                                        <p:tgtEl>
                                          <p:spTgt spid="127"/>
                                        </p:tgtEl>
                                        <p:attrNameLst>
                                          <p:attrName>ppt_x</p:attrName>
                                        </p:attrNameLst>
                                      </p:cBhvr>
                                    </p:anim>
                                    <p:anim calcmode="lin" valueType="num" from="0" to="-1">
                                      <p:cBhvr additive="repl">
                                        <p:cTn id="185" dur="200" autoRev="1" fill="hold">
                                          <p:stCondLst>
                                            <p:cond delay="600"/>
                                          </p:stCondLst>
                                        </p:cTn>
                                        <p:tgtEl>
                                          <p:spTgt spid="127"/>
                                        </p:tgtEl>
                                        <p:attrNameLst>
                                          <p:attrName>xshear</p:attrName>
                                        </p:attrNameLst>
                                      </p:cBhvr>
                                    </p:anim>
                                    <p:animScale>
                                      <p:cBhvr>
                                        <p:cTn id="186" dur="200" autoRev="1" fill="hold">
                                          <p:stCondLst>
                                            <p:cond delay="600"/>
                                          </p:stCondLst>
                                        </p:cTn>
                                        <p:tgtEl>
                                          <p:spTgt spid="127"/>
                                        </p:tgtEl>
                                      </p:cBhvr>
                                      <p:from x="100000" y="100000"/>
                                      <p:to x="80000" y="100000"/>
                                    </p:animScale>
                                    <p:anim calcmode="lin" valueType="num" by="(#ppt_h/3+#ppt_w*0.1)">
                                      <p:cBhvr additive="sum">
                                        <p:cTn id="187" dur="200" autoRev="1" fill="hold">
                                          <p:stCondLst>
                                            <p:cond delay="600"/>
                                          </p:stCondLst>
                                        </p:cTn>
                                        <p:tgtEl>
                                          <p:spTgt spid="127"/>
                                        </p:tgtEl>
                                        <p:attrNameLst>
                                          <p:attrName>ppt_x</p:attrName>
                                        </p:attrNameLst>
                                      </p:cBhvr>
                                    </p:anim>
                                  </p:childTnLst>
                                </p:cTn>
                              </p:par>
                              <p:par>
                                <p:cTn id="188" nodeType="withEffect" fill="hold" presetClass="entr" presetID="34">
                                  <p:stCondLst>
                                    <p:cond delay="0"/>
                                  </p:stCondLst>
                                  <p:childTnLst>
                                    <p:set>
                                      <p:cBhvr>
                                        <p:cTn id="189" dur="1" fill="hold">
                                          <p:stCondLst>
                                            <p:cond delay="0"/>
                                          </p:stCondLst>
                                        </p:cTn>
                                        <p:tgtEl>
                                          <p:spTgt spid="134"/>
                                        </p:tgtEl>
                                        <p:attrNameLst>
                                          <p:attrName>style.visibility</p:attrName>
                                        </p:attrNameLst>
                                      </p:cBhvr>
                                      <p:to>
                                        <p:strVal val="visible"/>
                                      </p:to>
                                    </p:set>
                                    <p:anim calcmode="lin" valueType="num" from="(-#ppt_w/2)" to="(#ppt_x)">
                                      <p:cBhvr additive="repl">
                                        <p:cTn id="190" dur="600" fill="hold">
                                          <p:stCondLst>
                                            <p:cond delay="0"/>
                                          </p:stCondLst>
                                        </p:cTn>
                                        <p:tgtEl>
                                          <p:spTgt spid="134"/>
                                        </p:tgtEl>
                                        <p:attrNameLst>
                                          <p:attrName>ppt_x</p:attrName>
                                        </p:attrNameLst>
                                      </p:cBhvr>
                                    </p:anim>
                                    <p:anim calcmode="lin" valueType="num" from="0" to="-1">
                                      <p:cBhvr additive="repl">
                                        <p:cTn id="191" dur="200" autoRev="1" fill="hold">
                                          <p:stCondLst>
                                            <p:cond delay="600"/>
                                          </p:stCondLst>
                                        </p:cTn>
                                        <p:tgtEl>
                                          <p:spTgt spid="134"/>
                                        </p:tgtEl>
                                        <p:attrNameLst>
                                          <p:attrName>xshear</p:attrName>
                                        </p:attrNameLst>
                                      </p:cBhvr>
                                    </p:anim>
                                    <p:animScale>
                                      <p:cBhvr>
                                        <p:cTn id="192" dur="200" autoRev="1" fill="hold">
                                          <p:stCondLst>
                                            <p:cond delay="600"/>
                                          </p:stCondLst>
                                        </p:cTn>
                                        <p:tgtEl>
                                          <p:spTgt spid="134"/>
                                        </p:tgtEl>
                                      </p:cBhvr>
                                      <p:from x="100000" y="100000"/>
                                      <p:to x="80000" y="100000"/>
                                    </p:animScale>
                                    <p:anim calcmode="lin" valueType="num" by="(#ppt_h/3+#ppt_w*0.1)">
                                      <p:cBhvr additive="sum">
                                        <p:cTn id="193" dur="200" autoRev="1" fill="hold">
                                          <p:stCondLst>
                                            <p:cond delay="600"/>
                                          </p:stCondLst>
                                        </p:cTn>
                                        <p:tgtEl>
                                          <p:spTgt spid="134"/>
                                        </p:tgtEl>
                                        <p:attrNameLst>
                                          <p:attrName>ppt_x</p:attrName>
                                        </p:attrNameLst>
                                      </p:cBhvr>
                                    </p:anim>
                                  </p:childTnLst>
                                </p:cTn>
                              </p:par>
                              <p:par>
                                <p:cTn id="194" nodeType="withEffect" fill="hold" presetClass="entr" presetID="34">
                                  <p:stCondLst>
                                    <p:cond delay="0"/>
                                  </p:stCondLst>
                                  <p:childTnLst>
                                    <p:set>
                                      <p:cBhvr>
                                        <p:cTn id="195" dur="1" fill="hold">
                                          <p:stCondLst>
                                            <p:cond delay="0"/>
                                          </p:stCondLst>
                                        </p:cTn>
                                        <p:tgtEl>
                                          <p:spTgt spid="135"/>
                                        </p:tgtEl>
                                        <p:attrNameLst>
                                          <p:attrName>style.visibility</p:attrName>
                                        </p:attrNameLst>
                                      </p:cBhvr>
                                      <p:to>
                                        <p:strVal val="visible"/>
                                      </p:to>
                                    </p:set>
                                    <p:anim calcmode="lin" valueType="num" from="(-#ppt_w/2)" to="(#ppt_x)">
                                      <p:cBhvr additive="repl">
                                        <p:cTn id="196" dur="600" fill="hold">
                                          <p:stCondLst>
                                            <p:cond delay="0"/>
                                          </p:stCondLst>
                                        </p:cTn>
                                        <p:tgtEl>
                                          <p:spTgt spid="135"/>
                                        </p:tgtEl>
                                        <p:attrNameLst>
                                          <p:attrName>ppt_x</p:attrName>
                                        </p:attrNameLst>
                                      </p:cBhvr>
                                    </p:anim>
                                    <p:anim calcmode="lin" valueType="num" from="0" to="-1">
                                      <p:cBhvr additive="repl">
                                        <p:cTn id="197" dur="200" autoRev="1" fill="hold">
                                          <p:stCondLst>
                                            <p:cond delay="600"/>
                                          </p:stCondLst>
                                        </p:cTn>
                                        <p:tgtEl>
                                          <p:spTgt spid="135"/>
                                        </p:tgtEl>
                                        <p:attrNameLst>
                                          <p:attrName>xshear</p:attrName>
                                        </p:attrNameLst>
                                      </p:cBhvr>
                                    </p:anim>
                                    <p:animScale>
                                      <p:cBhvr>
                                        <p:cTn id="198" dur="200" autoRev="1" fill="hold">
                                          <p:stCondLst>
                                            <p:cond delay="600"/>
                                          </p:stCondLst>
                                        </p:cTn>
                                        <p:tgtEl>
                                          <p:spTgt spid="135"/>
                                        </p:tgtEl>
                                      </p:cBhvr>
                                      <p:from x="100000" y="100000"/>
                                      <p:to x="80000" y="100000"/>
                                    </p:animScale>
                                    <p:anim calcmode="lin" valueType="num" by="(#ppt_h/3+#ppt_w*0.1)">
                                      <p:cBhvr additive="sum">
                                        <p:cTn id="199" dur="200" autoRev="1" fill="hold">
                                          <p:stCondLst>
                                            <p:cond delay="600"/>
                                          </p:stCondLst>
                                        </p:cTn>
                                        <p:tgtEl>
                                          <p:spTgt spid="135"/>
                                        </p:tgtEl>
                                        <p:attrNameLst>
                                          <p:attrName>ppt_x</p:attrName>
                                        </p:attrNameLst>
                                      </p:cBhvr>
                                    </p:anim>
                                  </p:childTnLst>
                                </p:cTn>
                              </p:par>
                              <p:par>
                                <p:cTn id="200" nodeType="withEffect" fill="hold" presetClass="entr" presetID="34">
                                  <p:stCondLst>
                                    <p:cond delay="0"/>
                                  </p:stCondLst>
                                  <p:childTnLst>
                                    <p:set>
                                      <p:cBhvr>
                                        <p:cTn id="201" dur="1" fill="hold">
                                          <p:stCondLst>
                                            <p:cond delay="0"/>
                                          </p:stCondLst>
                                        </p:cTn>
                                        <p:tgtEl>
                                          <p:spTgt spid="123"/>
                                        </p:tgtEl>
                                        <p:attrNameLst>
                                          <p:attrName>style.visibility</p:attrName>
                                        </p:attrNameLst>
                                      </p:cBhvr>
                                      <p:to>
                                        <p:strVal val="visible"/>
                                      </p:to>
                                    </p:set>
                                    <p:anim calcmode="lin" valueType="num" from="(-#ppt_w/2)" to="(#ppt_x)">
                                      <p:cBhvr additive="repl">
                                        <p:cTn id="202" dur="600" fill="hold">
                                          <p:stCondLst>
                                            <p:cond delay="0"/>
                                          </p:stCondLst>
                                        </p:cTn>
                                        <p:tgtEl>
                                          <p:spTgt spid="123"/>
                                        </p:tgtEl>
                                        <p:attrNameLst>
                                          <p:attrName>ppt_x</p:attrName>
                                        </p:attrNameLst>
                                      </p:cBhvr>
                                    </p:anim>
                                    <p:anim calcmode="lin" valueType="num" from="0" to="-1">
                                      <p:cBhvr additive="repl">
                                        <p:cTn id="203" dur="200" autoRev="1" fill="hold">
                                          <p:stCondLst>
                                            <p:cond delay="600"/>
                                          </p:stCondLst>
                                        </p:cTn>
                                        <p:tgtEl>
                                          <p:spTgt spid="123"/>
                                        </p:tgtEl>
                                        <p:attrNameLst>
                                          <p:attrName>xshear</p:attrName>
                                        </p:attrNameLst>
                                      </p:cBhvr>
                                    </p:anim>
                                    <p:animScale>
                                      <p:cBhvr>
                                        <p:cTn id="204" dur="200" autoRev="1" fill="hold">
                                          <p:stCondLst>
                                            <p:cond delay="600"/>
                                          </p:stCondLst>
                                        </p:cTn>
                                        <p:tgtEl>
                                          <p:spTgt spid="123"/>
                                        </p:tgtEl>
                                      </p:cBhvr>
                                      <p:from x="100000" y="100000"/>
                                      <p:to x="80000" y="100000"/>
                                    </p:animScale>
                                    <p:anim calcmode="lin" valueType="num" by="(#ppt_h/3+#ppt_w*0.1)">
                                      <p:cBhvr additive="sum">
                                        <p:cTn id="205" dur="200" autoRev="1" fill="hold">
                                          <p:stCondLst>
                                            <p:cond delay="600"/>
                                          </p:stCondLst>
                                        </p:cTn>
                                        <p:tgtEl>
                                          <p:spTgt spid="123"/>
                                        </p:tgtEl>
                                        <p:attrNameLst>
                                          <p:attrName>ppt_x</p:attrName>
                                        </p:attrNameLst>
                                      </p:cBhvr>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4">
                                  <p:stCondLst>
                                    <p:cond delay="0"/>
                                  </p:stCondLst>
                                  <p:childTnLst>
                                    <p:set>
                                      <p:cBhvr>
                                        <p:cTn id="209" dur="1" fill="hold">
                                          <p:stCondLst>
                                            <p:cond delay="0"/>
                                          </p:stCondLst>
                                        </p:cTn>
                                        <p:tgtEl>
                                          <p:spTgt spid="129"/>
                                        </p:tgtEl>
                                        <p:attrNameLst>
                                          <p:attrName>style.visibility</p:attrName>
                                        </p:attrNameLst>
                                      </p:cBhvr>
                                      <p:to>
                                        <p:strVal val="visible"/>
                                      </p:to>
                                    </p:set>
                                    <p:anim calcmode="lin" valueType="num" from="(-#ppt_w/2)" to="(#ppt_x)">
                                      <p:cBhvr additive="repl">
                                        <p:cTn id="210" dur="600" fill="hold">
                                          <p:stCondLst>
                                            <p:cond delay="0"/>
                                          </p:stCondLst>
                                        </p:cTn>
                                        <p:tgtEl>
                                          <p:spTgt spid="129"/>
                                        </p:tgtEl>
                                        <p:attrNameLst>
                                          <p:attrName>ppt_x</p:attrName>
                                        </p:attrNameLst>
                                      </p:cBhvr>
                                    </p:anim>
                                    <p:anim calcmode="lin" valueType="num" from="0" to="-1">
                                      <p:cBhvr additive="repl">
                                        <p:cTn id="211" dur="200" autoRev="1" fill="hold">
                                          <p:stCondLst>
                                            <p:cond delay="600"/>
                                          </p:stCondLst>
                                        </p:cTn>
                                        <p:tgtEl>
                                          <p:spTgt spid="129"/>
                                        </p:tgtEl>
                                        <p:attrNameLst>
                                          <p:attrName>xshear</p:attrName>
                                        </p:attrNameLst>
                                      </p:cBhvr>
                                    </p:anim>
                                    <p:animScale>
                                      <p:cBhvr>
                                        <p:cTn id="212" dur="200" autoRev="1" fill="hold">
                                          <p:stCondLst>
                                            <p:cond delay="600"/>
                                          </p:stCondLst>
                                        </p:cTn>
                                        <p:tgtEl>
                                          <p:spTgt spid="129"/>
                                        </p:tgtEl>
                                      </p:cBhvr>
                                      <p:from x="100000" y="100000"/>
                                      <p:to x="80000" y="100000"/>
                                    </p:animScale>
                                    <p:anim calcmode="lin" valueType="num" by="(#ppt_h/3+#ppt_w*0.1)">
                                      <p:cBhvr additive="sum">
                                        <p:cTn id="213" dur="200" autoRev="1" fill="hold">
                                          <p:stCondLst>
                                            <p:cond delay="600"/>
                                          </p:stCondLst>
                                        </p:cTn>
                                        <p:tgtEl>
                                          <p:spTgt spid="129"/>
                                        </p:tgtEl>
                                        <p:attrNameLst>
                                          <p:attrName>ppt_x</p:attrName>
                                        </p:attrNameLst>
                                      </p:cBhvr>
                                    </p:anim>
                                  </p:childTnLst>
                                </p:cTn>
                              </p:par>
                              <p:par>
                                <p:cTn id="214" nodeType="withEffect" fill="hold" presetClass="entr" presetID="3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from="(-#ppt_w/2)" to="(#ppt_x)">
                                      <p:cBhvr additive="repl">
                                        <p:cTn id="216" dur="600" fill="hold">
                                          <p:stCondLst>
                                            <p:cond delay="0"/>
                                          </p:stCondLst>
                                        </p:cTn>
                                        <p:tgtEl>
                                          <p:spTgt spid="130"/>
                                        </p:tgtEl>
                                        <p:attrNameLst>
                                          <p:attrName>ppt_x</p:attrName>
                                        </p:attrNameLst>
                                      </p:cBhvr>
                                    </p:anim>
                                    <p:anim calcmode="lin" valueType="num" from="0" to="-1">
                                      <p:cBhvr additive="repl">
                                        <p:cTn id="217" dur="200" autoRev="1" fill="hold">
                                          <p:stCondLst>
                                            <p:cond delay="600"/>
                                          </p:stCondLst>
                                        </p:cTn>
                                        <p:tgtEl>
                                          <p:spTgt spid="130"/>
                                        </p:tgtEl>
                                        <p:attrNameLst>
                                          <p:attrName>xshear</p:attrName>
                                        </p:attrNameLst>
                                      </p:cBhvr>
                                    </p:anim>
                                    <p:animScale>
                                      <p:cBhvr>
                                        <p:cTn id="218" dur="200" autoRev="1" fill="hold">
                                          <p:stCondLst>
                                            <p:cond delay="600"/>
                                          </p:stCondLst>
                                        </p:cTn>
                                        <p:tgtEl>
                                          <p:spTgt spid="130"/>
                                        </p:tgtEl>
                                      </p:cBhvr>
                                      <p:from x="100000" y="100000"/>
                                      <p:to x="80000" y="100000"/>
                                    </p:animScale>
                                    <p:anim calcmode="lin" valueType="num" by="(#ppt_h/3+#ppt_w*0.1)">
                                      <p:cBhvr additive="sum">
                                        <p:cTn id="219" dur="200" autoRev="1" fill="hold">
                                          <p:stCondLst>
                                            <p:cond delay="600"/>
                                          </p:stCondLst>
                                        </p:cTn>
                                        <p:tgtEl>
                                          <p:spTgt spid="130"/>
                                        </p:tgtEl>
                                        <p:attrNameLst>
                                          <p:attrName>ppt_x</p:attrName>
                                        </p:attrNameLst>
                                      </p:cBhvr>
                                    </p:anim>
                                  </p:childTnLst>
                                </p:cTn>
                              </p:par>
                              <p:par>
                                <p:cTn id="220" nodeType="withEffect" fill="hold" presetClass="entr" presetID="34">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from="(-#ppt_w/2)" to="(#ppt_x)">
                                      <p:cBhvr additive="repl">
                                        <p:cTn id="222" dur="600" fill="hold">
                                          <p:stCondLst>
                                            <p:cond delay="0"/>
                                          </p:stCondLst>
                                        </p:cTn>
                                        <p:tgtEl>
                                          <p:spTgt spid="124"/>
                                        </p:tgtEl>
                                        <p:attrNameLst>
                                          <p:attrName>ppt_x</p:attrName>
                                        </p:attrNameLst>
                                      </p:cBhvr>
                                    </p:anim>
                                    <p:anim calcmode="lin" valueType="num" from="0" to="-1">
                                      <p:cBhvr additive="repl">
                                        <p:cTn id="223" dur="200" autoRev="1" fill="hold">
                                          <p:stCondLst>
                                            <p:cond delay="600"/>
                                          </p:stCondLst>
                                        </p:cTn>
                                        <p:tgtEl>
                                          <p:spTgt spid="124"/>
                                        </p:tgtEl>
                                        <p:attrNameLst>
                                          <p:attrName>xshear</p:attrName>
                                        </p:attrNameLst>
                                      </p:cBhvr>
                                    </p:anim>
                                    <p:animScale>
                                      <p:cBhvr>
                                        <p:cTn id="224" dur="200" autoRev="1" fill="hold">
                                          <p:stCondLst>
                                            <p:cond delay="600"/>
                                          </p:stCondLst>
                                        </p:cTn>
                                        <p:tgtEl>
                                          <p:spTgt spid="124"/>
                                        </p:tgtEl>
                                      </p:cBhvr>
                                      <p:from x="100000" y="100000"/>
                                      <p:to x="80000" y="100000"/>
                                    </p:animScale>
                                    <p:anim calcmode="lin" valueType="num" by="(#ppt_h/3+#ppt_w*0.1)">
                                      <p:cBhvr additive="sum">
                                        <p:cTn id="225" dur="200" autoRev="1" fill="hold">
                                          <p:stCondLst>
                                            <p:cond delay="600"/>
                                          </p:stCondLst>
                                        </p:cTn>
                                        <p:tgtEl>
                                          <p:spTgt spid="124"/>
                                        </p:tgtEl>
                                        <p:attrNameLst>
                                          <p:attrName>ppt_x</p:attrName>
                                        </p:attrNameLst>
                                      </p:cBhvr>
                                    </p:anim>
                                  </p:childTnLst>
                                </p:cTn>
                              </p:par>
                              <p:par>
                                <p:cTn id="226" nodeType="withEffect" fill="hold" presetClass="entr" presetID="34">
                                  <p:stCondLst>
                                    <p:cond delay="0"/>
                                  </p:stCondLst>
                                  <p:childTnLst>
                                    <p:set>
                                      <p:cBhvr>
                                        <p:cTn id="227" dur="1" fill="hold">
                                          <p:stCondLst>
                                            <p:cond delay="0"/>
                                          </p:stCondLst>
                                        </p:cTn>
                                        <p:tgtEl>
                                          <p:spTgt spid="136"/>
                                        </p:tgtEl>
                                        <p:attrNameLst>
                                          <p:attrName>style.visibility</p:attrName>
                                        </p:attrNameLst>
                                      </p:cBhvr>
                                      <p:to>
                                        <p:strVal val="visible"/>
                                      </p:to>
                                    </p:set>
                                    <p:anim calcmode="lin" valueType="num" from="(-#ppt_w/2)" to="(#ppt_x)">
                                      <p:cBhvr additive="repl">
                                        <p:cTn id="228" dur="600" fill="hold">
                                          <p:stCondLst>
                                            <p:cond delay="0"/>
                                          </p:stCondLst>
                                        </p:cTn>
                                        <p:tgtEl>
                                          <p:spTgt spid="136"/>
                                        </p:tgtEl>
                                        <p:attrNameLst>
                                          <p:attrName>ppt_x</p:attrName>
                                        </p:attrNameLst>
                                      </p:cBhvr>
                                    </p:anim>
                                    <p:anim calcmode="lin" valueType="num" from="0" to="-1">
                                      <p:cBhvr additive="repl">
                                        <p:cTn id="229" dur="200" autoRev="1" fill="hold">
                                          <p:stCondLst>
                                            <p:cond delay="600"/>
                                          </p:stCondLst>
                                        </p:cTn>
                                        <p:tgtEl>
                                          <p:spTgt spid="136"/>
                                        </p:tgtEl>
                                        <p:attrNameLst>
                                          <p:attrName>xshear</p:attrName>
                                        </p:attrNameLst>
                                      </p:cBhvr>
                                    </p:anim>
                                    <p:animScale>
                                      <p:cBhvr>
                                        <p:cTn id="230" dur="200" autoRev="1" fill="hold">
                                          <p:stCondLst>
                                            <p:cond delay="600"/>
                                          </p:stCondLst>
                                        </p:cTn>
                                        <p:tgtEl>
                                          <p:spTgt spid="136"/>
                                        </p:tgtEl>
                                      </p:cBhvr>
                                      <p:from x="100000" y="100000"/>
                                      <p:to x="80000" y="100000"/>
                                    </p:animScale>
                                    <p:anim calcmode="lin" valueType="num" by="(#ppt_h/3+#ppt_w*0.1)">
                                      <p:cBhvr additive="sum">
                                        <p:cTn id="231" dur="200" autoRev="1" fill="hold">
                                          <p:stCondLst>
                                            <p:cond delay="600"/>
                                          </p:stCondLst>
                                        </p:cTn>
                                        <p:tgtEl>
                                          <p:spTgt spid="136"/>
                                        </p:tgtEl>
                                        <p:attrNameLst>
                                          <p:attrName>ppt_x</p:attrName>
                                        </p:attrNameLst>
                                      </p:cBhvr>
                                    </p:anim>
                                  </p:childTnLst>
                                </p:cTn>
                              </p:par>
                              <p:par>
                                <p:cTn id="232" nodeType="withEffect" fill="hold" presetClass="entr" presetID="34">
                                  <p:stCondLst>
                                    <p:cond delay="0"/>
                                  </p:stCondLst>
                                  <p:childTnLst>
                                    <p:set>
                                      <p:cBhvr>
                                        <p:cTn id="233" dur="1" fill="hold">
                                          <p:stCondLst>
                                            <p:cond delay="0"/>
                                          </p:stCondLst>
                                        </p:cTn>
                                        <p:tgtEl>
                                          <p:spTgt spid="137"/>
                                        </p:tgtEl>
                                        <p:attrNameLst>
                                          <p:attrName>style.visibility</p:attrName>
                                        </p:attrNameLst>
                                      </p:cBhvr>
                                      <p:to>
                                        <p:strVal val="visible"/>
                                      </p:to>
                                    </p:set>
                                    <p:anim calcmode="lin" valueType="num" from="(-#ppt_w/2)" to="(#ppt_x)">
                                      <p:cBhvr additive="repl">
                                        <p:cTn id="234" dur="600" fill="hold">
                                          <p:stCondLst>
                                            <p:cond delay="0"/>
                                          </p:stCondLst>
                                        </p:cTn>
                                        <p:tgtEl>
                                          <p:spTgt spid="137"/>
                                        </p:tgtEl>
                                        <p:attrNameLst>
                                          <p:attrName>ppt_x</p:attrName>
                                        </p:attrNameLst>
                                      </p:cBhvr>
                                    </p:anim>
                                    <p:anim calcmode="lin" valueType="num" from="0" to="-1">
                                      <p:cBhvr additive="repl">
                                        <p:cTn id="235" dur="200" autoRev="1" fill="hold">
                                          <p:stCondLst>
                                            <p:cond delay="600"/>
                                          </p:stCondLst>
                                        </p:cTn>
                                        <p:tgtEl>
                                          <p:spTgt spid="137"/>
                                        </p:tgtEl>
                                        <p:attrNameLst>
                                          <p:attrName>xshear</p:attrName>
                                        </p:attrNameLst>
                                      </p:cBhvr>
                                    </p:anim>
                                    <p:animScale>
                                      <p:cBhvr>
                                        <p:cTn id="236" dur="200" autoRev="1" fill="hold">
                                          <p:stCondLst>
                                            <p:cond delay="600"/>
                                          </p:stCondLst>
                                        </p:cTn>
                                        <p:tgtEl>
                                          <p:spTgt spid="137"/>
                                        </p:tgtEl>
                                      </p:cBhvr>
                                      <p:from x="100000" y="100000"/>
                                      <p:to x="80000" y="100000"/>
                                    </p:animScale>
                                    <p:anim calcmode="lin" valueType="num" by="(#ppt_h/3+#ppt_w*0.1)">
                                      <p:cBhvr additive="sum">
                                        <p:cTn id="237" dur="200" autoRev="1" fill="hold">
                                          <p:stCondLst>
                                            <p:cond delay="600"/>
                                          </p:stCondLst>
                                        </p:cTn>
                                        <p:tgtEl>
                                          <p:spTgt spid="137"/>
                                        </p:tgtEl>
                                        <p:attrNameLst>
                                          <p:attrName>ppt_x</p:attrName>
                                        </p:attrNameLst>
                                      </p:cBhvr>
                                    </p:anim>
                                  </p:childTnLst>
                                </p:cTn>
                              </p:par>
                              <p:par>
                                <p:cTn id="238" nodeType="withEffect" fill="hold" presetClass="entr" presetID="34">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from="(-#ppt_w/2)" to="(#ppt_x)">
                                      <p:cBhvr additive="repl">
                                        <p:cTn id="240" dur="600" fill="hold">
                                          <p:stCondLst>
                                            <p:cond delay="0"/>
                                          </p:stCondLst>
                                        </p:cTn>
                                        <p:tgtEl>
                                          <p:spTgt spid="128"/>
                                        </p:tgtEl>
                                        <p:attrNameLst>
                                          <p:attrName>ppt_x</p:attrName>
                                        </p:attrNameLst>
                                      </p:cBhvr>
                                    </p:anim>
                                    <p:anim calcmode="lin" valueType="num" from="0" to="-1">
                                      <p:cBhvr additive="repl">
                                        <p:cTn id="241" dur="200" autoRev="1" fill="hold">
                                          <p:stCondLst>
                                            <p:cond delay="600"/>
                                          </p:stCondLst>
                                        </p:cTn>
                                        <p:tgtEl>
                                          <p:spTgt spid="128"/>
                                        </p:tgtEl>
                                        <p:attrNameLst>
                                          <p:attrName>xshear</p:attrName>
                                        </p:attrNameLst>
                                      </p:cBhvr>
                                    </p:anim>
                                    <p:animScale>
                                      <p:cBhvr>
                                        <p:cTn id="242" dur="200" autoRev="1" fill="hold">
                                          <p:stCondLst>
                                            <p:cond delay="600"/>
                                          </p:stCondLst>
                                        </p:cTn>
                                        <p:tgtEl>
                                          <p:spTgt spid="128"/>
                                        </p:tgtEl>
                                      </p:cBhvr>
                                      <p:from x="100000" y="100000"/>
                                      <p:to x="80000" y="100000"/>
                                    </p:animScale>
                                    <p:anim calcmode="lin" valueType="num" by="(#ppt_h/3+#ppt_w*0.1)">
                                      <p:cBhvr additive="sum">
                                        <p:cTn id="243" dur="200" autoRev="1" fill="hold">
                                          <p:stCondLst>
                                            <p:cond delay="600"/>
                                          </p:stCondLst>
                                        </p:cTn>
                                        <p:tgtEl>
                                          <p:spTgt spid="128"/>
                                        </p:tgtEl>
                                        <p:attrNameLst>
                                          <p:attrName>ppt_x</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4">
                                  <p:stCondLst>
                                    <p:cond delay="0"/>
                                  </p:stCondLst>
                                  <p:childTnLst>
                                    <p:set>
                                      <p:cBhvr>
                                        <p:cTn id="247" dur="1" fill="hold">
                                          <p:stCondLst>
                                            <p:cond delay="0"/>
                                          </p:stCondLst>
                                        </p:cTn>
                                        <p:tgtEl>
                                          <p:spTgt spid="131"/>
                                        </p:tgtEl>
                                        <p:attrNameLst>
                                          <p:attrName>style.visibility</p:attrName>
                                        </p:attrNameLst>
                                      </p:cBhvr>
                                      <p:to>
                                        <p:strVal val="visible"/>
                                      </p:to>
                                    </p:set>
                                    <p:anim calcmode="lin" valueType="num" from="(-#ppt_w/2)" to="(#ppt_x)">
                                      <p:cBhvr additive="repl">
                                        <p:cTn id="248" dur="600" fill="hold">
                                          <p:stCondLst>
                                            <p:cond delay="0"/>
                                          </p:stCondLst>
                                        </p:cTn>
                                        <p:tgtEl>
                                          <p:spTgt spid="131"/>
                                        </p:tgtEl>
                                        <p:attrNameLst>
                                          <p:attrName>ppt_x</p:attrName>
                                        </p:attrNameLst>
                                      </p:cBhvr>
                                    </p:anim>
                                    <p:anim calcmode="lin" valueType="num" from="0" to="-1">
                                      <p:cBhvr additive="repl">
                                        <p:cTn id="249" dur="200" autoRev="1" fill="hold">
                                          <p:stCondLst>
                                            <p:cond delay="600"/>
                                          </p:stCondLst>
                                        </p:cTn>
                                        <p:tgtEl>
                                          <p:spTgt spid="131"/>
                                        </p:tgtEl>
                                        <p:attrNameLst>
                                          <p:attrName>xshear</p:attrName>
                                        </p:attrNameLst>
                                      </p:cBhvr>
                                    </p:anim>
                                    <p:animScale>
                                      <p:cBhvr>
                                        <p:cTn id="250" dur="200" autoRev="1" fill="hold">
                                          <p:stCondLst>
                                            <p:cond delay="600"/>
                                          </p:stCondLst>
                                        </p:cTn>
                                        <p:tgtEl>
                                          <p:spTgt spid="131"/>
                                        </p:tgtEl>
                                      </p:cBhvr>
                                      <p:from x="100000" y="100000"/>
                                      <p:to x="80000" y="100000"/>
                                    </p:animScale>
                                    <p:anim calcmode="lin" valueType="num" by="(#ppt_h/3+#ppt_w*0.1)">
                                      <p:cBhvr additive="sum">
                                        <p:cTn id="251" dur="200" autoRev="1" fill="hold">
                                          <p:stCondLst>
                                            <p:cond delay="600"/>
                                          </p:stCondLst>
                                        </p:cTn>
                                        <p:tgtEl>
                                          <p:spTgt spid="131"/>
                                        </p:tgtEl>
                                        <p:attrNameLst>
                                          <p:attrName>ppt_x</p:attrName>
                                        </p:attrNameLst>
                                      </p:cBhvr>
                                    </p:anim>
                                  </p:childTnLst>
                                </p:cTn>
                              </p:par>
                              <p:par>
                                <p:cTn id="252" nodeType="withEffect" fill="hold" presetClass="entr" presetID="3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from="(-#ppt_w/2)" to="(#ppt_x)">
                                      <p:cBhvr additive="repl">
                                        <p:cTn id="254" dur="600" fill="hold">
                                          <p:stCondLst>
                                            <p:cond delay="0"/>
                                          </p:stCondLst>
                                        </p:cTn>
                                        <p:tgtEl>
                                          <p:spTgt spid="132"/>
                                        </p:tgtEl>
                                        <p:attrNameLst>
                                          <p:attrName>ppt_x</p:attrName>
                                        </p:attrNameLst>
                                      </p:cBhvr>
                                    </p:anim>
                                    <p:anim calcmode="lin" valueType="num" from="0" to="-1">
                                      <p:cBhvr additive="repl">
                                        <p:cTn id="255" dur="200" autoRev="1" fill="hold">
                                          <p:stCondLst>
                                            <p:cond delay="600"/>
                                          </p:stCondLst>
                                        </p:cTn>
                                        <p:tgtEl>
                                          <p:spTgt spid="132"/>
                                        </p:tgtEl>
                                        <p:attrNameLst>
                                          <p:attrName>xshear</p:attrName>
                                        </p:attrNameLst>
                                      </p:cBhvr>
                                    </p:anim>
                                    <p:animScale>
                                      <p:cBhvr>
                                        <p:cTn id="256" dur="200" autoRev="1" fill="hold">
                                          <p:stCondLst>
                                            <p:cond delay="600"/>
                                          </p:stCondLst>
                                        </p:cTn>
                                        <p:tgtEl>
                                          <p:spTgt spid="132"/>
                                        </p:tgtEl>
                                      </p:cBhvr>
                                      <p:from x="100000" y="100000"/>
                                      <p:to x="80000" y="100000"/>
                                    </p:animScale>
                                    <p:anim calcmode="lin" valueType="num" by="(#ppt_h/3+#ppt_w*0.1)">
                                      <p:cBhvr additive="sum">
                                        <p:cTn id="257" dur="200" autoRev="1" fill="hold">
                                          <p:stCondLst>
                                            <p:cond delay="600"/>
                                          </p:stCondLst>
                                        </p:cTn>
                                        <p:tgtEl>
                                          <p:spTgt spid="132"/>
                                        </p:tgtEl>
                                        <p:attrNameLst>
                                          <p:attrName>ppt_x</p:attrName>
                                        </p:attrNameLst>
                                      </p:cBhvr>
                                    </p:anim>
                                  </p:childTnLst>
                                </p:cTn>
                              </p:par>
                              <p:par>
                                <p:cTn id="258" nodeType="withEffect" fill="hold" presetClass="entr" presetID="34">
                                  <p:stCondLst>
                                    <p:cond delay="0"/>
                                  </p:stCondLst>
                                  <p:childTnLst>
                                    <p:set>
                                      <p:cBhvr>
                                        <p:cTn id="259" dur="1" fill="hold">
                                          <p:stCondLst>
                                            <p:cond delay="0"/>
                                          </p:stCondLst>
                                        </p:cTn>
                                        <p:tgtEl>
                                          <p:spTgt spid="133"/>
                                        </p:tgtEl>
                                        <p:attrNameLst>
                                          <p:attrName>style.visibility</p:attrName>
                                        </p:attrNameLst>
                                      </p:cBhvr>
                                      <p:to>
                                        <p:strVal val="visible"/>
                                      </p:to>
                                    </p:set>
                                    <p:anim calcmode="lin" valueType="num" from="(-#ppt_w/2)" to="(#ppt_x)">
                                      <p:cBhvr additive="repl">
                                        <p:cTn id="260" dur="600" fill="hold">
                                          <p:stCondLst>
                                            <p:cond delay="0"/>
                                          </p:stCondLst>
                                        </p:cTn>
                                        <p:tgtEl>
                                          <p:spTgt spid="133"/>
                                        </p:tgtEl>
                                        <p:attrNameLst>
                                          <p:attrName>ppt_x</p:attrName>
                                        </p:attrNameLst>
                                      </p:cBhvr>
                                    </p:anim>
                                    <p:anim calcmode="lin" valueType="num" from="0" to="-1">
                                      <p:cBhvr additive="repl">
                                        <p:cTn id="261" dur="200" autoRev="1" fill="hold">
                                          <p:stCondLst>
                                            <p:cond delay="600"/>
                                          </p:stCondLst>
                                        </p:cTn>
                                        <p:tgtEl>
                                          <p:spTgt spid="133"/>
                                        </p:tgtEl>
                                        <p:attrNameLst>
                                          <p:attrName>xshear</p:attrName>
                                        </p:attrNameLst>
                                      </p:cBhvr>
                                    </p:anim>
                                    <p:animScale>
                                      <p:cBhvr>
                                        <p:cTn id="262" dur="200" autoRev="1" fill="hold">
                                          <p:stCondLst>
                                            <p:cond delay="600"/>
                                          </p:stCondLst>
                                        </p:cTn>
                                        <p:tgtEl>
                                          <p:spTgt spid="133"/>
                                        </p:tgtEl>
                                      </p:cBhvr>
                                      <p:from x="100000" y="100000"/>
                                      <p:to x="80000" y="100000"/>
                                    </p:animScale>
                                    <p:anim calcmode="lin" valueType="num" by="(#ppt_h/3+#ppt_w*0.1)">
                                      <p:cBhvr additive="sum">
                                        <p:cTn id="263" dur="200" autoRev="1" fill="hold">
                                          <p:stCondLst>
                                            <p:cond delay="600"/>
                                          </p:stCondLst>
                                        </p:cTn>
                                        <p:tgtEl>
                                          <p:spTgt spid="133"/>
                                        </p:tgtEl>
                                        <p:attrNameLst>
                                          <p:attrName>ppt_x</p:attrName>
                                        </p:attrNameLst>
                                      </p:cBhvr>
                                    </p:anim>
                                  </p:childTnLst>
                                </p:cTn>
                              </p:par>
                              <p:par>
                                <p:cTn id="264" nodeType="withEffect" fill="hold" presetClass="entr" presetID="34">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from="(-#ppt_w/2)" to="(#ppt_x)">
                                      <p:cBhvr additive="repl">
                                        <p:cTn id="266" dur="600" fill="hold">
                                          <p:stCondLst>
                                            <p:cond delay="0"/>
                                          </p:stCondLst>
                                        </p:cTn>
                                        <p:tgtEl>
                                          <p:spTgt spid="125"/>
                                        </p:tgtEl>
                                        <p:attrNameLst>
                                          <p:attrName>ppt_x</p:attrName>
                                        </p:attrNameLst>
                                      </p:cBhvr>
                                    </p:anim>
                                    <p:anim calcmode="lin" valueType="num" from="0" to="-1">
                                      <p:cBhvr additive="repl">
                                        <p:cTn id="267" dur="200" autoRev="1" fill="hold">
                                          <p:stCondLst>
                                            <p:cond delay="600"/>
                                          </p:stCondLst>
                                        </p:cTn>
                                        <p:tgtEl>
                                          <p:spTgt spid="125"/>
                                        </p:tgtEl>
                                        <p:attrNameLst>
                                          <p:attrName>xshear</p:attrName>
                                        </p:attrNameLst>
                                      </p:cBhvr>
                                    </p:anim>
                                    <p:animScale>
                                      <p:cBhvr>
                                        <p:cTn id="268" dur="200" autoRev="1" fill="hold">
                                          <p:stCondLst>
                                            <p:cond delay="600"/>
                                          </p:stCondLst>
                                        </p:cTn>
                                        <p:tgtEl>
                                          <p:spTgt spid="125"/>
                                        </p:tgtEl>
                                      </p:cBhvr>
                                      <p:from x="100000" y="100000"/>
                                      <p:to x="80000" y="100000"/>
                                    </p:animScale>
                                    <p:anim calcmode="lin" valueType="num" by="(#ppt_h/3+#ppt_w*0.1)">
                                      <p:cBhvr additive="sum">
                                        <p:cTn id="269" dur="200" autoRev="1" fill="hold">
                                          <p:stCondLst>
                                            <p:cond delay="600"/>
                                          </p:stCondLst>
                                        </p:cTn>
                                        <p:tgtEl>
                                          <p:spTgt spid="125"/>
                                        </p:tgtEl>
                                        <p:attrNameLst>
                                          <p:attrName>ppt_x</p:attrName>
                                        </p:attrNameLst>
                                      </p:cBhvr>
                                    </p:anim>
                                  </p:childTnLst>
                                </p:cTn>
                              </p:par>
                              <p:par>
                                <p:cTn id="270" nodeType="withEffect" fill="hold" presetClass="entr" presetID="34">
                                  <p:stCondLst>
                                    <p:cond delay="0"/>
                                  </p:stCondLst>
                                  <p:childTnLst>
                                    <p:set>
                                      <p:cBhvr>
                                        <p:cTn id="271" dur="1" fill="hold">
                                          <p:stCondLst>
                                            <p:cond delay="0"/>
                                          </p:stCondLst>
                                        </p:cTn>
                                        <p:tgtEl>
                                          <p:spTgt spid="138"/>
                                        </p:tgtEl>
                                        <p:attrNameLst>
                                          <p:attrName>style.visibility</p:attrName>
                                        </p:attrNameLst>
                                      </p:cBhvr>
                                      <p:to>
                                        <p:strVal val="visible"/>
                                      </p:to>
                                    </p:set>
                                    <p:anim calcmode="lin" valueType="num" from="(-#ppt_w/2)" to="(#ppt_x)">
                                      <p:cBhvr additive="repl">
                                        <p:cTn id="272" dur="600" fill="hold">
                                          <p:stCondLst>
                                            <p:cond delay="0"/>
                                          </p:stCondLst>
                                        </p:cTn>
                                        <p:tgtEl>
                                          <p:spTgt spid="138"/>
                                        </p:tgtEl>
                                        <p:attrNameLst>
                                          <p:attrName>ppt_x</p:attrName>
                                        </p:attrNameLst>
                                      </p:cBhvr>
                                    </p:anim>
                                    <p:anim calcmode="lin" valueType="num" from="0" to="-1">
                                      <p:cBhvr additive="repl">
                                        <p:cTn id="273" dur="200" autoRev="1" fill="hold">
                                          <p:stCondLst>
                                            <p:cond delay="600"/>
                                          </p:stCondLst>
                                        </p:cTn>
                                        <p:tgtEl>
                                          <p:spTgt spid="138"/>
                                        </p:tgtEl>
                                        <p:attrNameLst>
                                          <p:attrName>xshear</p:attrName>
                                        </p:attrNameLst>
                                      </p:cBhvr>
                                    </p:anim>
                                    <p:animScale>
                                      <p:cBhvr>
                                        <p:cTn id="274" dur="200" autoRev="1" fill="hold">
                                          <p:stCondLst>
                                            <p:cond delay="600"/>
                                          </p:stCondLst>
                                        </p:cTn>
                                        <p:tgtEl>
                                          <p:spTgt spid="138"/>
                                        </p:tgtEl>
                                      </p:cBhvr>
                                      <p:from x="100000" y="100000"/>
                                      <p:to x="80000" y="100000"/>
                                    </p:animScale>
                                    <p:anim calcmode="lin" valueType="num" by="(#ppt_h/3+#ppt_w*0.1)">
                                      <p:cBhvr additive="sum">
                                        <p:cTn id="275" dur="200" autoRev="1" fill="hold">
                                          <p:stCondLst>
                                            <p:cond delay="600"/>
                                          </p:stCondLst>
                                        </p:cTn>
                                        <p:tgtEl>
                                          <p:spTgt spid="138"/>
                                        </p:tgtEl>
                                        <p:attrNameLst>
                                          <p:attrName>ppt_x</p:attrName>
                                        </p:attrNameLst>
                                      </p:cBhvr>
                                    </p:anim>
                                  </p:childTnLst>
                                </p:cTn>
                              </p:par>
                              <p:par>
                                <p:cTn id="276" nodeType="withEffect" fill="hold" presetClass="entr" presetID="34">
                                  <p:stCondLst>
                                    <p:cond delay="0"/>
                                  </p:stCondLst>
                                  <p:childTnLst>
                                    <p:set>
                                      <p:cBhvr>
                                        <p:cTn id="277" dur="1" fill="hold">
                                          <p:stCondLst>
                                            <p:cond delay="0"/>
                                          </p:stCondLst>
                                        </p:cTn>
                                        <p:tgtEl>
                                          <p:spTgt spid="139"/>
                                        </p:tgtEl>
                                        <p:attrNameLst>
                                          <p:attrName>style.visibility</p:attrName>
                                        </p:attrNameLst>
                                      </p:cBhvr>
                                      <p:to>
                                        <p:strVal val="visible"/>
                                      </p:to>
                                    </p:set>
                                    <p:anim calcmode="lin" valueType="num" from="(-#ppt_w/2)" to="(#ppt_x)">
                                      <p:cBhvr additive="repl">
                                        <p:cTn id="278" dur="600" fill="hold">
                                          <p:stCondLst>
                                            <p:cond delay="0"/>
                                          </p:stCondLst>
                                        </p:cTn>
                                        <p:tgtEl>
                                          <p:spTgt spid="139"/>
                                        </p:tgtEl>
                                        <p:attrNameLst>
                                          <p:attrName>ppt_x</p:attrName>
                                        </p:attrNameLst>
                                      </p:cBhvr>
                                    </p:anim>
                                    <p:anim calcmode="lin" valueType="num" from="0" to="-1">
                                      <p:cBhvr additive="repl">
                                        <p:cTn id="279" dur="200" autoRev="1" fill="hold">
                                          <p:stCondLst>
                                            <p:cond delay="600"/>
                                          </p:stCondLst>
                                        </p:cTn>
                                        <p:tgtEl>
                                          <p:spTgt spid="139"/>
                                        </p:tgtEl>
                                        <p:attrNameLst>
                                          <p:attrName>xshear</p:attrName>
                                        </p:attrNameLst>
                                      </p:cBhvr>
                                    </p:anim>
                                    <p:animScale>
                                      <p:cBhvr>
                                        <p:cTn id="280" dur="200" autoRev="1" fill="hold">
                                          <p:stCondLst>
                                            <p:cond delay="600"/>
                                          </p:stCondLst>
                                        </p:cTn>
                                        <p:tgtEl>
                                          <p:spTgt spid="139"/>
                                        </p:tgtEl>
                                      </p:cBhvr>
                                      <p:from x="100000" y="100000"/>
                                      <p:to x="80000" y="100000"/>
                                    </p:animScale>
                                    <p:anim calcmode="lin" valueType="num" by="(#ppt_h/3+#ppt_w*0.1)">
                                      <p:cBhvr additive="sum">
                                        <p:cTn id="281"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200" name=""/>
          <p:cNvGraphicFramePr/>
          <p:nvPr/>
        </p:nvGraphicFramePr>
        <p:xfrm>
          <a:off x="1905120" y="2438280"/>
          <a:ext cx="2108160" cy="432000"/>
        </p:xfrm>
        <a:graphic>
          <a:graphicData uri="http://schemas.openxmlformats.org/presentationml/2006/ole">
            <p:oleObj r:id="rId1" spid="">
              <p:embed/>
              <p:pic>
                <p:nvPicPr>
                  <p:cNvPr id="201"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202" name=""/>
          <p:cNvGraphicFramePr/>
          <p:nvPr/>
        </p:nvGraphicFramePr>
        <p:xfrm>
          <a:off x="4572000" y="2514600"/>
          <a:ext cx="1663560" cy="355680"/>
        </p:xfrm>
        <a:graphic>
          <a:graphicData uri="http://schemas.openxmlformats.org/presentationml/2006/ole">
            <p:oleObj r:id="rId3" spid="">
              <p:embed/>
              <p:pic>
                <p:nvPicPr>
                  <p:cNvPr id="203"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204" name=""/>
          <p:cNvGraphicFramePr/>
          <p:nvPr/>
        </p:nvGraphicFramePr>
        <p:xfrm>
          <a:off x="3581280" y="3124080"/>
          <a:ext cx="914400" cy="735120"/>
        </p:xfrm>
        <a:graphic>
          <a:graphicData uri="http://schemas.openxmlformats.org/presentationml/2006/ole">
            <p:oleObj r:id="rId5" spid="">
              <p:embed/>
              <p:pic>
                <p:nvPicPr>
                  <p:cNvPr id="205"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206" name=""/>
          <p:cNvGraphicFramePr/>
          <p:nvPr/>
        </p:nvGraphicFramePr>
        <p:xfrm>
          <a:off x="3505320" y="3962520"/>
          <a:ext cx="1218960" cy="726840"/>
        </p:xfrm>
        <a:graphic>
          <a:graphicData uri="http://schemas.openxmlformats.org/presentationml/2006/ole">
            <p:oleObj r:id="rId7" spid="">
              <p:embed/>
              <p:pic>
                <p:nvPicPr>
                  <p:cNvPr id="207"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208" name=""/>
          <p:cNvGraphicFramePr/>
          <p:nvPr/>
        </p:nvGraphicFramePr>
        <p:xfrm>
          <a:off x="3581280" y="4876920"/>
          <a:ext cx="1219320" cy="282600"/>
        </p:xfrm>
        <a:graphic>
          <a:graphicData uri="http://schemas.openxmlformats.org/presentationml/2006/ole">
            <p:oleObj r:id="rId9" spid="">
              <p:embed/>
              <p:pic>
                <p:nvPicPr>
                  <p:cNvPr id="209"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210" name=""/>
          <p:cNvGraphicFramePr/>
          <p:nvPr/>
        </p:nvGraphicFramePr>
        <p:xfrm>
          <a:off x="3581280" y="5410080"/>
          <a:ext cx="1219320" cy="273240"/>
        </p:xfrm>
        <a:graphic>
          <a:graphicData uri="http://schemas.openxmlformats.org/presentationml/2006/ole">
            <p:oleObj r:id="rId11" spid="">
              <p:embed/>
              <p:pic>
                <p:nvPicPr>
                  <p:cNvPr id="211"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212" name=""/>
          <p:cNvGraphicFramePr/>
          <p:nvPr/>
        </p:nvGraphicFramePr>
        <p:xfrm>
          <a:off x="3886200" y="5943600"/>
          <a:ext cx="609480" cy="262080"/>
        </p:xfrm>
        <a:graphic>
          <a:graphicData uri="http://schemas.openxmlformats.org/presentationml/2006/ole">
            <p:oleObj r:id="rId13" spid="">
              <p:embed/>
              <p:pic>
                <p:nvPicPr>
                  <p:cNvPr id="213" name="" descr=""/>
                  <p:cNvPicPr/>
                  <p:nvPr/>
                </p:nvPicPr>
                <p:blipFill>
                  <a:blip r:embed="rId14"/>
                  <a:stretch/>
                </p:blipFill>
                <p:spPr>
                  <a:xfrm>
                    <a:off x="3886200" y="5943600"/>
                    <a:ext cx="609480" cy="262080"/>
                  </a:xfrm>
                  <a:prstGeom prst="rect">
                    <a:avLst/>
                  </a:prstGeom>
                  <a:ln w="0">
                    <a:noFill/>
                  </a:ln>
                </p:spPr>
              </p:pic>
            </p:oleObj>
          </a:graphicData>
        </a:graphic>
      </p:graphicFrame>
      <p:sp>
        <p:nvSpPr>
          <p:cNvPr id="214"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215"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216"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217"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218" name=""/>
          <p:cNvSpPr/>
          <p:nvPr/>
        </p:nvSpPr>
        <p:spPr>
          <a:xfrm>
            <a:off x="452160" y="3412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219" name=""/>
          <p:cNvSpPr/>
          <p:nvPr/>
        </p:nvSpPr>
        <p:spPr>
          <a:xfrm>
            <a:off x="3983040" y="731880"/>
            <a:ext cx="1241280" cy="554040"/>
          </a:xfrm>
          <a:custGeom>
            <a:avLst/>
            <a:gdLst/>
            <a:ahLst/>
            <a:rect l="l" t="t" r="r" b="b"/>
            <a:pathLst>
              <a:path w="3449" h="1539">
                <a:moveTo>
                  <a:pt x="11385" y="2158"/>
                </a:moveTo>
                <a:cubicBezTo>
                  <a:pt x="11385" y="2150"/>
                  <a:pt x="11385" y="2141"/>
                  <a:pt x="11385" y="2133"/>
                </a:cubicBezTo>
              </a:path>
              <a:path w="3449" h="1539">
                <a:moveTo>
                  <a:pt x="11385" y="2158"/>
                </a:moveTo>
                <a:lnTo>
                  <a:pt x="11385" y="2158"/>
                </a:lnTo>
              </a:path>
              <a:path w="3449" h="1539">
                <a:moveTo>
                  <a:pt x="11336" y="2232"/>
                </a:moveTo>
                <a:cubicBezTo>
                  <a:pt x="11281" y="2429"/>
                  <a:pt x="11207" y="2597"/>
                  <a:pt x="11112" y="2778"/>
                </a:cubicBezTo>
                <a:cubicBezTo>
                  <a:pt x="11076" y="2851"/>
                  <a:pt x="11059" y="2856"/>
                  <a:pt x="11063" y="2902"/>
                </a:cubicBezTo>
                <a:cubicBezTo>
                  <a:pt x="11063" y="2777"/>
                  <a:pt x="11086" y="2672"/>
                  <a:pt x="11137" y="2555"/>
                </a:cubicBezTo>
                <a:cubicBezTo>
                  <a:pt x="11214" y="2379"/>
                  <a:pt x="11303" y="2180"/>
                  <a:pt x="11460" y="2059"/>
                </a:cubicBezTo>
                <a:cubicBezTo>
                  <a:pt x="11510" y="2059"/>
                  <a:pt x="11543" y="2059"/>
                  <a:pt x="11584" y="2059"/>
                </a:cubicBezTo>
                <a:cubicBezTo>
                  <a:pt x="11657" y="2225"/>
                  <a:pt x="11737" y="2417"/>
                  <a:pt x="11733" y="2604"/>
                </a:cubicBezTo>
                <a:cubicBezTo>
                  <a:pt x="11731" y="2686"/>
                  <a:pt x="11697" y="2733"/>
                  <a:pt x="11683" y="2803"/>
                </a:cubicBezTo>
              </a:path>
              <a:path w="3449" h="1539">
                <a:moveTo>
                  <a:pt x="11187" y="2704"/>
                </a:moveTo>
                <a:cubicBezTo>
                  <a:pt x="11331" y="2683"/>
                  <a:pt x="11462" y="2621"/>
                  <a:pt x="11609" y="2604"/>
                </a:cubicBezTo>
                <a:cubicBezTo>
                  <a:pt x="11642" y="2604"/>
                  <a:pt x="11675" y="2604"/>
                  <a:pt x="11708" y="2604"/>
                </a:cubicBezTo>
              </a:path>
              <a:path w="3449" h="1539">
                <a:moveTo>
                  <a:pt x="11956" y="2753"/>
                </a:moveTo>
                <a:cubicBezTo>
                  <a:pt x="11905" y="2882"/>
                  <a:pt x="11811" y="3026"/>
                  <a:pt x="11757" y="3150"/>
                </a:cubicBezTo>
                <a:cubicBezTo>
                  <a:pt x="11765" y="3142"/>
                  <a:pt x="11774" y="3133"/>
                  <a:pt x="11782" y="3125"/>
                </a:cubicBezTo>
              </a:path>
              <a:path w="3449" h="1539">
                <a:moveTo>
                  <a:pt x="11956" y="2729"/>
                </a:moveTo>
                <a:cubicBezTo>
                  <a:pt x="12077" y="2789"/>
                  <a:pt x="12107" y="2914"/>
                  <a:pt x="12179" y="3026"/>
                </a:cubicBezTo>
                <a:cubicBezTo>
                  <a:pt x="12204" y="3051"/>
                  <a:pt x="12212" y="3059"/>
                  <a:pt x="12229" y="3076"/>
                </a:cubicBezTo>
                <a:cubicBezTo>
                  <a:pt x="12147" y="3103"/>
                  <a:pt x="11968" y="3165"/>
                  <a:pt x="11857" y="3200"/>
                </a:cubicBezTo>
                <a:cubicBezTo>
                  <a:pt x="11765" y="3223"/>
                  <a:pt x="11724" y="3234"/>
                  <a:pt x="11832" y="3200"/>
                </a:cubicBezTo>
              </a:path>
              <a:path w="3449" h="1539">
                <a:moveTo>
                  <a:pt x="12477" y="2530"/>
                </a:moveTo>
                <a:cubicBezTo>
                  <a:pt x="12569" y="2522"/>
                  <a:pt x="12657" y="2505"/>
                  <a:pt x="12750" y="2505"/>
                </a:cubicBezTo>
              </a:path>
              <a:path w="3449" h="1539">
                <a:moveTo>
                  <a:pt x="12502" y="2704"/>
                </a:moveTo>
                <a:cubicBezTo>
                  <a:pt x="12618" y="2704"/>
                  <a:pt x="12733" y="2704"/>
                  <a:pt x="12849" y="2704"/>
                </a:cubicBezTo>
              </a:path>
              <a:path w="3449" h="1539">
                <a:moveTo>
                  <a:pt x="13370" y="2059"/>
                </a:moveTo>
                <a:cubicBezTo>
                  <a:pt x="13370" y="1948"/>
                  <a:pt x="13424" y="2223"/>
                  <a:pt x="13444" y="2332"/>
                </a:cubicBezTo>
                <a:cubicBezTo>
                  <a:pt x="13465" y="2451"/>
                  <a:pt x="13469" y="2539"/>
                  <a:pt x="13469" y="2654"/>
                </a:cubicBezTo>
                <a:cubicBezTo>
                  <a:pt x="13489" y="2535"/>
                  <a:pt x="13540" y="2252"/>
                  <a:pt x="13742" y="2307"/>
                </a:cubicBezTo>
                <a:cubicBezTo>
                  <a:pt x="13953" y="2364"/>
                  <a:pt x="13848" y="2596"/>
                  <a:pt x="13717" y="2654"/>
                </a:cubicBezTo>
                <a:cubicBezTo>
                  <a:pt x="13593" y="2709"/>
                  <a:pt x="13466" y="2703"/>
                  <a:pt x="13494" y="2580"/>
                </a:cubicBezTo>
              </a:path>
              <a:path w="3449" h="1539">
                <a:moveTo>
                  <a:pt x="13940" y="2059"/>
                </a:moveTo>
                <a:cubicBezTo>
                  <a:pt x="13962" y="2234"/>
                  <a:pt x="14040" y="2386"/>
                  <a:pt x="14089" y="2555"/>
                </a:cubicBezTo>
                <a:cubicBezTo>
                  <a:pt x="14089" y="2563"/>
                  <a:pt x="14089" y="2572"/>
                  <a:pt x="14089" y="2580"/>
                </a:cubicBezTo>
                <a:cubicBezTo>
                  <a:pt x="14089" y="2481"/>
                  <a:pt x="14071" y="2332"/>
                  <a:pt x="14188" y="2282"/>
                </a:cubicBezTo>
                <a:cubicBezTo>
                  <a:pt x="14352" y="2211"/>
                  <a:pt x="14426" y="2423"/>
                  <a:pt x="14436" y="2530"/>
                </a:cubicBezTo>
                <a:cubicBezTo>
                  <a:pt x="14440" y="2569"/>
                  <a:pt x="14436" y="2614"/>
                  <a:pt x="14436" y="2654"/>
                </a:cubicBezTo>
              </a:path>
              <a:path w="3449" h="1539">
                <a:moveTo>
                  <a:pt x="13568" y="2877"/>
                </a:moveTo>
                <a:cubicBezTo>
                  <a:pt x="13846" y="2815"/>
                  <a:pt x="14127" y="2754"/>
                  <a:pt x="14412" y="2729"/>
                </a:cubicBezTo>
                <a:cubicBezTo>
                  <a:pt x="14486" y="2729"/>
                  <a:pt x="14519" y="2704"/>
                  <a:pt x="14511" y="2753"/>
                </a:cubicBezTo>
              </a:path>
              <a:path w="3449" h="1539">
                <a:moveTo>
                  <a:pt x="13891" y="3125"/>
                </a:moveTo>
                <a:cubicBezTo>
                  <a:pt x="13939" y="3109"/>
                  <a:pt x="14042" y="3040"/>
                  <a:pt x="14114" y="3026"/>
                </a:cubicBezTo>
                <a:cubicBezTo>
                  <a:pt x="14199" y="3026"/>
                  <a:pt x="14219" y="3020"/>
                  <a:pt x="14263" y="3051"/>
                </a:cubicBezTo>
                <a:cubicBezTo>
                  <a:pt x="14263" y="3214"/>
                  <a:pt x="14196" y="3291"/>
                  <a:pt x="14064" y="3398"/>
                </a:cubicBezTo>
                <a:cubicBezTo>
                  <a:pt x="13978" y="3468"/>
                  <a:pt x="13878" y="3509"/>
                  <a:pt x="13791" y="3572"/>
                </a:cubicBezTo>
                <a:cubicBezTo>
                  <a:pt x="13917" y="3530"/>
                  <a:pt x="13996" y="3480"/>
                  <a:pt x="14139" y="3473"/>
                </a:cubicBezTo>
                <a:cubicBezTo>
                  <a:pt x="14238" y="3468"/>
                  <a:pt x="14365" y="3530"/>
                  <a:pt x="14461" y="3497"/>
                </a:cubicBezTo>
                <a:cubicBezTo>
                  <a:pt x="14469" y="3489"/>
                  <a:pt x="14478" y="3481"/>
                  <a:pt x="14486" y="34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3178080" y="2867040"/>
            <a:ext cx="662040" cy="27000"/>
          </a:xfrm>
          <a:custGeom>
            <a:avLst/>
            <a:gdLst/>
            <a:ahLst/>
            <a:rect l="l" t="t" r="r" b="b"/>
            <a:pathLst>
              <a:path w="1837" h="76">
                <a:moveTo>
                  <a:pt x="8830" y="8012"/>
                </a:moveTo>
                <a:cubicBezTo>
                  <a:pt x="8934" y="8029"/>
                  <a:pt x="9022" y="8037"/>
                  <a:pt x="9128" y="8037"/>
                </a:cubicBezTo>
                <a:cubicBezTo>
                  <a:pt x="9298" y="8037"/>
                  <a:pt x="9463" y="8033"/>
                  <a:pt x="9624" y="8012"/>
                </a:cubicBezTo>
                <a:cubicBezTo>
                  <a:pt x="9773" y="7993"/>
                  <a:pt x="9927" y="8010"/>
                  <a:pt x="10071" y="7987"/>
                </a:cubicBezTo>
                <a:cubicBezTo>
                  <a:pt x="10234" y="7961"/>
                  <a:pt x="10408" y="7989"/>
                  <a:pt x="10567" y="7962"/>
                </a:cubicBezTo>
                <a:cubicBezTo>
                  <a:pt x="10598" y="7957"/>
                  <a:pt x="10635" y="7962"/>
                  <a:pt x="10666" y="7962"/>
                </a:cubicBez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21" name=""/>
          <p:cNvSpPr/>
          <p:nvPr/>
        </p:nvSpPr>
        <p:spPr>
          <a:xfrm>
            <a:off x="5697360" y="2884320"/>
            <a:ext cx="509760" cy="17640"/>
          </a:xfrm>
          <a:custGeom>
            <a:avLst/>
            <a:gdLst/>
            <a:ahLst/>
            <a:rect l="l" t="t" r="r" b="b"/>
            <a:pathLst>
              <a:path w="1415" h="51">
                <a:moveTo>
                  <a:pt x="15825" y="8037"/>
                </a:moveTo>
                <a:cubicBezTo>
                  <a:pt x="15894" y="8023"/>
                  <a:pt x="15950" y="8012"/>
                  <a:pt x="16024" y="8012"/>
                </a:cubicBezTo>
                <a:cubicBezTo>
                  <a:pt x="16123" y="8012"/>
                  <a:pt x="16205" y="8022"/>
                  <a:pt x="16297" y="8037"/>
                </a:cubicBezTo>
                <a:cubicBezTo>
                  <a:pt x="16427" y="8059"/>
                  <a:pt x="16574" y="8038"/>
                  <a:pt x="16694" y="8062"/>
                </a:cubicBezTo>
                <a:cubicBezTo>
                  <a:pt x="16861" y="8096"/>
                  <a:pt x="17068" y="8062"/>
                  <a:pt x="17239" y="8062"/>
                </a:cubicBezTo>
              </a:path>
            </a:pathLst>
          </a:custGeom>
          <a:noFill/>
          <a:ln cap="rnd" w="34920">
            <a:solidFill>
              <a:srgbClr val="ff00ff"/>
            </a:solidFill>
            <a:roun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22" name=""/>
          <p:cNvSpPr/>
          <p:nvPr/>
        </p:nvSpPr>
        <p:spPr>
          <a:xfrm>
            <a:off x="4044960" y="4179960"/>
            <a:ext cx="1312920" cy="731880"/>
          </a:xfrm>
          <a:custGeom>
            <a:avLst/>
            <a:gdLst/>
            <a:ahLst/>
            <a:rect l="l" t="t" r="r" b="b"/>
            <a:pathLst>
              <a:path w="3647" h="2035">
                <a:moveTo>
                  <a:pt x="13543" y="12005"/>
                </a:moveTo>
                <a:cubicBezTo>
                  <a:pt x="13600" y="12061"/>
                  <a:pt x="13665" y="12205"/>
                  <a:pt x="13692" y="12303"/>
                </a:cubicBezTo>
                <a:cubicBezTo>
                  <a:pt x="13692" y="12311"/>
                  <a:pt x="13692" y="12320"/>
                  <a:pt x="13692" y="12328"/>
                </a:cubicBezTo>
              </a:path>
              <a:path w="3647" h="2035">
                <a:moveTo>
                  <a:pt x="13717" y="11931"/>
                </a:moveTo>
                <a:cubicBezTo>
                  <a:pt x="13671" y="12052"/>
                  <a:pt x="13609" y="12176"/>
                  <a:pt x="13593" y="12303"/>
                </a:cubicBezTo>
              </a:path>
              <a:path w="3647" h="2035">
                <a:moveTo>
                  <a:pt x="14288" y="11708"/>
                </a:moveTo>
                <a:cubicBezTo>
                  <a:pt x="14305" y="11656"/>
                  <a:pt x="14427" y="11646"/>
                  <a:pt x="14486" y="11658"/>
                </a:cubicBezTo>
                <a:cubicBezTo>
                  <a:pt x="14494" y="11666"/>
                  <a:pt x="14503" y="11675"/>
                  <a:pt x="14511" y="11683"/>
                </a:cubicBezTo>
                <a:cubicBezTo>
                  <a:pt x="14464" y="11792"/>
                  <a:pt x="14385" y="11886"/>
                  <a:pt x="14337" y="11981"/>
                </a:cubicBezTo>
                <a:cubicBezTo>
                  <a:pt x="14365" y="11981"/>
                  <a:pt x="14662" y="11981"/>
                  <a:pt x="14610" y="11981"/>
                </a:cubicBezTo>
              </a:path>
              <a:path w="3647" h="2035">
                <a:moveTo>
                  <a:pt x="14238" y="12154"/>
                </a:moveTo>
                <a:cubicBezTo>
                  <a:pt x="14423" y="12173"/>
                  <a:pt x="14598" y="12179"/>
                  <a:pt x="14784" y="12179"/>
                </a:cubicBezTo>
                <a:cubicBezTo>
                  <a:pt x="14845" y="12179"/>
                  <a:pt x="14861" y="12170"/>
                  <a:pt x="14883" y="12204"/>
                </a:cubicBezTo>
              </a:path>
              <a:path w="3647" h="2035">
                <a:moveTo>
                  <a:pt x="14560" y="12452"/>
                </a:moveTo>
                <a:cubicBezTo>
                  <a:pt x="14591" y="12514"/>
                  <a:pt x="14585" y="12574"/>
                  <a:pt x="14585" y="12650"/>
                </a:cubicBezTo>
              </a:path>
              <a:path w="3647" h="2035">
                <a:moveTo>
                  <a:pt x="14883" y="11683"/>
                </a:moveTo>
                <a:cubicBezTo>
                  <a:pt x="14852" y="11656"/>
                  <a:pt x="14848" y="11603"/>
                  <a:pt x="14808" y="11609"/>
                </a:cubicBezTo>
                <a:cubicBezTo>
                  <a:pt x="14725" y="11622"/>
                  <a:pt x="14664" y="11668"/>
                  <a:pt x="14585" y="11708"/>
                </a:cubicBezTo>
                <a:cubicBezTo>
                  <a:pt x="14428" y="11789"/>
                  <a:pt x="14279" y="11865"/>
                  <a:pt x="14114" y="11931"/>
                </a:cubicBezTo>
                <a:cubicBezTo>
                  <a:pt x="13949" y="11997"/>
                  <a:pt x="13777" y="12032"/>
                  <a:pt x="13618" y="12105"/>
                </a:cubicBezTo>
                <a:cubicBezTo>
                  <a:pt x="13481" y="12168"/>
                  <a:pt x="13337" y="12200"/>
                  <a:pt x="13196" y="12254"/>
                </a:cubicBezTo>
                <a:cubicBezTo>
                  <a:pt x="13049" y="12311"/>
                  <a:pt x="12894" y="12347"/>
                  <a:pt x="12750" y="12402"/>
                </a:cubicBezTo>
                <a:cubicBezTo>
                  <a:pt x="12619" y="12452"/>
                  <a:pt x="12504" y="12542"/>
                  <a:pt x="12378" y="12601"/>
                </a:cubicBezTo>
                <a:cubicBezTo>
                  <a:pt x="12278" y="12648"/>
                  <a:pt x="12180" y="12674"/>
                  <a:pt x="12080" y="12725"/>
                </a:cubicBezTo>
                <a:cubicBezTo>
                  <a:pt x="12025" y="12753"/>
                  <a:pt x="11966" y="12779"/>
                  <a:pt x="11906" y="12799"/>
                </a:cubicBezTo>
                <a:cubicBezTo>
                  <a:pt x="11860" y="12814"/>
                  <a:pt x="11875" y="12827"/>
                  <a:pt x="11832" y="12849"/>
                </a:cubicBezTo>
              </a:path>
              <a:path w="3647" h="2035">
                <a:moveTo>
                  <a:pt x="11237" y="13643"/>
                </a:moveTo>
                <a:cubicBezTo>
                  <a:pt x="11278" y="13643"/>
                  <a:pt x="11320" y="13643"/>
                  <a:pt x="11361" y="136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2874960" y="4214880"/>
            <a:ext cx="349200" cy="187200"/>
          </a:xfrm>
          <a:custGeom>
            <a:avLst/>
            <a:gdLst/>
            <a:ahLst/>
            <a:rect l="l" t="t" r="r" b="b"/>
            <a:pathLst>
              <a:path w="968" h="522">
                <a:moveTo>
                  <a:pt x="8781" y="11906"/>
                </a:moveTo>
                <a:cubicBezTo>
                  <a:pt x="8858" y="12009"/>
                  <a:pt x="8916" y="12100"/>
                  <a:pt x="8930" y="12229"/>
                </a:cubicBezTo>
              </a:path>
              <a:path w="968" h="522">
                <a:moveTo>
                  <a:pt x="8880" y="11931"/>
                </a:moveTo>
                <a:cubicBezTo>
                  <a:pt x="8823" y="12035"/>
                  <a:pt x="8774" y="12136"/>
                  <a:pt x="8706" y="12229"/>
                </a:cubicBezTo>
              </a:path>
              <a:path w="968" h="522">
                <a:moveTo>
                  <a:pt x="7987" y="11708"/>
                </a:moveTo>
                <a:cubicBezTo>
                  <a:pt x="8052" y="11708"/>
                  <a:pt x="8309" y="11672"/>
                  <a:pt x="8334" y="11782"/>
                </a:cubicBezTo>
                <a:cubicBezTo>
                  <a:pt x="8367" y="11928"/>
                  <a:pt x="8171" y="12017"/>
                  <a:pt x="8086" y="12080"/>
                </a:cubicBezTo>
                <a:cubicBezTo>
                  <a:pt x="8070" y="12096"/>
                  <a:pt x="8053" y="12113"/>
                  <a:pt x="8037" y="12129"/>
                </a:cubicBezTo>
                <a:cubicBezTo>
                  <a:pt x="8199" y="12115"/>
                  <a:pt x="8350" y="12075"/>
                  <a:pt x="8508" y="12055"/>
                </a:cubicBezTo>
              </a:path>
              <a:path w="968" h="522">
                <a:moveTo>
                  <a:pt x="8880" y="12154"/>
                </a:moveTo>
                <a:cubicBezTo>
                  <a:pt x="8880" y="12110"/>
                  <a:pt x="8888" y="12041"/>
                  <a:pt x="8905" y="12005"/>
                </a:cubicBezTo>
                <a:cubicBezTo>
                  <a:pt x="8922" y="11970"/>
                  <a:pt x="8946" y="11949"/>
                  <a:pt x="8954" y="1190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1446120" y="4633920"/>
            <a:ext cx="73080" cy="73080"/>
          </a:xfrm>
          <a:custGeom>
            <a:avLst/>
            <a:gdLst/>
            <a:ahLst/>
            <a:rect l="l" t="t" r="r" b="b"/>
            <a:pathLst>
              <a:path w="200" h="199">
                <a:moveTo>
                  <a:pt x="4068" y="12874"/>
                </a:moveTo>
                <a:cubicBezTo>
                  <a:pt x="4060" y="12874"/>
                  <a:pt x="4051" y="12874"/>
                  <a:pt x="4043" y="12874"/>
                </a:cubicBezTo>
                <a:cubicBezTo>
                  <a:pt x="4096" y="12884"/>
                  <a:pt x="4136" y="12898"/>
                  <a:pt x="4192" y="12898"/>
                </a:cubicBezTo>
              </a:path>
              <a:path w="200" h="199">
                <a:moveTo>
                  <a:pt x="4018" y="13072"/>
                </a:moveTo>
                <a:cubicBezTo>
                  <a:pt x="4084" y="13072"/>
                  <a:pt x="4151" y="13072"/>
                  <a:pt x="4217" y="13072"/>
                </a:cubicBezTo>
              </a:path>
            </a:pathLst>
          </a:custGeom>
          <a:noFill/>
          <a:ln cap="rnd" w="34920">
            <a:solidFill>
              <a:srgbClr val="ff00ff"/>
            </a:solidFill>
            <a:roun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25" name=""/>
          <p:cNvSpPr/>
          <p:nvPr/>
        </p:nvSpPr>
        <p:spPr>
          <a:xfrm>
            <a:off x="1660680" y="4545000"/>
            <a:ext cx="268200" cy="214200"/>
          </a:xfrm>
          <a:custGeom>
            <a:avLst/>
            <a:gdLst/>
            <a:ahLst/>
            <a:rect l="l" t="t" r="r" b="b"/>
            <a:pathLst>
              <a:path w="745" h="596">
                <a:moveTo>
                  <a:pt x="5060" y="12725"/>
                </a:moveTo>
                <a:cubicBezTo>
                  <a:pt x="5188" y="12640"/>
                  <a:pt x="4931" y="12620"/>
                  <a:pt x="4887" y="12626"/>
                </a:cubicBezTo>
                <a:cubicBezTo>
                  <a:pt x="4731" y="12670"/>
                  <a:pt x="4688" y="12675"/>
                  <a:pt x="4614" y="12750"/>
                </a:cubicBezTo>
                <a:cubicBezTo>
                  <a:pt x="4694" y="12925"/>
                  <a:pt x="4916" y="12980"/>
                  <a:pt x="4986" y="13171"/>
                </a:cubicBezTo>
                <a:cubicBezTo>
                  <a:pt x="4958" y="13226"/>
                  <a:pt x="4944" y="13243"/>
                  <a:pt x="4887" y="13221"/>
                </a:cubicBezTo>
                <a:cubicBezTo>
                  <a:pt x="4833" y="13043"/>
                  <a:pt x="4946" y="12916"/>
                  <a:pt x="5060" y="12774"/>
                </a:cubicBezTo>
                <a:cubicBezTo>
                  <a:pt x="5135" y="12680"/>
                  <a:pt x="5166" y="12700"/>
                  <a:pt x="5085" y="12700"/>
                </a:cubicBezTo>
              </a:path>
              <a:path w="745" h="596">
                <a:moveTo>
                  <a:pt x="5358" y="12898"/>
                </a:moveTo>
                <a:cubicBezTo>
                  <a:pt x="5358" y="12906"/>
                  <a:pt x="5358" y="12915"/>
                  <a:pt x="5358" y="1292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2071800" y="4527720"/>
            <a:ext cx="135000" cy="214200"/>
          </a:xfrm>
          <a:custGeom>
            <a:avLst/>
            <a:gdLst/>
            <a:ahLst/>
            <a:rect l="l" t="t" r="r" b="b"/>
            <a:pathLst>
              <a:path w="373" h="596">
                <a:moveTo>
                  <a:pt x="5755" y="12576"/>
                </a:moveTo>
                <a:cubicBezTo>
                  <a:pt x="5812" y="12707"/>
                  <a:pt x="5815" y="12875"/>
                  <a:pt x="5829" y="13022"/>
                </a:cubicBezTo>
                <a:cubicBezTo>
                  <a:pt x="5829" y="13039"/>
                  <a:pt x="5829" y="13055"/>
                  <a:pt x="5829" y="13072"/>
                </a:cubicBezTo>
                <a:cubicBezTo>
                  <a:pt x="5829" y="12972"/>
                  <a:pt x="5821" y="12855"/>
                  <a:pt x="5928" y="12799"/>
                </a:cubicBezTo>
                <a:cubicBezTo>
                  <a:pt x="6095" y="12712"/>
                  <a:pt x="6122" y="12996"/>
                  <a:pt x="6127" y="13072"/>
                </a:cubicBezTo>
                <a:cubicBezTo>
                  <a:pt x="6133" y="13156"/>
                  <a:pt x="6131" y="13175"/>
                  <a:pt x="6077" y="1312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982800" y="4626000"/>
            <a:ext cx="115920" cy="204840"/>
          </a:xfrm>
          <a:custGeom>
            <a:avLst/>
            <a:gdLst/>
            <a:ahLst/>
            <a:rect l="l" t="t" r="r" b="b"/>
            <a:pathLst>
              <a:path w="323" h="571">
                <a:moveTo>
                  <a:pt x="2753" y="12874"/>
                </a:moveTo>
                <a:cubicBezTo>
                  <a:pt x="2686" y="12874"/>
                  <a:pt x="2836" y="12860"/>
                  <a:pt x="2902" y="12849"/>
                </a:cubicBezTo>
                <a:cubicBezTo>
                  <a:pt x="2937" y="12843"/>
                  <a:pt x="2994" y="12895"/>
                  <a:pt x="3001" y="12898"/>
                </a:cubicBezTo>
                <a:cubicBezTo>
                  <a:pt x="3060" y="12922"/>
                  <a:pt x="3067" y="12884"/>
                  <a:pt x="3051" y="12998"/>
                </a:cubicBezTo>
                <a:cubicBezTo>
                  <a:pt x="3031" y="13139"/>
                  <a:pt x="2994" y="13278"/>
                  <a:pt x="2977" y="134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1177920" y="4626000"/>
            <a:ext cx="108000" cy="196920"/>
          </a:xfrm>
          <a:custGeom>
            <a:avLst/>
            <a:gdLst/>
            <a:ahLst/>
            <a:rect l="l" t="t" r="r" b="b"/>
            <a:pathLst>
              <a:path w="299" h="547">
                <a:moveTo>
                  <a:pt x="3324" y="12923"/>
                </a:moveTo>
                <a:cubicBezTo>
                  <a:pt x="3400" y="12885"/>
                  <a:pt x="3462" y="12858"/>
                  <a:pt x="3547" y="12849"/>
                </a:cubicBezTo>
                <a:cubicBezTo>
                  <a:pt x="3592" y="12981"/>
                  <a:pt x="3537" y="13084"/>
                  <a:pt x="3448" y="13196"/>
                </a:cubicBezTo>
                <a:cubicBezTo>
                  <a:pt x="3393" y="13265"/>
                  <a:pt x="3332" y="13329"/>
                  <a:pt x="3274" y="13395"/>
                </a:cubicBezTo>
                <a:cubicBezTo>
                  <a:pt x="3356" y="13383"/>
                  <a:pt x="3462" y="13325"/>
                  <a:pt x="3547" y="13345"/>
                </a:cubicBezTo>
                <a:cubicBezTo>
                  <a:pt x="3555" y="13353"/>
                  <a:pt x="3564" y="13362"/>
                  <a:pt x="3572" y="133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1901880" y="4643280"/>
            <a:ext cx="90360" cy="36720"/>
          </a:xfrm>
          <a:custGeom>
            <a:avLst/>
            <a:gdLst/>
            <a:ahLst/>
            <a:rect l="l" t="t" r="r" b="b"/>
            <a:pathLst>
              <a:path w="249" h="101">
                <a:moveTo>
                  <a:pt x="5507" y="12973"/>
                </a:moveTo>
                <a:cubicBezTo>
                  <a:pt x="5515" y="12973"/>
                  <a:pt x="5523" y="12973"/>
                  <a:pt x="5531" y="12973"/>
                </a:cubicBezTo>
                <a:cubicBezTo>
                  <a:pt x="5531" y="12935"/>
                  <a:pt x="5526" y="12907"/>
                  <a:pt x="5482" y="12898"/>
                </a:cubicBezTo>
                <a:cubicBezTo>
                  <a:pt x="5402" y="12881"/>
                  <a:pt x="5402" y="12891"/>
                  <a:pt x="5383" y="12948"/>
                </a:cubicBezTo>
                <a:cubicBezTo>
                  <a:pt x="5427" y="12937"/>
                  <a:pt x="5466" y="12868"/>
                  <a:pt x="5383" y="12898"/>
                </a:cubicBezTo>
                <a:cubicBezTo>
                  <a:pt x="5351" y="12910"/>
                  <a:pt x="5339" y="12947"/>
                  <a:pt x="5333" y="12973"/>
                </a:cubicBezTo>
                <a:cubicBezTo>
                  <a:pt x="5359" y="12964"/>
                  <a:pt x="5378" y="12909"/>
                  <a:pt x="5333" y="12923"/>
                </a:cubicBezTo>
                <a:cubicBezTo>
                  <a:pt x="5285" y="12947"/>
                  <a:pt x="5268" y="12953"/>
                  <a:pt x="5283" y="12998"/>
                </a:cubicBezTo>
              </a:path>
            </a:pathLst>
          </a:custGeom>
          <a:noFill/>
          <a:ln cap="rnd" w="34920">
            <a:solidFill>
              <a:srgbClr val="ff00ff"/>
            </a:solidFill>
            <a:round/>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30" name=""/>
          <p:cNvSpPr/>
          <p:nvPr/>
        </p:nvSpPr>
        <p:spPr>
          <a:xfrm>
            <a:off x="1741320" y="4813200"/>
            <a:ext cx="438480" cy="44640"/>
          </a:xfrm>
          <a:custGeom>
            <a:avLst/>
            <a:gdLst/>
            <a:ahLst/>
            <a:rect l="l" t="t" r="r" b="b"/>
            <a:pathLst>
              <a:path w="1216" h="125">
                <a:moveTo>
                  <a:pt x="4837" y="13494"/>
                </a:moveTo>
                <a:cubicBezTo>
                  <a:pt x="4999" y="13494"/>
                  <a:pt x="5149" y="13439"/>
                  <a:pt x="5308" y="13419"/>
                </a:cubicBezTo>
                <a:cubicBezTo>
                  <a:pt x="5546" y="13390"/>
                  <a:pt x="5788" y="13370"/>
                  <a:pt x="6028" y="13370"/>
                </a:cubicBezTo>
                <a:cubicBezTo>
                  <a:pt x="6052" y="13370"/>
                  <a:pt x="6060" y="13370"/>
                  <a:pt x="6052" y="13395"/>
                </a:cubicBezTo>
              </a:path>
            </a:pathLst>
          </a:custGeom>
          <a:noFill/>
          <a:ln cap="rnd" w="34920">
            <a:solidFill>
              <a:srgbClr val="ff00ff"/>
            </a:solidFill>
            <a:round/>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31" name=""/>
          <p:cNvSpPr/>
          <p:nvPr/>
        </p:nvSpPr>
        <p:spPr>
          <a:xfrm>
            <a:off x="1893960" y="4884840"/>
            <a:ext cx="125280" cy="231840"/>
          </a:xfrm>
          <a:custGeom>
            <a:avLst/>
            <a:gdLst/>
            <a:ahLst/>
            <a:rect l="l" t="t" r="r" b="b"/>
            <a:pathLst>
              <a:path w="348" h="646">
                <a:moveTo>
                  <a:pt x="5606" y="13568"/>
                </a:moveTo>
                <a:cubicBezTo>
                  <a:pt x="5499" y="13586"/>
                  <a:pt x="5365" y="13645"/>
                  <a:pt x="5283" y="13717"/>
                </a:cubicBezTo>
                <a:cubicBezTo>
                  <a:pt x="5260" y="13765"/>
                  <a:pt x="5252" y="13780"/>
                  <a:pt x="5259" y="13816"/>
                </a:cubicBezTo>
                <a:cubicBezTo>
                  <a:pt x="5397" y="13920"/>
                  <a:pt x="5493" y="13973"/>
                  <a:pt x="5531" y="14139"/>
                </a:cubicBezTo>
                <a:cubicBezTo>
                  <a:pt x="5465" y="14190"/>
                  <a:pt x="5310" y="14278"/>
                  <a:pt x="5259" y="14139"/>
                </a:cubicBezTo>
                <a:cubicBezTo>
                  <a:pt x="5211" y="14007"/>
                  <a:pt x="5391" y="13880"/>
                  <a:pt x="5457" y="13791"/>
                </a:cubicBezTo>
                <a:cubicBezTo>
                  <a:pt x="5544" y="13673"/>
                  <a:pt x="5532" y="13653"/>
                  <a:pt x="5407" y="136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982800" y="4875120"/>
            <a:ext cx="384120" cy="19080"/>
          </a:xfrm>
          <a:custGeom>
            <a:avLst/>
            <a:gdLst/>
            <a:ahLst/>
            <a:rect l="l" t="t" r="r" b="b"/>
            <a:pathLst>
              <a:path w="1067" h="51">
                <a:moveTo>
                  <a:pt x="2729" y="13593"/>
                </a:moveTo>
                <a:cubicBezTo>
                  <a:pt x="2979" y="13593"/>
                  <a:pt x="3224" y="13577"/>
                  <a:pt x="3473" y="13568"/>
                </a:cubicBezTo>
                <a:cubicBezTo>
                  <a:pt x="3609" y="13563"/>
                  <a:pt x="3673" y="13561"/>
                  <a:pt x="3795" y="13543"/>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33" name=""/>
          <p:cNvSpPr/>
          <p:nvPr/>
        </p:nvSpPr>
        <p:spPr>
          <a:xfrm>
            <a:off x="1035000" y="4991040"/>
            <a:ext cx="135000" cy="206280"/>
          </a:xfrm>
          <a:custGeom>
            <a:avLst/>
            <a:gdLst/>
            <a:ahLst/>
            <a:rect l="l" t="t" r="r" b="b"/>
            <a:pathLst>
              <a:path w="373" h="571">
                <a:moveTo>
                  <a:pt x="3249" y="13866"/>
                </a:moveTo>
                <a:cubicBezTo>
                  <a:pt x="3129" y="13883"/>
                  <a:pt x="3027" y="13921"/>
                  <a:pt x="2927" y="13990"/>
                </a:cubicBezTo>
                <a:cubicBezTo>
                  <a:pt x="2897" y="14020"/>
                  <a:pt x="2886" y="14034"/>
                  <a:pt x="2877" y="14064"/>
                </a:cubicBezTo>
                <a:cubicBezTo>
                  <a:pt x="2960" y="14154"/>
                  <a:pt x="3143" y="14209"/>
                  <a:pt x="3200" y="14312"/>
                </a:cubicBezTo>
                <a:cubicBezTo>
                  <a:pt x="3200" y="14364"/>
                  <a:pt x="3199" y="14382"/>
                  <a:pt x="3175" y="14412"/>
                </a:cubicBezTo>
                <a:cubicBezTo>
                  <a:pt x="3099" y="14417"/>
                  <a:pt x="2959" y="14436"/>
                  <a:pt x="2977" y="14312"/>
                </a:cubicBezTo>
                <a:cubicBezTo>
                  <a:pt x="2998" y="14166"/>
                  <a:pt x="3134" y="14094"/>
                  <a:pt x="3225" y="13990"/>
                </a:cubicBezTo>
                <a:cubicBezTo>
                  <a:pt x="3276" y="13931"/>
                  <a:pt x="3162" y="13956"/>
                  <a:pt x="3125" y="1396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
          <p:cNvSpPr/>
          <p:nvPr/>
        </p:nvSpPr>
        <p:spPr>
          <a:xfrm>
            <a:off x="1482840" y="5429160"/>
            <a:ext cx="88920" cy="9720"/>
          </a:xfrm>
          <a:custGeom>
            <a:avLst/>
            <a:gdLst/>
            <a:ahLst/>
            <a:rect l="l" t="t" r="r" b="b"/>
            <a:pathLst>
              <a:path w="249" h="26">
                <a:moveTo>
                  <a:pt x="4118" y="15081"/>
                </a:moveTo>
                <a:cubicBezTo>
                  <a:pt x="4185" y="15081"/>
                  <a:pt x="4348" y="15051"/>
                  <a:pt x="4366" y="15106"/>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35" name=""/>
          <p:cNvSpPr/>
          <p:nvPr/>
        </p:nvSpPr>
        <p:spPr>
          <a:xfrm>
            <a:off x="1473120" y="5491080"/>
            <a:ext cx="81000" cy="9720"/>
          </a:xfrm>
          <a:custGeom>
            <a:avLst/>
            <a:gdLst/>
            <a:ahLst/>
            <a:rect l="l" t="t" r="r" b="b"/>
            <a:pathLst>
              <a:path w="224" h="26">
                <a:moveTo>
                  <a:pt x="4093" y="15280"/>
                </a:moveTo>
                <a:cubicBezTo>
                  <a:pt x="4169" y="15275"/>
                  <a:pt x="4241" y="15264"/>
                  <a:pt x="4316" y="15255"/>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36" name=""/>
          <p:cNvSpPr/>
          <p:nvPr/>
        </p:nvSpPr>
        <p:spPr>
          <a:xfrm>
            <a:off x="1687680" y="4491000"/>
            <a:ext cx="285480" cy="689040"/>
          </a:xfrm>
          <a:custGeom>
            <a:avLst/>
            <a:gdLst/>
            <a:ahLst/>
            <a:rect l="l" t="t" r="r" b="b"/>
            <a:pathLst>
              <a:path w="795" h="1911">
                <a:moveTo>
                  <a:pt x="4713" y="12477"/>
                </a:moveTo>
                <a:cubicBezTo>
                  <a:pt x="4713" y="12523"/>
                  <a:pt x="4710" y="12575"/>
                  <a:pt x="4738" y="12650"/>
                </a:cubicBezTo>
                <a:cubicBezTo>
                  <a:pt x="4770" y="12736"/>
                  <a:pt x="4815" y="12822"/>
                  <a:pt x="4862" y="12898"/>
                </a:cubicBezTo>
                <a:cubicBezTo>
                  <a:pt x="4918" y="12990"/>
                  <a:pt x="4980" y="13076"/>
                  <a:pt x="5035" y="13171"/>
                </a:cubicBezTo>
                <a:cubicBezTo>
                  <a:pt x="5103" y="13289"/>
                  <a:pt x="5140" y="13443"/>
                  <a:pt x="5184" y="13568"/>
                </a:cubicBezTo>
                <a:cubicBezTo>
                  <a:pt x="5210" y="13642"/>
                  <a:pt x="5234" y="13724"/>
                  <a:pt x="5259" y="13791"/>
                </a:cubicBezTo>
                <a:cubicBezTo>
                  <a:pt x="5298" y="13898"/>
                  <a:pt x="5347" y="14008"/>
                  <a:pt x="5383" y="14114"/>
                </a:cubicBezTo>
                <a:cubicBezTo>
                  <a:pt x="5407" y="14184"/>
                  <a:pt x="5427" y="14252"/>
                  <a:pt x="5457" y="14312"/>
                </a:cubicBezTo>
                <a:cubicBezTo>
                  <a:pt x="5468" y="14334"/>
                  <a:pt x="5473" y="14363"/>
                  <a:pt x="5482" y="1438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1652760" y="5313240"/>
            <a:ext cx="152280" cy="214560"/>
          </a:xfrm>
          <a:custGeom>
            <a:avLst/>
            <a:gdLst/>
            <a:ahLst/>
            <a:rect l="l" t="t" r="r" b="b"/>
            <a:pathLst>
              <a:path w="423" h="596">
                <a:moveTo>
                  <a:pt x="4638" y="14784"/>
                </a:moveTo>
                <a:cubicBezTo>
                  <a:pt x="4608" y="14690"/>
                  <a:pt x="4614" y="14908"/>
                  <a:pt x="4614" y="15007"/>
                </a:cubicBezTo>
                <a:cubicBezTo>
                  <a:pt x="4614" y="15057"/>
                  <a:pt x="4614" y="15362"/>
                  <a:pt x="4614" y="15329"/>
                </a:cubicBezTo>
                <a:cubicBezTo>
                  <a:pt x="4580" y="15272"/>
                  <a:pt x="4584" y="15258"/>
                  <a:pt x="4614" y="15205"/>
                </a:cubicBezTo>
                <a:cubicBezTo>
                  <a:pt x="4645" y="15149"/>
                  <a:pt x="4646" y="15108"/>
                  <a:pt x="4713" y="15081"/>
                </a:cubicBezTo>
                <a:cubicBezTo>
                  <a:pt x="4760" y="15062"/>
                  <a:pt x="4833" y="15041"/>
                  <a:pt x="4887" y="15056"/>
                </a:cubicBezTo>
                <a:cubicBezTo>
                  <a:pt x="4960" y="15077"/>
                  <a:pt x="5007" y="15137"/>
                  <a:pt x="5011" y="15205"/>
                </a:cubicBezTo>
                <a:cubicBezTo>
                  <a:pt x="5014" y="15254"/>
                  <a:pt x="5011" y="15305"/>
                  <a:pt x="5011" y="153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1000080" y="5303880"/>
            <a:ext cx="135000" cy="295200"/>
          </a:xfrm>
          <a:custGeom>
            <a:avLst/>
            <a:gdLst/>
            <a:ahLst/>
            <a:rect l="l" t="t" r="r" b="b"/>
            <a:pathLst>
              <a:path w="373" h="820">
                <a:moveTo>
                  <a:pt x="3125" y="14858"/>
                </a:moveTo>
                <a:cubicBezTo>
                  <a:pt x="3142" y="14909"/>
                  <a:pt x="3149" y="14875"/>
                  <a:pt x="3125" y="14833"/>
                </a:cubicBezTo>
                <a:cubicBezTo>
                  <a:pt x="3086" y="14764"/>
                  <a:pt x="2992" y="14691"/>
                  <a:pt x="2902" y="14734"/>
                </a:cubicBezTo>
                <a:cubicBezTo>
                  <a:pt x="2803" y="14782"/>
                  <a:pt x="2746" y="15010"/>
                  <a:pt x="2778" y="15106"/>
                </a:cubicBezTo>
                <a:cubicBezTo>
                  <a:pt x="2795" y="15123"/>
                  <a:pt x="2811" y="15139"/>
                  <a:pt x="2828" y="15156"/>
                </a:cubicBezTo>
                <a:cubicBezTo>
                  <a:pt x="2985" y="15144"/>
                  <a:pt x="3069" y="15104"/>
                  <a:pt x="3150" y="14957"/>
                </a:cubicBezTo>
                <a:cubicBezTo>
                  <a:pt x="3150" y="14922"/>
                  <a:pt x="3145" y="14905"/>
                  <a:pt x="3125" y="14883"/>
                </a:cubicBezTo>
                <a:cubicBezTo>
                  <a:pt x="3161" y="15027"/>
                  <a:pt x="3111" y="15240"/>
                  <a:pt x="3101" y="15404"/>
                </a:cubicBezTo>
                <a:cubicBezTo>
                  <a:pt x="3098" y="15452"/>
                  <a:pt x="3101" y="15504"/>
                  <a:pt x="3101" y="1555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1241280" y="5483160"/>
            <a:ext cx="9720" cy="81000"/>
          </a:xfrm>
          <a:custGeom>
            <a:avLst/>
            <a:gdLst/>
            <a:ahLst/>
            <a:rect l="l" t="t" r="r" b="b"/>
            <a:pathLst>
              <a:path w="26" h="224">
                <a:moveTo>
                  <a:pt x="3473" y="15255"/>
                </a:moveTo>
                <a:cubicBezTo>
                  <a:pt x="3473" y="15188"/>
                  <a:pt x="3459" y="15337"/>
                  <a:pt x="3448" y="15404"/>
                </a:cubicBezTo>
                <a:cubicBezTo>
                  <a:pt x="3448" y="15429"/>
                  <a:pt x="3448" y="15437"/>
                  <a:pt x="3448" y="15453"/>
                </a:cubicBezTo>
              </a:path>
            </a:pathLst>
          </a:custGeom>
          <a:noFill/>
          <a:ln cap="rnd" w="34920">
            <a:solidFill>
              <a:srgbClr val="ff00ff"/>
            </a:solidFill>
            <a:round/>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0" name=""/>
          <p:cNvSpPr/>
          <p:nvPr/>
        </p:nvSpPr>
        <p:spPr>
          <a:xfrm>
            <a:off x="1231920" y="5419800"/>
            <a:ext cx="9360" cy="1440"/>
          </a:xfrm>
          <a:custGeom>
            <a:avLst/>
            <a:gdLst/>
            <a:ahLst/>
            <a:rect l="l" t="t" r="r" b="b"/>
            <a:pathLst>
              <a:path w="26" h="1">
                <a:moveTo>
                  <a:pt x="3448" y="15056"/>
                </a:moveTo>
                <a:cubicBezTo>
                  <a:pt x="3440" y="15056"/>
                  <a:pt x="3431" y="15056"/>
                  <a:pt x="3423" y="15056"/>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41" name=""/>
          <p:cNvSpPr/>
          <p:nvPr/>
        </p:nvSpPr>
        <p:spPr>
          <a:xfrm>
            <a:off x="1320840" y="5456160"/>
            <a:ext cx="73080" cy="98640"/>
          </a:xfrm>
          <a:custGeom>
            <a:avLst/>
            <a:gdLst/>
            <a:ahLst/>
            <a:rect l="l" t="t" r="r" b="b"/>
            <a:pathLst>
              <a:path w="200" h="274">
                <a:moveTo>
                  <a:pt x="3671" y="15230"/>
                </a:moveTo>
                <a:cubicBezTo>
                  <a:pt x="3682" y="15285"/>
                  <a:pt x="3690" y="15319"/>
                  <a:pt x="3696" y="15379"/>
                </a:cubicBezTo>
                <a:cubicBezTo>
                  <a:pt x="3683" y="15301"/>
                  <a:pt x="3660" y="15271"/>
                  <a:pt x="3696" y="15205"/>
                </a:cubicBezTo>
                <a:cubicBezTo>
                  <a:pt x="3744" y="15117"/>
                  <a:pt x="3804" y="15148"/>
                  <a:pt x="3845" y="15230"/>
                </a:cubicBezTo>
                <a:cubicBezTo>
                  <a:pt x="3878" y="15295"/>
                  <a:pt x="3870" y="15359"/>
                  <a:pt x="3870" y="1542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88" dur="2000"/>
                                        <p:tgtEl>
                                          <p:spTgt spid="199">
                                            <p:txEl>
                                              <p:pRg st="0" end="0"/>
                                            </p:txEl>
                                          </p:spTgt>
                                        </p:tgtEl>
                                      </p:cBhvr>
                                    </p:animEffect>
                                    <p:anim calcmode="lin" valueType="num">
                                      <p:cBhvr additive="repl">
                                        <p:cTn id="289" dur="2000" fill="hold"/>
                                        <p:tgtEl>
                                          <p:spTgt spid="199">
                                            <p:txEl>
                                              <p:pRg st="0" end="0"/>
                                            </p:txEl>
                                          </p:spTgt>
                                        </p:tgtEl>
                                        <p:attrNameLst>
                                          <p:attrName>r</p:attrName>
                                        </p:attrNameLst>
                                      </p:cBhvr>
                                      <p:tavLst>
                                        <p:tav tm="0">
                                          <p:val>
                                            <p:strVal val="720"/>
                                          </p:val>
                                        </p:tav>
                                        <p:tav tm="100000">
                                          <p:val>
                                            <p:strVal val="0"/>
                                          </p:val>
                                        </p:tav>
                                      </p:tavLst>
                                    </p:anim>
                                    <p:anim calcmode="lin" valueType="num">
                                      <p:cBhvr additive="repl">
                                        <p:cTn id="290" dur="20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291" dur="2000" fill="hold"/>
                                        <p:tgtEl>
                                          <p:spTgt spid="199">
                                            <p:txEl>
                                              <p:pRg st="0" end="0"/>
                                            </p:txEl>
                                          </p:spTgt>
                                        </p:tgtEl>
                                        <p:attrNameLst>
                                          <p:attrName>ppt_w</p:attrName>
                                        </p:attrNameLst>
                                      </p:cBhvr>
                                      <p:tavLst>
                                        <p:tav tm="0">
                                          <p:val>
                                            <p:fltVal val="0"/>
                                          </p:val>
                                        </p:tav>
                                        <p:tav tm="100000">
                                          <p:val>
                                            <p:strVal val="#ppt_w"/>
                                          </p:val>
                                        </p:tav>
                                      </p:tavLst>
                                    </p:anim>
                                  </p:childTnLst>
                                </p:cTn>
                              </p:par>
                              <p:par>
                                <p:cTn id="292" nodeType="withEffect" fill="hold" presetClass="entr" presetID="35">
                                  <p:stCondLst>
                                    <p:cond delay="0"/>
                                  </p:stCondLst>
                                  <p:childTnLst>
                                    <p:set>
                                      <p:cBhvr>
                                        <p:cTn id="293" dur="1" fill="hold">
                                          <p:stCondLst>
                                            <p:cond delay="0"/>
                                          </p:stCondLst>
                                        </p:cTn>
                                        <p:tgtEl>
                                          <p:spTgt spid="201"/>
                                        </p:tgtEl>
                                        <p:attrNameLst>
                                          <p:attrName>style.visibility</p:attrName>
                                        </p:attrNameLst>
                                      </p:cBhvr>
                                      <p:to>
                                        <p:strVal val="visible"/>
                                      </p:to>
                                    </p:set>
                                    <p:animEffect filter="fade" transition="in">
                                      <p:cBhvr additive="repl">
                                        <p:cTn id="294" dur="2000"/>
                                        <p:tgtEl>
                                          <p:spTgt spid="201"/>
                                        </p:tgtEl>
                                      </p:cBhvr>
                                    </p:animEffect>
                                    <p:anim calcmode="lin" valueType="num">
                                      <p:cBhvr additive="repl">
                                        <p:cTn id="295" dur="2000" fill="hold"/>
                                        <p:tgtEl>
                                          <p:spTgt spid="201"/>
                                        </p:tgtEl>
                                        <p:attrNameLst>
                                          <p:attrName>r</p:attrName>
                                        </p:attrNameLst>
                                      </p:cBhvr>
                                      <p:tavLst>
                                        <p:tav tm="0">
                                          <p:val>
                                            <p:strVal val="720"/>
                                          </p:val>
                                        </p:tav>
                                        <p:tav tm="100000">
                                          <p:val>
                                            <p:strVal val="0"/>
                                          </p:val>
                                        </p:tav>
                                      </p:tavLst>
                                    </p:anim>
                                    <p:anim calcmode="lin" valueType="num">
                                      <p:cBhvr additive="repl">
                                        <p:cTn id="296" dur="2000" fill="hold"/>
                                        <p:tgtEl>
                                          <p:spTgt spid="201"/>
                                        </p:tgtEl>
                                        <p:attrNameLst>
                                          <p:attrName>ppt_h</p:attrName>
                                        </p:attrNameLst>
                                      </p:cBhvr>
                                      <p:tavLst>
                                        <p:tav tm="0">
                                          <p:val>
                                            <p:fltVal val="0"/>
                                          </p:val>
                                        </p:tav>
                                        <p:tav tm="100000">
                                          <p:val>
                                            <p:strVal val="#ppt_h"/>
                                          </p:val>
                                        </p:tav>
                                      </p:tavLst>
                                    </p:anim>
                                    <p:anim calcmode="lin" valueType="num">
                                      <p:cBhvr additive="repl">
                                        <p:cTn id="297" dur="2000" fill="hold"/>
                                        <p:tgtEl>
                                          <p:spTgt spid="201"/>
                                        </p:tgtEl>
                                        <p:attrNameLst>
                                          <p:attrName>ppt_w</p:attrName>
                                        </p:attrNameLst>
                                      </p:cBhvr>
                                      <p:tavLst>
                                        <p:tav tm="0">
                                          <p:val>
                                            <p:fltVal val="0"/>
                                          </p:val>
                                        </p:tav>
                                        <p:tav tm="100000">
                                          <p:val>
                                            <p:strVal val="#ppt_w"/>
                                          </p:val>
                                        </p:tav>
                                      </p:tavLst>
                                    </p:anim>
                                  </p:childTnLst>
                                </p:cTn>
                              </p:par>
                              <p:par>
                                <p:cTn id="298" nodeType="withEffect" fill="hold" presetClass="entr" presetID="35">
                                  <p:stCondLst>
                                    <p:cond delay="0"/>
                                  </p:stCondLst>
                                  <p:childTnLst>
                                    <p:set>
                                      <p:cBhvr>
                                        <p:cTn id="299" dur="1" fill="hold">
                                          <p:stCondLst>
                                            <p:cond delay="0"/>
                                          </p:stCondLst>
                                        </p:cTn>
                                        <p:tgtEl>
                                          <p:spTgt spid="203"/>
                                        </p:tgtEl>
                                        <p:attrNameLst>
                                          <p:attrName>style.visibility</p:attrName>
                                        </p:attrNameLst>
                                      </p:cBhvr>
                                      <p:to>
                                        <p:strVal val="visible"/>
                                      </p:to>
                                    </p:set>
                                    <p:animEffect filter="fade" transition="in">
                                      <p:cBhvr additive="repl">
                                        <p:cTn id="300" dur="2000"/>
                                        <p:tgtEl>
                                          <p:spTgt spid="203"/>
                                        </p:tgtEl>
                                      </p:cBhvr>
                                    </p:animEffect>
                                    <p:anim calcmode="lin" valueType="num">
                                      <p:cBhvr additive="repl">
                                        <p:cTn id="301" dur="2000" fill="hold"/>
                                        <p:tgtEl>
                                          <p:spTgt spid="203"/>
                                        </p:tgtEl>
                                        <p:attrNameLst>
                                          <p:attrName>r</p:attrName>
                                        </p:attrNameLst>
                                      </p:cBhvr>
                                      <p:tavLst>
                                        <p:tav tm="0">
                                          <p:val>
                                            <p:strVal val="720"/>
                                          </p:val>
                                        </p:tav>
                                        <p:tav tm="100000">
                                          <p:val>
                                            <p:strVal val="0"/>
                                          </p:val>
                                        </p:tav>
                                      </p:tavLst>
                                    </p:anim>
                                    <p:anim calcmode="lin" valueType="num">
                                      <p:cBhvr additive="repl">
                                        <p:cTn id="302" dur="2000" fill="hold"/>
                                        <p:tgtEl>
                                          <p:spTgt spid="203"/>
                                        </p:tgtEl>
                                        <p:attrNameLst>
                                          <p:attrName>ppt_h</p:attrName>
                                        </p:attrNameLst>
                                      </p:cBhvr>
                                      <p:tavLst>
                                        <p:tav tm="0">
                                          <p:val>
                                            <p:fltVal val="0"/>
                                          </p:val>
                                        </p:tav>
                                        <p:tav tm="100000">
                                          <p:val>
                                            <p:strVal val="#ppt_h"/>
                                          </p:val>
                                        </p:tav>
                                      </p:tavLst>
                                    </p:anim>
                                    <p:anim calcmode="lin" valueType="num">
                                      <p:cBhvr additive="repl">
                                        <p:cTn id="303"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5">
                                  <p:stCondLst>
                                    <p:cond delay="0"/>
                                  </p:stCondLst>
                                  <p:childTnLst>
                                    <p:set>
                                      <p:cBhvr>
                                        <p:cTn id="307" dur="1" fill="hold">
                                          <p:stCondLst>
                                            <p:cond delay="0"/>
                                          </p:stCondLst>
                                        </p:cTn>
                                        <p:tgtEl>
                                          <p:spTgt spid="205"/>
                                        </p:tgtEl>
                                        <p:attrNameLst>
                                          <p:attrName>style.visibility</p:attrName>
                                        </p:attrNameLst>
                                      </p:cBhvr>
                                      <p:to>
                                        <p:strVal val="visible"/>
                                      </p:to>
                                    </p:set>
                                    <p:animEffect filter="fade" transition="in">
                                      <p:cBhvr additive="repl">
                                        <p:cTn id="308" dur="2000"/>
                                        <p:tgtEl>
                                          <p:spTgt spid="205"/>
                                        </p:tgtEl>
                                      </p:cBhvr>
                                    </p:animEffect>
                                    <p:anim calcmode="lin" valueType="num">
                                      <p:cBhvr additive="repl">
                                        <p:cTn id="309" dur="2000" fill="hold"/>
                                        <p:tgtEl>
                                          <p:spTgt spid="205"/>
                                        </p:tgtEl>
                                        <p:attrNameLst>
                                          <p:attrName>r</p:attrName>
                                        </p:attrNameLst>
                                      </p:cBhvr>
                                      <p:tavLst>
                                        <p:tav tm="0">
                                          <p:val>
                                            <p:strVal val="720"/>
                                          </p:val>
                                        </p:tav>
                                        <p:tav tm="100000">
                                          <p:val>
                                            <p:strVal val="0"/>
                                          </p:val>
                                        </p:tav>
                                      </p:tavLst>
                                    </p:anim>
                                    <p:anim calcmode="lin" valueType="num">
                                      <p:cBhvr additive="repl">
                                        <p:cTn id="310" dur="2000" fill="hold"/>
                                        <p:tgtEl>
                                          <p:spTgt spid="205"/>
                                        </p:tgtEl>
                                        <p:attrNameLst>
                                          <p:attrName>ppt_h</p:attrName>
                                        </p:attrNameLst>
                                      </p:cBhvr>
                                      <p:tavLst>
                                        <p:tav tm="0">
                                          <p:val>
                                            <p:fltVal val="0"/>
                                          </p:val>
                                        </p:tav>
                                        <p:tav tm="100000">
                                          <p:val>
                                            <p:strVal val="#ppt_h"/>
                                          </p:val>
                                        </p:tav>
                                      </p:tavLst>
                                    </p:anim>
                                    <p:anim calcmode="lin" valueType="num">
                                      <p:cBhvr additive="repl">
                                        <p:cTn id="311" dur="2000" fill="hold"/>
                                        <p:tgtEl>
                                          <p:spTgt spid="205"/>
                                        </p:tgtEl>
                                        <p:attrNameLst>
                                          <p:attrName>ppt_w</p:attrName>
                                        </p:attrNameLst>
                                      </p:cBhvr>
                                      <p:tavLst>
                                        <p:tav tm="0">
                                          <p:val>
                                            <p:fltVal val="0"/>
                                          </p:val>
                                        </p:tav>
                                        <p:tav tm="100000">
                                          <p:val>
                                            <p:strVal val="#ppt_w"/>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5">
                                  <p:stCondLst>
                                    <p:cond delay="0"/>
                                  </p:stCondLst>
                                  <p:childTnLst>
                                    <p:set>
                                      <p:cBhvr>
                                        <p:cTn id="315" dur="1" fill="hold">
                                          <p:stCondLst>
                                            <p:cond delay="0"/>
                                          </p:stCondLst>
                                        </p:cTn>
                                        <p:tgtEl>
                                          <p:spTgt spid="207"/>
                                        </p:tgtEl>
                                        <p:attrNameLst>
                                          <p:attrName>style.visibility</p:attrName>
                                        </p:attrNameLst>
                                      </p:cBhvr>
                                      <p:to>
                                        <p:strVal val="visible"/>
                                      </p:to>
                                    </p:set>
                                    <p:animEffect filter="fade" transition="in">
                                      <p:cBhvr additive="repl">
                                        <p:cTn id="316" dur="2000"/>
                                        <p:tgtEl>
                                          <p:spTgt spid="207"/>
                                        </p:tgtEl>
                                      </p:cBhvr>
                                    </p:animEffect>
                                    <p:anim calcmode="lin" valueType="num">
                                      <p:cBhvr additive="repl">
                                        <p:cTn id="317" dur="2000" fill="hold"/>
                                        <p:tgtEl>
                                          <p:spTgt spid="207"/>
                                        </p:tgtEl>
                                        <p:attrNameLst>
                                          <p:attrName>r</p:attrName>
                                        </p:attrNameLst>
                                      </p:cBhvr>
                                      <p:tavLst>
                                        <p:tav tm="0">
                                          <p:val>
                                            <p:strVal val="720"/>
                                          </p:val>
                                        </p:tav>
                                        <p:tav tm="100000">
                                          <p:val>
                                            <p:strVal val="0"/>
                                          </p:val>
                                        </p:tav>
                                      </p:tavLst>
                                    </p:anim>
                                    <p:anim calcmode="lin" valueType="num">
                                      <p:cBhvr additive="repl">
                                        <p:cTn id="318" dur="2000" fill="hold"/>
                                        <p:tgtEl>
                                          <p:spTgt spid="207"/>
                                        </p:tgtEl>
                                        <p:attrNameLst>
                                          <p:attrName>ppt_h</p:attrName>
                                        </p:attrNameLst>
                                      </p:cBhvr>
                                      <p:tavLst>
                                        <p:tav tm="0">
                                          <p:val>
                                            <p:fltVal val="0"/>
                                          </p:val>
                                        </p:tav>
                                        <p:tav tm="100000">
                                          <p:val>
                                            <p:strVal val="#ppt_h"/>
                                          </p:val>
                                        </p:tav>
                                      </p:tavLst>
                                    </p:anim>
                                    <p:anim calcmode="lin" valueType="num">
                                      <p:cBhvr additive="repl">
                                        <p:cTn id="319" dur="2000" fill="hold"/>
                                        <p:tgtEl>
                                          <p:spTgt spid="207"/>
                                        </p:tgtEl>
                                        <p:attrNameLst>
                                          <p:attrName>ppt_w</p:attrName>
                                        </p:attrNameLst>
                                      </p:cBhvr>
                                      <p:tavLst>
                                        <p:tav tm="0">
                                          <p:val>
                                            <p:fltVal val="0"/>
                                          </p:val>
                                        </p:tav>
                                        <p:tav tm="100000">
                                          <p:val>
                                            <p:strVal val="#ppt_w"/>
                                          </p:val>
                                        </p:tav>
                                      </p:tavLst>
                                    </p:anim>
                                  </p:childTnLst>
                                </p:cTn>
                              </p:par>
                              <p:par>
                                <p:cTn id="320" nodeType="withEffect" fill="hold" presetClass="entr" presetID="35">
                                  <p:stCondLst>
                                    <p:cond delay="0"/>
                                  </p:stCondLst>
                                  <p:childTnLst>
                                    <p:set>
                                      <p:cBhvr>
                                        <p:cTn id="321" dur="1" fill="hold">
                                          <p:stCondLst>
                                            <p:cond delay="0"/>
                                          </p:stCondLst>
                                        </p:cTn>
                                        <p:tgtEl>
                                          <p:spTgt spid="214"/>
                                        </p:tgtEl>
                                        <p:attrNameLst>
                                          <p:attrName>style.visibility</p:attrName>
                                        </p:attrNameLst>
                                      </p:cBhvr>
                                      <p:to>
                                        <p:strVal val="visible"/>
                                      </p:to>
                                    </p:set>
                                    <p:animEffect filter="fade" transition="in">
                                      <p:cBhvr additive="repl">
                                        <p:cTn id="322" dur="2000"/>
                                        <p:tgtEl>
                                          <p:spTgt spid="214"/>
                                        </p:tgtEl>
                                      </p:cBhvr>
                                    </p:animEffect>
                                    <p:anim calcmode="lin" valueType="num">
                                      <p:cBhvr additive="repl">
                                        <p:cTn id="323" dur="2000" fill="hold"/>
                                        <p:tgtEl>
                                          <p:spTgt spid="214"/>
                                        </p:tgtEl>
                                        <p:attrNameLst>
                                          <p:attrName>r</p:attrName>
                                        </p:attrNameLst>
                                      </p:cBhvr>
                                      <p:tavLst>
                                        <p:tav tm="0">
                                          <p:val>
                                            <p:strVal val="720"/>
                                          </p:val>
                                        </p:tav>
                                        <p:tav tm="100000">
                                          <p:val>
                                            <p:strVal val="0"/>
                                          </p:val>
                                        </p:tav>
                                      </p:tavLst>
                                    </p:anim>
                                    <p:anim calcmode="lin" valueType="num">
                                      <p:cBhvr additive="repl">
                                        <p:cTn id="324" dur="2000" fill="hold"/>
                                        <p:tgtEl>
                                          <p:spTgt spid="214"/>
                                        </p:tgtEl>
                                        <p:attrNameLst>
                                          <p:attrName>ppt_h</p:attrName>
                                        </p:attrNameLst>
                                      </p:cBhvr>
                                      <p:tavLst>
                                        <p:tav tm="0">
                                          <p:val>
                                            <p:fltVal val="0"/>
                                          </p:val>
                                        </p:tav>
                                        <p:tav tm="100000">
                                          <p:val>
                                            <p:strVal val="#ppt_h"/>
                                          </p:val>
                                        </p:tav>
                                      </p:tavLst>
                                    </p:anim>
                                    <p:anim calcmode="lin" valueType="num">
                                      <p:cBhvr additive="repl">
                                        <p:cTn id="325" dur="2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5">
                                  <p:stCondLst>
                                    <p:cond delay="0"/>
                                  </p:stCondLst>
                                  <p:childTnLst>
                                    <p:set>
                                      <p:cBhvr>
                                        <p:cTn id="329" dur="1" fill="hold">
                                          <p:stCondLst>
                                            <p:cond delay="0"/>
                                          </p:stCondLst>
                                        </p:cTn>
                                        <p:tgtEl>
                                          <p:spTgt spid="209"/>
                                        </p:tgtEl>
                                        <p:attrNameLst>
                                          <p:attrName>style.visibility</p:attrName>
                                        </p:attrNameLst>
                                      </p:cBhvr>
                                      <p:to>
                                        <p:strVal val="visible"/>
                                      </p:to>
                                    </p:set>
                                    <p:animEffect filter="fade" transition="in">
                                      <p:cBhvr additive="repl">
                                        <p:cTn id="330" dur="2000"/>
                                        <p:tgtEl>
                                          <p:spTgt spid="209"/>
                                        </p:tgtEl>
                                      </p:cBhvr>
                                    </p:animEffect>
                                    <p:anim calcmode="lin" valueType="num">
                                      <p:cBhvr additive="repl">
                                        <p:cTn id="331" dur="2000" fill="hold"/>
                                        <p:tgtEl>
                                          <p:spTgt spid="209"/>
                                        </p:tgtEl>
                                        <p:attrNameLst>
                                          <p:attrName>r</p:attrName>
                                        </p:attrNameLst>
                                      </p:cBhvr>
                                      <p:tavLst>
                                        <p:tav tm="0">
                                          <p:val>
                                            <p:strVal val="720"/>
                                          </p:val>
                                        </p:tav>
                                        <p:tav tm="100000">
                                          <p:val>
                                            <p:strVal val="0"/>
                                          </p:val>
                                        </p:tav>
                                      </p:tavLst>
                                    </p:anim>
                                    <p:anim calcmode="lin" valueType="num">
                                      <p:cBhvr additive="repl">
                                        <p:cTn id="332" dur="2000" fill="hold"/>
                                        <p:tgtEl>
                                          <p:spTgt spid="209"/>
                                        </p:tgtEl>
                                        <p:attrNameLst>
                                          <p:attrName>ppt_h</p:attrName>
                                        </p:attrNameLst>
                                      </p:cBhvr>
                                      <p:tavLst>
                                        <p:tav tm="0">
                                          <p:val>
                                            <p:fltVal val="0"/>
                                          </p:val>
                                        </p:tav>
                                        <p:tav tm="100000">
                                          <p:val>
                                            <p:strVal val="#ppt_h"/>
                                          </p:val>
                                        </p:tav>
                                      </p:tavLst>
                                    </p:anim>
                                    <p:anim calcmode="lin" valueType="num">
                                      <p:cBhvr additive="repl">
                                        <p:cTn id="333" dur="2000" fill="hold"/>
                                        <p:tgtEl>
                                          <p:spTgt spid="209"/>
                                        </p:tgtEl>
                                        <p:attrNameLst>
                                          <p:attrName>ppt_w</p:attrName>
                                        </p:attrNameLst>
                                      </p:cBhvr>
                                      <p:tavLst>
                                        <p:tav tm="0">
                                          <p:val>
                                            <p:fltVal val="0"/>
                                          </p:val>
                                        </p:tav>
                                        <p:tav tm="100000">
                                          <p:val>
                                            <p:strVal val="#ppt_w"/>
                                          </p:val>
                                        </p:tav>
                                      </p:tavLst>
                                    </p:anim>
                                  </p:childTnLst>
                                </p:cTn>
                              </p:par>
                              <p:par>
                                <p:cTn id="334" nodeType="withEffect" fill="hold" presetClass="entr" presetID="35">
                                  <p:stCondLst>
                                    <p:cond delay="0"/>
                                  </p:stCondLst>
                                  <p:childTnLst>
                                    <p:set>
                                      <p:cBhvr>
                                        <p:cTn id="335" dur="1" fill="hold">
                                          <p:stCondLst>
                                            <p:cond delay="0"/>
                                          </p:stCondLst>
                                        </p:cTn>
                                        <p:tgtEl>
                                          <p:spTgt spid="215"/>
                                        </p:tgtEl>
                                        <p:attrNameLst>
                                          <p:attrName>style.visibility</p:attrName>
                                        </p:attrNameLst>
                                      </p:cBhvr>
                                      <p:to>
                                        <p:strVal val="visible"/>
                                      </p:to>
                                    </p:set>
                                    <p:animEffect filter="fade" transition="in">
                                      <p:cBhvr additive="repl">
                                        <p:cTn id="336" dur="2000"/>
                                        <p:tgtEl>
                                          <p:spTgt spid="215"/>
                                        </p:tgtEl>
                                      </p:cBhvr>
                                    </p:animEffect>
                                    <p:anim calcmode="lin" valueType="num">
                                      <p:cBhvr additive="repl">
                                        <p:cTn id="337" dur="2000" fill="hold"/>
                                        <p:tgtEl>
                                          <p:spTgt spid="215"/>
                                        </p:tgtEl>
                                        <p:attrNameLst>
                                          <p:attrName>r</p:attrName>
                                        </p:attrNameLst>
                                      </p:cBhvr>
                                      <p:tavLst>
                                        <p:tav tm="0">
                                          <p:val>
                                            <p:strVal val="720"/>
                                          </p:val>
                                        </p:tav>
                                        <p:tav tm="100000">
                                          <p:val>
                                            <p:strVal val="0"/>
                                          </p:val>
                                        </p:tav>
                                      </p:tavLst>
                                    </p:anim>
                                    <p:anim calcmode="lin" valueType="num">
                                      <p:cBhvr additive="repl">
                                        <p:cTn id="338" dur="2000" fill="hold"/>
                                        <p:tgtEl>
                                          <p:spTgt spid="215"/>
                                        </p:tgtEl>
                                        <p:attrNameLst>
                                          <p:attrName>ppt_h</p:attrName>
                                        </p:attrNameLst>
                                      </p:cBhvr>
                                      <p:tavLst>
                                        <p:tav tm="0">
                                          <p:val>
                                            <p:fltVal val="0"/>
                                          </p:val>
                                        </p:tav>
                                        <p:tav tm="100000">
                                          <p:val>
                                            <p:strVal val="#ppt_h"/>
                                          </p:val>
                                        </p:tav>
                                      </p:tavLst>
                                    </p:anim>
                                    <p:anim calcmode="lin" valueType="num">
                                      <p:cBhvr additive="repl">
                                        <p:cTn id="339" dur="2000" fill="hold"/>
                                        <p:tgtEl>
                                          <p:spTgt spid="215"/>
                                        </p:tgtEl>
                                        <p:attrNameLst>
                                          <p:attrName>ppt_w</p:attrName>
                                        </p:attrNameLst>
                                      </p:cBhvr>
                                      <p:tavLst>
                                        <p:tav tm="0">
                                          <p:val>
                                            <p:fltVal val="0"/>
                                          </p:val>
                                        </p:tav>
                                        <p:tav tm="100000">
                                          <p:val>
                                            <p:strVal val="#ppt_w"/>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211"/>
                                        </p:tgtEl>
                                        <p:attrNameLst>
                                          <p:attrName>style.visibility</p:attrName>
                                        </p:attrNameLst>
                                      </p:cBhvr>
                                      <p:to>
                                        <p:strVal val="visible"/>
                                      </p:to>
                                    </p:set>
                                    <p:animEffect filter="fade" transition="in">
                                      <p:cBhvr additive="repl">
                                        <p:cTn id="344" dur="2000"/>
                                        <p:tgtEl>
                                          <p:spTgt spid="211"/>
                                        </p:tgtEl>
                                      </p:cBhvr>
                                    </p:animEffect>
                                    <p:anim calcmode="lin" valueType="num">
                                      <p:cBhvr additive="repl">
                                        <p:cTn id="345" dur="2000" fill="hold"/>
                                        <p:tgtEl>
                                          <p:spTgt spid="211"/>
                                        </p:tgtEl>
                                        <p:attrNameLst>
                                          <p:attrName>r</p:attrName>
                                        </p:attrNameLst>
                                      </p:cBhvr>
                                      <p:tavLst>
                                        <p:tav tm="0">
                                          <p:val>
                                            <p:strVal val="720"/>
                                          </p:val>
                                        </p:tav>
                                        <p:tav tm="100000">
                                          <p:val>
                                            <p:strVal val="0"/>
                                          </p:val>
                                        </p:tav>
                                      </p:tavLst>
                                    </p:anim>
                                    <p:anim calcmode="lin" valueType="num">
                                      <p:cBhvr additive="repl">
                                        <p:cTn id="346" dur="2000" fill="hold"/>
                                        <p:tgtEl>
                                          <p:spTgt spid="211"/>
                                        </p:tgtEl>
                                        <p:attrNameLst>
                                          <p:attrName>ppt_h</p:attrName>
                                        </p:attrNameLst>
                                      </p:cBhvr>
                                      <p:tavLst>
                                        <p:tav tm="0">
                                          <p:val>
                                            <p:fltVal val="0"/>
                                          </p:val>
                                        </p:tav>
                                        <p:tav tm="100000">
                                          <p:val>
                                            <p:strVal val="#ppt_h"/>
                                          </p:val>
                                        </p:tav>
                                      </p:tavLst>
                                    </p:anim>
                                    <p:anim calcmode="lin" valueType="num">
                                      <p:cBhvr additive="repl">
                                        <p:cTn id="347" dur="2000" fill="hold"/>
                                        <p:tgtEl>
                                          <p:spTgt spid="211"/>
                                        </p:tgtEl>
                                        <p:attrNameLst>
                                          <p:attrName>ppt_w</p:attrName>
                                        </p:attrNameLst>
                                      </p:cBhvr>
                                      <p:tavLst>
                                        <p:tav tm="0">
                                          <p:val>
                                            <p:fltVal val="0"/>
                                          </p:val>
                                        </p:tav>
                                        <p:tav tm="100000">
                                          <p:val>
                                            <p:strVal val="#ppt_w"/>
                                          </p:val>
                                        </p:tav>
                                      </p:tavLst>
                                    </p:anim>
                                  </p:childTnLst>
                                </p:cTn>
                              </p:par>
                              <p:par>
                                <p:cTn id="348" nodeType="withEffect" fill="hold" presetClass="entr" presetID="35">
                                  <p:stCondLst>
                                    <p:cond delay="0"/>
                                  </p:stCondLst>
                                  <p:childTnLst>
                                    <p:set>
                                      <p:cBhvr>
                                        <p:cTn id="349" dur="1" fill="hold">
                                          <p:stCondLst>
                                            <p:cond delay="0"/>
                                          </p:stCondLst>
                                        </p:cTn>
                                        <p:tgtEl>
                                          <p:spTgt spid="216"/>
                                        </p:tgtEl>
                                        <p:attrNameLst>
                                          <p:attrName>style.visibility</p:attrName>
                                        </p:attrNameLst>
                                      </p:cBhvr>
                                      <p:to>
                                        <p:strVal val="visible"/>
                                      </p:to>
                                    </p:set>
                                    <p:animEffect filter="fade" transition="in">
                                      <p:cBhvr additive="repl">
                                        <p:cTn id="350" dur="2000"/>
                                        <p:tgtEl>
                                          <p:spTgt spid="216"/>
                                        </p:tgtEl>
                                      </p:cBhvr>
                                    </p:animEffect>
                                    <p:anim calcmode="lin" valueType="num">
                                      <p:cBhvr additive="repl">
                                        <p:cTn id="351" dur="2000" fill="hold"/>
                                        <p:tgtEl>
                                          <p:spTgt spid="216"/>
                                        </p:tgtEl>
                                        <p:attrNameLst>
                                          <p:attrName>r</p:attrName>
                                        </p:attrNameLst>
                                      </p:cBhvr>
                                      <p:tavLst>
                                        <p:tav tm="0">
                                          <p:val>
                                            <p:strVal val="720"/>
                                          </p:val>
                                        </p:tav>
                                        <p:tav tm="100000">
                                          <p:val>
                                            <p:strVal val="0"/>
                                          </p:val>
                                        </p:tav>
                                      </p:tavLst>
                                    </p:anim>
                                    <p:anim calcmode="lin" valueType="num">
                                      <p:cBhvr additive="repl">
                                        <p:cTn id="352" dur="2000" fill="hold"/>
                                        <p:tgtEl>
                                          <p:spTgt spid="216"/>
                                        </p:tgtEl>
                                        <p:attrNameLst>
                                          <p:attrName>ppt_h</p:attrName>
                                        </p:attrNameLst>
                                      </p:cBhvr>
                                      <p:tavLst>
                                        <p:tav tm="0">
                                          <p:val>
                                            <p:fltVal val="0"/>
                                          </p:val>
                                        </p:tav>
                                        <p:tav tm="100000">
                                          <p:val>
                                            <p:strVal val="#ppt_h"/>
                                          </p:val>
                                        </p:tav>
                                      </p:tavLst>
                                    </p:anim>
                                    <p:anim calcmode="lin" valueType="num">
                                      <p:cBhvr additive="repl">
                                        <p:cTn id="353" dur="2000" fill="hold"/>
                                        <p:tgtEl>
                                          <p:spTgt spid="216"/>
                                        </p:tgtEl>
                                        <p:attrNameLst>
                                          <p:attrName>ppt_w</p:attrName>
                                        </p:attrNameLst>
                                      </p:cBhvr>
                                      <p:tavLst>
                                        <p:tav tm="0">
                                          <p:val>
                                            <p:fltVal val="0"/>
                                          </p:val>
                                        </p:tav>
                                        <p:tav tm="100000">
                                          <p:val>
                                            <p:strVal val="#ppt_w"/>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5">
                                  <p:stCondLst>
                                    <p:cond delay="0"/>
                                  </p:stCondLst>
                                  <p:childTnLst>
                                    <p:set>
                                      <p:cBhvr>
                                        <p:cTn id="357" dur="1" fill="hold">
                                          <p:stCondLst>
                                            <p:cond delay="0"/>
                                          </p:stCondLst>
                                        </p:cTn>
                                        <p:tgtEl>
                                          <p:spTgt spid="213"/>
                                        </p:tgtEl>
                                        <p:attrNameLst>
                                          <p:attrName>style.visibility</p:attrName>
                                        </p:attrNameLst>
                                      </p:cBhvr>
                                      <p:to>
                                        <p:strVal val="visible"/>
                                      </p:to>
                                    </p:set>
                                    <p:animEffect filter="fade" transition="in">
                                      <p:cBhvr additive="repl">
                                        <p:cTn id="358" dur="2000"/>
                                        <p:tgtEl>
                                          <p:spTgt spid="213"/>
                                        </p:tgtEl>
                                      </p:cBhvr>
                                    </p:animEffect>
                                    <p:anim calcmode="lin" valueType="num">
                                      <p:cBhvr additive="repl">
                                        <p:cTn id="359" dur="2000" fill="hold"/>
                                        <p:tgtEl>
                                          <p:spTgt spid="213"/>
                                        </p:tgtEl>
                                        <p:attrNameLst>
                                          <p:attrName>r</p:attrName>
                                        </p:attrNameLst>
                                      </p:cBhvr>
                                      <p:tavLst>
                                        <p:tav tm="0">
                                          <p:val>
                                            <p:strVal val="720"/>
                                          </p:val>
                                        </p:tav>
                                        <p:tav tm="100000">
                                          <p:val>
                                            <p:strVal val="0"/>
                                          </p:val>
                                        </p:tav>
                                      </p:tavLst>
                                    </p:anim>
                                    <p:anim calcmode="lin" valueType="num">
                                      <p:cBhvr additive="repl">
                                        <p:cTn id="360" dur="2000" fill="hold"/>
                                        <p:tgtEl>
                                          <p:spTgt spid="213"/>
                                        </p:tgtEl>
                                        <p:attrNameLst>
                                          <p:attrName>ppt_h</p:attrName>
                                        </p:attrNameLst>
                                      </p:cBhvr>
                                      <p:tavLst>
                                        <p:tav tm="0">
                                          <p:val>
                                            <p:fltVal val="0"/>
                                          </p:val>
                                        </p:tav>
                                        <p:tav tm="100000">
                                          <p:val>
                                            <p:strVal val="#ppt_h"/>
                                          </p:val>
                                        </p:tav>
                                      </p:tavLst>
                                    </p:anim>
                                    <p:anim calcmode="lin" valueType="num">
                                      <p:cBhvr additive="repl">
                                        <p:cTn id="361" dur="2000" fill="hold"/>
                                        <p:tgtEl>
                                          <p:spTgt spid="213"/>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217"/>
                                        </p:tgtEl>
                                        <p:attrNameLst>
                                          <p:attrName>style.visibility</p:attrName>
                                        </p:attrNameLst>
                                      </p:cBhvr>
                                      <p:to>
                                        <p:strVal val="visible"/>
                                      </p:to>
                                    </p:set>
                                    <p:animEffect filter="fade" transition="in">
                                      <p:cBhvr additive="repl">
                                        <p:cTn id="364" dur="2000"/>
                                        <p:tgtEl>
                                          <p:spTgt spid="217"/>
                                        </p:tgtEl>
                                      </p:cBhvr>
                                    </p:animEffect>
                                    <p:anim calcmode="lin" valueType="num">
                                      <p:cBhvr additive="repl">
                                        <p:cTn id="365" dur="2000" fill="hold"/>
                                        <p:tgtEl>
                                          <p:spTgt spid="217"/>
                                        </p:tgtEl>
                                        <p:attrNameLst>
                                          <p:attrName>r</p:attrName>
                                        </p:attrNameLst>
                                      </p:cBhvr>
                                      <p:tavLst>
                                        <p:tav tm="0">
                                          <p:val>
                                            <p:strVal val="720"/>
                                          </p:val>
                                        </p:tav>
                                        <p:tav tm="100000">
                                          <p:val>
                                            <p:strVal val="0"/>
                                          </p:val>
                                        </p:tav>
                                      </p:tavLst>
                                    </p:anim>
                                    <p:anim calcmode="lin" valueType="num">
                                      <p:cBhvr additive="repl">
                                        <p:cTn id="366" dur="2000" fill="hold"/>
                                        <p:tgtEl>
                                          <p:spTgt spid="217"/>
                                        </p:tgtEl>
                                        <p:attrNameLst>
                                          <p:attrName>ppt_h</p:attrName>
                                        </p:attrNameLst>
                                      </p:cBhvr>
                                      <p:tavLst>
                                        <p:tav tm="0">
                                          <p:val>
                                            <p:fltVal val="0"/>
                                          </p:val>
                                        </p:tav>
                                        <p:tav tm="100000">
                                          <p:val>
                                            <p:strVal val="#ppt_h"/>
                                          </p:val>
                                        </p:tav>
                                      </p:tavLst>
                                    </p:anim>
                                    <p:anim calcmode="lin" valueType="num">
                                      <p:cBhvr additive="repl">
                                        <p:cTn id="367" dur="2000" fill="hold"/>
                                        <p:tgtEl>
                                          <p:spTgt spid="2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243" name=""/>
          <p:cNvGraphicFramePr/>
          <p:nvPr/>
        </p:nvGraphicFramePr>
        <p:xfrm>
          <a:off x="1066680" y="2438280"/>
          <a:ext cx="2121120" cy="432000"/>
        </p:xfrm>
        <a:graphic>
          <a:graphicData uri="http://schemas.openxmlformats.org/presentationml/2006/ole">
            <p:oleObj r:id="rId1" spid="">
              <p:embed/>
              <p:pic>
                <p:nvPicPr>
                  <p:cNvPr id="244"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245" name=""/>
          <p:cNvGraphicFramePr/>
          <p:nvPr/>
        </p:nvGraphicFramePr>
        <p:xfrm>
          <a:off x="3657600" y="2514600"/>
          <a:ext cx="1663560" cy="355680"/>
        </p:xfrm>
        <a:graphic>
          <a:graphicData uri="http://schemas.openxmlformats.org/presentationml/2006/ole">
            <p:oleObj r:id="rId3" spid="">
              <p:embed/>
              <p:pic>
                <p:nvPicPr>
                  <p:cNvPr id="246" name="" descr=""/>
                  <p:cNvPicPr/>
                  <p:nvPr/>
                </p:nvPicPr>
                <p:blipFill>
                  <a:blip r:embed="rId4"/>
                  <a:stretch/>
                </p:blipFill>
                <p:spPr>
                  <a:xfrm>
                    <a:off x="3657600" y="2514600"/>
                    <a:ext cx="1663560" cy="355680"/>
                  </a:xfrm>
                  <a:prstGeom prst="rect">
                    <a:avLst/>
                  </a:prstGeom>
                  <a:ln w="0">
                    <a:noFill/>
                  </a:ln>
                </p:spPr>
              </p:pic>
            </p:oleObj>
          </a:graphicData>
        </a:graphic>
      </p:graphicFrame>
      <p:sp>
        <p:nvSpPr>
          <p:cNvPr id="247"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248"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249"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250" name=""/>
          <p:cNvGraphicFramePr/>
          <p:nvPr/>
        </p:nvGraphicFramePr>
        <p:xfrm>
          <a:off x="1143000" y="3809880"/>
          <a:ext cx="2120760" cy="507960"/>
        </p:xfrm>
        <a:graphic>
          <a:graphicData uri="http://schemas.openxmlformats.org/presentationml/2006/ole">
            <p:oleObj r:id="rId5" spid="">
              <p:embed/>
              <p:pic>
                <p:nvPicPr>
                  <p:cNvPr id="251"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252" name=""/>
          <p:cNvGraphicFramePr/>
          <p:nvPr/>
        </p:nvGraphicFramePr>
        <p:xfrm>
          <a:off x="3581280" y="3809880"/>
          <a:ext cx="1676520" cy="432000"/>
        </p:xfrm>
        <a:graphic>
          <a:graphicData uri="http://schemas.openxmlformats.org/presentationml/2006/ole">
            <p:oleObj r:id="rId7" spid="">
              <p:embed/>
              <p:pic>
                <p:nvPicPr>
                  <p:cNvPr id="253"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254" name=""/>
          <p:cNvGraphicFramePr/>
          <p:nvPr/>
        </p:nvGraphicFramePr>
        <p:xfrm>
          <a:off x="1143000" y="5105520"/>
          <a:ext cx="2514600" cy="431640"/>
        </p:xfrm>
        <a:graphic>
          <a:graphicData uri="http://schemas.openxmlformats.org/presentationml/2006/ole">
            <p:oleObj r:id="rId9" spid="">
              <p:embed/>
              <p:pic>
                <p:nvPicPr>
                  <p:cNvPr id="255"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256" name=""/>
          <p:cNvGraphicFramePr/>
          <p:nvPr/>
        </p:nvGraphicFramePr>
        <p:xfrm>
          <a:off x="4114800" y="5181480"/>
          <a:ext cx="1790640" cy="355680"/>
        </p:xfrm>
        <a:graphic>
          <a:graphicData uri="http://schemas.openxmlformats.org/presentationml/2006/ole">
            <p:oleObj r:id="rId11" spid="">
              <p:embed/>
              <p:pic>
                <p:nvPicPr>
                  <p:cNvPr id="257" name="" descr=""/>
                  <p:cNvPicPr/>
                  <p:nvPr/>
                </p:nvPicPr>
                <p:blipFill>
                  <a:blip r:embed="rId12"/>
                  <a:stretch/>
                </p:blipFill>
                <p:spPr>
                  <a:xfrm>
                    <a:off x="4114800" y="5181480"/>
                    <a:ext cx="1790640" cy="355680"/>
                  </a:xfrm>
                  <a:prstGeom prst="rect">
                    <a:avLst/>
                  </a:prstGeom>
                  <a:ln w="0">
                    <a:noFill/>
                  </a:ln>
                </p:spPr>
              </p:pic>
            </p:oleObj>
          </a:graphicData>
        </a:graphic>
      </p:graphicFrame>
      <p:sp>
        <p:nvSpPr>
          <p:cNvPr id="258" name=""/>
          <p:cNvSpPr/>
          <p:nvPr/>
        </p:nvSpPr>
        <p:spPr>
          <a:xfrm>
            <a:off x="561600" y="10944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259" name=""/>
          <p:cNvSpPr/>
          <p:nvPr/>
        </p:nvSpPr>
        <p:spPr>
          <a:xfrm>
            <a:off x="5249880" y="696960"/>
            <a:ext cx="260280" cy="241200"/>
          </a:xfrm>
          <a:custGeom>
            <a:avLst/>
            <a:gdLst/>
            <a:ahLst/>
            <a:rect l="l" t="t" r="r" b="b"/>
            <a:pathLst>
              <a:path w="720" h="670">
                <a:moveTo>
                  <a:pt x="14908" y="2133"/>
                </a:moveTo>
                <a:cubicBezTo>
                  <a:pt x="14975" y="2217"/>
                  <a:pt x="15027" y="2302"/>
                  <a:pt x="15056" y="2406"/>
                </a:cubicBezTo>
              </a:path>
              <a:path w="720" h="670">
                <a:moveTo>
                  <a:pt x="14734" y="2530"/>
                </a:moveTo>
                <a:cubicBezTo>
                  <a:pt x="14928" y="2595"/>
                  <a:pt x="15031" y="2636"/>
                  <a:pt x="15205" y="2505"/>
                </a:cubicBezTo>
                <a:cubicBezTo>
                  <a:pt x="15360" y="2388"/>
                  <a:pt x="15318" y="2170"/>
                  <a:pt x="15205" y="2034"/>
                </a:cubicBezTo>
                <a:cubicBezTo>
                  <a:pt x="15047" y="1845"/>
                  <a:pt x="14671" y="1896"/>
                  <a:pt x="14585" y="2133"/>
                </a:cubicBezTo>
                <a:cubicBezTo>
                  <a:pt x="14480" y="2422"/>
                  <a:pt x="14731" y="2543"/>
                  <a:pt x="14932" y="260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5911920" y="598320"/>
            <a:ext cx="1089000" cy="598680"/>
          </a:xfrm>
          <a:custGeom>
            <a:avLst/>
            <a:gdLst/>
            <a:ahLst/>
            <a:rect l="l" t="t" r="r" b="b"/>
            <a:pathLst>
              <a:path w="3027" h="1663">
                <a:moveTo>
                  <a:pt x="16743" y="1761"/>
                </a:moveTo>
                <a:cubicBezTo>
                  <a:pt x="16689" y="2011"/>
                  <a:pt x="16633" y="2234"/>
                  <a:pt x="16545" y="2480"/>
                </a:cubicBezTo>
                <a:cubicBezTo>
                  <a:pt x="16512" y="2563"/>
                  <a:pt x="16479" y="2646"/>
                  <a:pt x="16446" y="2729"/>
                </a:cubicBezTo>
                <a:cubicBezTo>
                  <a:pt x="16409" y="2932"/>
                  <a:pt x="16488" y="2530"/>
                  <a:pt x="16545" y="2332"/>
                </a:cubicBezTo>
                <a:cubicBezTo>
                  <a:pt x="16623" y="2057"/>
                  <a:pt x="16702" y="1686"/>
                  <a:pt x="17016" y="1687"/>
                </a:cubicBezTo>
                <a:cubicBezTo>
                  <a:pt x="17137" y="1997"/>
                  <a:pt x="17155" y="2246"/>
                  <a:pt x="17115" y="2580"/>
                </a:cubicBezTo>
                <a:cubicBezTo>
                  <a:pt x="17096" y="2690"/>
                  <a:pt x="17116" y="2713"/>
                  <a:pt x="17066" y="2753"/>
                </a:cubicBezTo>
              </a:path>
              <a:path w="3027" h="1663">
                <a:moveTo>
                  <a:pt x="16446" y="2530"/>
                </a:moveTo>
                <a:cubicBezTo>
                  <a:pt x="16674" y="2482"/>
                  <a:pt x="16932" y="2381"/>
                  <a:pt x="17165" y="2381"/>
                </a:cubicBezTo>
                <a:cubicBezTo>
                  <a:pt x="17181" y="2389"/>
                  <a:pt x="17198" y="2398"/>
                  <a:pt x="17214" y="2406"/>
                </a:cubicBezTo>
              </a:path>
              <a:path w="3027" h="1663">
                <a:moveTo>
                  <a:pt x="17636" y="2257"/>
                </a:moveTo>
                <a:cubicBezTo>
                  <a:pt x="17769" y="2257"/>
                  <a:pt x="17804" y="2253"/>
                  <a:pt x="17884" y="2282"/>
                </a:cubicBezTo>
              </a:path>
              <a:path w="3027" h="1663">
                <a:moveTo>
                  <a:pt x="17587" y="2580"/>
                </a:moveTo>
                <a:cubicBezTo>
                  <a:pt x="17753" y="2532"/>
                  <a:pt x="17914" y="2489"/>
                  <a:pt x="18083" y="2456"/>
                </a:cubicBezTo>
              </a:path>
              <a:path w="3027" h="1663">
                <a:moveTo>
                  <a:pt x="18331" y="1761"/>
                </a:moveTo>
                <a:cubicBezTo>
                  <a:pt x="18363" y="2059"/>
                  <a:pt x="18394" y="2355"/>
                  <a:pt x="18405" y="2654"/>
                </a:cubicBezTo>
                <a:cubicBezTo>
                  <a:pt x="18405" y="2698"/>
                  <a:pt x="18435" y="2346"/>
                  <a:pt x="18455" y="2307"/>
                </a:cubicBezTo>
                <a:cubicBezTo>
                  <a:pt x="18609" y="2011"/>
                  <a:pt x="18783" y="2380"/>
                  <a:pt x="18827" y="2505"/>
                </a:cubicBezTo>
                <a:cubicBezTo>
                  <a:pt x="18635" y="2718"/>
                  <a:pt x="18540" y="2816"/>
                  <a:pt x="18331" y="2604"/>
                </a:cubicBezTo>
              </a:path>
              <a:path w="3027" h="1663">
                <a:moveTo>
                  <a:pt x="18951" y="1786"/>
                </a:moveTo>
                <a:cubicBezTo>
                  <a:pt x="18999" y="2058"/>
                  <a:pt x="19058" y="2329"/>
                  <a:pt x="19075" y="2604"/>
                </a:cubicBezTo>
                <a:cubicBezTo>
                  <a:pt x="19075" y="2498"/>
                  <a:pt x="19051" y="2238"/>
                  <a:pt x="19149" y="2158"/>
                </a:cubicBezTo>
                <a:cubicBezTo>
                  <a:pt x="19190" y="2150"/>
                  <a:pt x="19232" y="2141"/>
                  <a:pt x="19273" y="2133"/>
                </a:cubicBezTo>
                <a:cubicBezTo>
                  <a:pt x="19444" y="2274"/>
                  <a:pt x="19492" y="2370"/>
                  <a:pt x="19397" y="2604"/>
                </a:cubicBezTo>
                <a:cubicBezTo>
                  <a:pt x="19381" y="2629"/>
                  <a:pt x="19364" y="2654"/>
                  <a:pt x="19348" y="2679"/>
                </a:cubicBezTo>
              </a:path>
              <a:path w="3027" h="1663">
                <a:moveTo>
                  <a:pt x="18256" y="2828"/>
                </a:moveTo>
                <a:cubicBezTo>
                  <a:pt x="18610" y="2748"/>
                  <a:pt x="18935" y="2686"/>
                  <a:pt x="19298" y="2679"/>
                </a:cubicBezTo>
                <a:cubicBezTo>
                  <a:pt x="19356" y="2679"/>
                  <a:pt x="19380" y="2663"/>
                  <a:pt x="19372" y="2704"/>
                </a:cubicBezTo>
              </a:path>
              <a:path w="3027" h="1663">
                <a:moveTo>
                  <a:pt x="18752" y="3026"/>
                </a:moveTo>
                <a:cubicBezTo>
                  <a:pt x="18804" y="3013"/>
                  <a:pt x="19134" y="2913"/>
                  <a:pt x="19149" y="3001"/>
                </a:cubicBezTo>
                <a:cubicBezTo>
                  <a:pt x="19173" y="3144"/>
                  <a:pt x="18934" y="3224"/>
                  <a:pt x="18852" y="3274"/>
                </a:cubicBezTo>
                <a:cubicBezTo>
                  <a:pt x="18844" y="3291"/>
                  <a:pt x="18835" y="3307"/>
                  <a:pt x="18827" y="3324"/>
                </a:cubicBezTo>
                <a:cubicBezTo>
                  <a:pt x="18979" y="3310"/>
                  <a:pt x="19122" y="3265"/>
                  <a:pt x="19273" y="32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a:off x="3036960" y="1847880"/>
            <a:ext cx="4187880" cy="554040"/>
          </a:xfrm>
          <a:custGeom>
            <a:avLst/>
            <a:gdLst/>
            <a:ahLst/>
            <a:rect l="l" t="t" r="r" b="b"/>
            <a:pathLst>
              <a:path w="11634" h="1538">
                <a:moveTo>
                  <a:pt x="8434" y="5308"/>
                </a:moveTo>
                <a:cubicBezTo>
                  <a:pt x="8511" y="5282"/>
                  <a:pt x="8642" y="5229"/>
                  <a:pt x="8756" y="5209"/>
                </a:cubicBezTo>
                <a:cubicBezTo>
                  <a:pt x="9080" y="5152"/>
                  <a:pt x="9421" y="5183"/>
                  <a:pt x="9748" y="5159"/>
                </a:cubicBezTo>
                <a:cubicBezTo>
                  <a:pt x="10011" y="5140"/>
                  <a:pt x="10259" y="5151"/>
                  <a:pt x="10517" y="5159"/>
                </a:cubicBezTo>
                <a:cubicBezTo>
                  <a:pt x="10701" y="5165"/>
                  <a:pt x="10879" y="5178"/>
                  <a:pt x="11063" y="5184"/>
                </a:cubicBezTo>
                <a:cubicBezTo>
                  <a:pt x="11358" y="5193"/>
                  <a:pt x="11637" y="5197"/>
                  <a:pt x="11931" y="5234"/>
                </a:cubicBezTo>
                <a:cubicBezTo>
                  <a:pt x="12276" y="5278"/>
                  <a:pt x="12626" y="5254"/>
                  <a:pt x="12973" y="5283"/>
                </a:cubicBezTo>
                <a:cubicBezTo>
                  <a:pt x="13227" y="5304"/>
                  <a:pt x="13464" y="5300"/>
                  <a:pt x="13717" y="5283"/>
                </a:cubicBezTo>
                <a:cubicBezTo>
                  <a:pt x="14043" y="5261"/>
                  <a:pt x="14382" y="5227"/>
                  <a:pt x="14709" y="5234"/>
                </a:cubicBezTo>
                <a:cubicBezTo>
                  <a:pt x="15062" y="5241"/>
                  <a:pt x="15423" y="5262"/>
                  <a:pt x="15776" y="5283"/>
                </a:cubicBezTo>
                <a:cubicBezTo>
                  <a:pt x="16008" y="5297"/>
                  <a:pt x="16237" y="5306"/>
                  <a:pt x="16470" y="5308"/>
                </a:cubicBezTo>
                <a:cubicBezTo>
                  <a:pt x="17206" y="5314"/>
                  <a:pt x="17947" y="5332"/>
                  <a:pt x="18678" y="5259"/>
                </a:cubicBezTo>
                <a:cubicBezTo>
                  <a:pt x="18876" y="5239"/>
                  <a:pt x="19074" y="5246"/>
                  <a:pt x="19273" y="5234"/>
                </a:cubicBezTo>
                <a:cubicBezTo>
                  <a:pt x="19405" y="5226"/>
                  <a:pt x="19576" y="5191"/>
                  <a:pt x="19695" y="5184"/>
                </a:cubicBezTo>
                <a:cubicBezTo>
                  <a:pt x="19837" y="5176"/>
                  <a:pt x="19876" y="5178"/>
                  <a:pt x="20017" y="5159"/>
                </a:cubicBezTo>
              </a:path>
              <a:path w="11634" h="1538">
                <a:moveTo>
                  <a:pt x="17363" y="6672"/>
                </a:moveTo>
                <a:lnTo>
                  <a:pt x="17363" y="6672"/>
                </a:lnTo>
                <a:lnTo>
                  <a:pt x="17363" y="667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
          <p:cNvSpPr/>
          <p:nvPr/>
        </p:nvSpPr>
        <p:spPr>
          <a:xfrm>
            <a:off x="6500880" y="2268360"/>
            <a:ext cx="1135080" cy="714600"/>
          </a:xfrm>
          <a:custGeom>
            <a:avLst/>
            <a:gdLst/>
            <a:ahLst/>
            <a:rect l="l" t="t" r="r" b="b"/>
            <a:pathLst>
              <a:path w="3151" h="1986">
                <a:moveTo>
                  <a:pt x="18256" y="7119"/>
                </a:moveTo>
                <a:cubicBezTo>
                  <a:pt x="18231" y="7119"/>
                  <a:pt x="18223" y="7119"/>
                  <a:pt x="18231" y="7144"/>
                </a:cubicBezTo>
                <a:cubicBezTo>
                  <a:pt x="18245" y="7074"/>
                  <a:pt x="18292" y="7012"/>
                  <a:pt x="18355" y="6970"/>
                </a:cubicBezTo>
                <a:cubicBezTo>
                  <a:pt x="18359" y="6967"/>
                  <a:pt x="18477" y="6944"/>
                  <a:pt x="18479" y="6945"/>
                </a:cubicBezTo>
                <a:cubicBezTo>
                  <a:pt x="18552" y="6978"/>
                  <a:pt x="18558" y="7057"/>
                  <a:pt x="18529" y="7119"/>
                </a:cubicBezTo>
                <a:cubicBezTo>
                  <a:pt x="18461" y="7264"/>
                  <a:pt x="18271" y="7298"/>
                  <a:pt x="18182" y="7441"/>
                </a:cubicBezTo>
                <a:cubicBezTo>
                  <a:pt x="18145" y="7500"/>
                  <a:pt x="18096" y="7651"/>
                  <a:pt x="18058" y="7689"/>
                </a:cubicBezTo>
                <a:cubicBezTo>
                  <a:pt x="18139" y="7609"/>
                  <a:pt x="18214" y="7516"/>
                  <a:pt x="18331" y="7491"/>
                </a:cubicBezTo>
                <a:cubicBezTo>
                  <a:pt x="18430" y="7470"/>
                  <a:pt x="18468" y="7522"/>
                  <a:pt x="18554" y="7541"/>
                </a:cubicBezTo>
                <a:cubicBezTo>
                  <a:pt x="18616" y="7555"/>
                  <a:pt x="18663" y="7550"/>
                  <a:pt x="18678" y="7491"/>
                </a:cubicBezTo>
              </a:path>
              <a:path w="3151" h="1986">
                <a:moveTo>
                  <a:pt x="18926" y="6970"/>
                </a:moveTo>
                <a:cubicBezTo>
                  <a:pt x="18825" y="6894"/>
                  <a:pt x="18782" y="7075"/>
                  <a:pt x="18752" y="7144"/>
                </a:cubicBezTo>
                <a:cubicBezTo>
                  <a:pt x="18697" y="7270"/>
                  <a:pt x="18646" y="7481"/>
                  <a:pt x="18852" y="7491"/>
                </a:cubicBezTo>
                <a:cubicBezTo>
                  <a:pt x="19013" y="7499"/>
                  <a:pt x="19137" y="7402"/>
                  <a:pt x="19124" y="7243"/>
                </a:cubicBezTo>
                <a:cubicBezTo>
                  <a:pt x="19116" y="7149"/>
                  <a:pt x="19051" y="7023"/>
                  <a:pt x="18951" y="6995"/>
                </a:cubicBezTo>
                <a:cubicBezTo>
                  <a:pt x="18909" y="6995"/>
                  <a:pt x="18893" y="7003"/>
                  <a:pt x="18901" y="6970"/>
                </a:cubicBezTo>
              </a:path>
              <a:path w="3151" h="1986">
                <a:moveTo>
                  <a:pt x="19273" y="7069"/>
                </a:moveTo>
                <a:cubicBezTo>
                  <a:pt x="19403" y="7062"/>
                  <a:pt x="19566" y="7012"/>
                  <a:pt x="19695" y="7045"/>
                </a:cubicBezTo>
                <a:cubicBezTo>
                  <a:pt x="19703" y="7053"/>
                  <a:pt x="19712" y="7061"/>
                  <a:pt x="19720" y="7069"/>
                </a:cubicBezTo>
              </a:path>
              <a:path w="3151" h="1986">
                <a:moveTo>
                  <a:pt x="19422" y="7243"/>
                </a:moveTo>
                <a:cubicBezTo>
                  <a:pt x="19510" y="7276"/>
                  <a:pt x="19617" y="7268"/>
                  <a:pt x="19720" y="7268"/>
                </a:cubicBezTo>
                <a:cubicBezTo>
                  <a:pt x="19745" y="7268"/>
                  <a:pt x="19753" y="7268"/>
                  <a:pt x="19769" y="7268"/>
                </a:cubicBezTo>
              </a:path>
              <a:path w="3151" h="1986">
                <a:moveTo>
                  <a:pt x="20513" y="6896"/>
                </a:moveTo>
                <a:cubicBezTo>
                  <a:pt x="20426" y="6883"/>
                  <a:pt x="20244" y="6857"/>
                  <a:pt x="20191" y="6970"/>
                </a:cubicBezTo>
                <a:cubicBezTo>
                  <a:pt x="20191" y="6987"/>
                  <a:pt x="20191" y="7003"/>
                  <a:pt x="20191" y="7020"/>
                </a:cubicBezTo>
                <a:cubicBezTo>
                  <a:pt x="20302" y="7140"/>
                  <a:pt x="20460" y="7220"/>
                  <a:pt x="20513" y="7392"/>
                </a:cubicBezTo>
                <a:cubicBezTo>
                  <a:pt x="20558" y="7536"/>
                  <a:pt x="20348" y="7549"/>
                  <a:pt x="20265" y="7516"/>
                </a:cubicBezTo>
                <a:cubicBezTo>
                  <a:pt x="20240" y="7499"/>
                  <a:pt x="20216" y="7483"/>
                  <a:pt x="20191" y="7466"/>
                </a:cubicBezTo>
                <a:cubicBezTo>
                  <a:pt x="20191" y="7441"/>
                  <a:pt x="20191" y="7417"/>
                  <a:pt x="20191" y="7392"/>
                </a:cubicBezTo>
                <a:cubicBezTo>
                  <a:pt x="20276" y="7320"/>
                  <a:pt x="20428" y="7259"/>
                  <a:pt x="20464" y="7144"/>
                </a:cubicBezTo>
                <a:cubicBezTo>
                  <a:pt x="20489" y="7066"/>
                  <a:pt x="20432" y="7107"/>
                  <a:pt x="20464" y="7045"/>
                </a:cubicBezTo>
              </a:path>
              <a:path w="3151" h="1986">
                <a:moveTo>
                  <a:pt x="20786" y="6896"/>
                </a:moveTo>
                <a:cubicBezTo>
                  <a:pt x="20786" y="7063"/>
                  <a:pt x="20777" y="7227"/>
                  <a:pt x="20811" y="7392"/>
                </a:cubicBezTo>
                <a:cubicBezTo>
                  <a:pt x="20819" y="7417"/>
                  <a:pt x="20828" y="7441"/>
                  <a:pt x="20836" y="7466"/>
                </a:cubicBezTo>
                <a:cubicBezTo>
                  <a:pt x="20836" y="7532"/>
                  <a:pt x="20825" y="7382"/>
                  <a:pt x="20836" y="7317"/>
                </a:cubicBezTo>
                <a:cubicBezTo>
                  <a:pt x="20848" y="7248"/>
                  <a:pt x="20913" y="7148"/>
                  <a:pt x="20985" y="7144"/>
                </a:cubicBezTo>
                <a:cubicBezTo>
                  <a:pt x="21106" y="7138"/>
                  <a:pt x="21106" y="7288"/>
                  <a:pt x="21109" y="7367"/>
                </a:cubicBezTo>
                <a:cubicBezTo>
                  <a:pt x="21109" y="7428"/>
                  <a:pt x="21100" y="7444"/>
                  <a:pt x="21134" y="7466"/>
                </a:cubicBezTo>
              </a:path>
              <a:path w="3151" h="1986">
                <a:moveTo>
                  <a:pt x="19993" y="7764"/>
                </a:moveTo>
                <a:cubicBezTo>
                  <a:pt x="20035" y="7699"/>
                  <a:pt x="20229" y="7677"/>
                  <a:pt x="20315" y="7665"/>
                </a:cubicBezTo>
                <a:cubicBezTo>
                  <a:pt x="20585" y="7627"/>
                  <a:pt x="20862" y="7598"/>
                  <a:pt x="21134" y="7590"/>
                </a:cubicBezTo>
                <a:cubicBezTo>
                  <a:pt x="21175" y="7590"/>
                  <a:pt x="21183" y="7590"/>
                  <a:pt x="21208" y="7590"/>
                </a:cubicBezTo>
              </a:path>
              <a:path w="3151" h="1986">
                <a:moveTo>
                  <a:pt x="20464" y="7913"/>
                </a:moveTo>
                <a:cubicBezTo>
                  <a:pt x="20483" y="7855"/>
                  <a:pt x="20570" y="7844"/>
                  <a:pt x="20638" y="7838"/>
                </a:cubicBezTo>
                <a:cubicBezTo>
                  <a:pt x="20687" y="7838"/>
                  <a:pt x="20704" y="7838"/>
                  <a:pt x="20737" y="7838"/>
                </a:cubicBezTo>
                <a:cubicBezTo>
                  <a:pt x="20737" y="7959"/>
                  <a:pt x="20695" y="8017"/>
                  <a:pt x="20613" y="8111"/>
                </a:cubicBezTo>
                <a:cubicBezTo>
                  <a:pt x="20557" y="8175"/>
                  <a:pt x="20379" y="8225"/>
                  <a:pt x="20439" y="8285"/>
                </a:cubicBezTo>
                <a:cubicBezTo>
                  <a:pt x="20447" y="8285"/>
                  <a:pt x="20456" y="8285"/>
                  <a:pt x="20464" y="8285"/>
                </a:cubicBezTo>
                <a:cubicBezTo>
                  <a:pt x="20538" y="8223"/>
                  <a:pt x="20566" y="8195"/>
                  <a:pt x="20662" y="8186"/>
                </a:cubicBezTo>
                <a:cubicBezTo>
                  <a:pt x="20746" y="8178"/>
                  <a:pt x="20790" y="8221"/>
                  <a:pt x="20886" y="8186"/>
                </a:cubicBezTo>
                <a:cubicBezTo>
                  <a:pt x="20926" y="8166"/>
                  <a:pt x="20932" y="8157"/>
                  <a:pt x="20960" y="8161"/>
                </a:cubicBezTo>
              </a:path>
              <a:path w="3151" h="1986">
                <a:moveTo>
                  <a:pt x="20265" y="7069"/>
                </a:moveTo>
                <a:cubicBezTo>
                  <a:pt x="20246" y="7043"/>
                  <a:pt x="20249" y="7070"/>
                  <a:pt x="20241" y="7020"/>
                </a:cubicBezTo>
                <a:cubicBezTo>
                  <a:pt x="20311" y="7059"/>
                  <a:pt x="20375" y="7107"/>
                  <a:pt x="20439" y="7169"/>
                </a:cubicBezTo>
                <a:cubicBezTo>
                  <a:pt x="20547" y="7273"/>
                  <a:pt x="20686" y="7324"/>
                  <a:pt x="20786" y="7441"/>
                </a:cubicBezTo>
                <a:cubicBezTo>
                  <a:pt x="20853" y="7519"/>
                  <a:pt x="20928" y="7604"/>
                  <a:pt x="20985" y="7689"/>
                </a:cubicBezTo>
                <a:cubicBezTo>
                  <a:pt x="21003" y="7716"/>
                  <a:pt x="21052" y="7811"/>
                  <a:pt x="21059" y="7838"/>
                </a:cubicBezTo>
                <a:cubicBezTo>
                  <a:pt x="21059" y="7863"/>
                  <a:pt x="21059" y="7871"/>
                  <a:pt x="21059" y="7888"/>
                </a:cubicBezTo>
              </a:path>
              <a:path w="3151" h="1986">
                <a:moveTo>
                  <a:pt x="19993" y="6524"/>
                </a:moveTo>
                <a:cubicBezTo>
                  <a:pt x="19950" y="6580"/>
                  <a:pt x="19987" y="6649"/>
                  <a:pt x="19993" y="6722"/>
                </a:cubicBezTo>
                <a:cubicBezTo>
                  <a:pt x="20100" y="6699"/>
                  <a:pt x="20209" y="6668"/>
                  <a:pt x="20265" y="6573"/>
                </a:cubicBezTo>
              </a:path>
              <a:path w="3151" h="1986">
                <a:moveTo>
                  <a:pt x="20141" y="6300"/>
                </a:moveTo>
                <a:cubicBezTo>
                  <a:pt x="20123" y="6500"/>
                  <a:pt x="20141" y="6696"/>
                  <a:pt x="20166" y="6896"/>
                </a:cubicBezTo>
                <a:cubicBezTo>
                  <a:pt x="20166" y="6904"/>
                  <a:pt x="20166" y="6913"/>
                  <a:pt x="20166" y="692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6599160" y="3116160"/>
            <a:ext cx="1108080" cy="598680"/>
          </a:xfrm>
          <a:custGeom>
            <a:avLst/>
            <a:gdLst/>
            <a:ahLst/>
            <a:rect l="l" t="t" r="r" b="b"/>
            <a:pathLst>
              <a:path w="3076" h="1663">
                <a:moveTo>
                  <a:pt x="18355" y="8905"/>
                </a:moveTo>
                <a:cubicBezTo>
                  <a:pt x="18478" y="8887"/>
                  <a:pt x="18687" y="8876"/>
                  <a:pt x="18752" y="9029"/>
                </a:cubicBezTo>
                <a:cubicBezTo>
                  <a:pt x="18844" y="9243"/>
                  <a:pt x="18580" y="9560"/>
                  <a:pt x="18355" y="9451"/>
                </a:cubicBezTo>
                <a:cubicBezTo>
                  <a:pt x="18347" y="9426"/>
                  <a:pt x="18339" y="9401"/>
                  <a:pt x="18331" y="9376"/>
                </a:cubicBezTo>
                <a:cubicBezTo>
                  <a:pt x="18473" y="9243"/>
                  <a:pt x="18589" y="9157"/>
                  <a:pt x="18752" y="9327"/>
                </a:cubicBezTo>
                <a:cubicBezTo>
                  <a:pt x="18790" y="9383"/>
                  <a:pt x="18807" y="9429"/>
                  <a:pt x="18802" y="9376"/>
                </a:cubicBezTo>
              </a:path>
              <a:path w="3076" h="1663">
                <a:moveTo>
                  <a:pt x="19000" y="8954"/>
                </a:moveTo>
                <a:cubicBezTo>
                  <a:pt x="18919" y="9131"/>
                  <a:pt x="18918" y="9224"/>
                  <a:pt x="19000" y="9401"/>
                </a:cubicBezTo>
                <a:cubicBezTo>
                  <a:pt x="19116" y="9352"/>
                  <a:pt x="19444" y="9140"/>
                  <a:pt x="19199" y="8979"/>
                </a:cubicBezTo>
                <a:cubicBezTo>
                  <a:pt x="19133" y="8935"/>
                  <a:pt x="19004" y="8998"/>
                  <a:pt x="18951" y="9029"/>
                </a:cubicBezTo>
              </a:path>
              <a:path w="3076" h="1663">
                <a:moveTo>
                  <a:pt x="19496" y="9004"/>
                </a:moveTo>
                <a:cubicBezTo>
                  <a:pt x="19570" y="9020"/>
                  <a:pt x="19710" y="8949"/>
                  <a:pt x="19769" y="8979"/>
                </a:cubicBezTo>
                <a:cubicBezTo>
                  <a:pt x="19769" y="8987"/>
                  <a:pt x="19769" y="8996"/>
                  <a:pt x="19769" y="9004"/>
                </a:cubicBezTo>
              </a:path>
              <a:path w="3076" h="1663">
                <a:moveTo>
                  <a:pt x="19472" y="9252"/>
                </a:moveTo>
                <a:cubicBezTo>
                  <a:pt x="19615" y="9210"/>
                  <a:pt x="19752" y="9154"/>
                  <a:pt x="19893" y="9103"/>
                </a:cubicBezTo>
              </a:path>
              <a:path w="3076" h="1663">
                <a:moveTo>
                  <a:pt x="20042" y="8781"/>
                </a:moveTo>
                <a:cubicBezTo>
                  <a:pt x="20035" y="8847"/>
                  <a:pt x="19978" y="8988"/>
                  <a:pt x="20067" y="9029"/>
                </a:cubicBezTo>
                <a:cubicBezTo>
                  <a:pt x="20202" y="9091"/>
                  <a:pt x="20301" y="8992"/>
                  <a:pt x="20414" y="8930"/>
                </a:cubicBezTo>
              </a:path>
              <a:path w="3076" h="1663">
                <a:moveTo>
                  <a:pt x="20290" y="8657"/>
                </a:moveTo>
                <a:cubicBezTo>
                  <a:pt x="20311" y="8857"/>
                  <a:pt x="20372" y="9036"/>
                  <a:pt x="20439" y="9227"/>
                </a:cubicBezTo>
                <a:cubicBezTo>
                  <a:pt x="20458" y="9285"/>
                  <a:pt x="20467" y="9328"/>
                  <a:pt x="20464" y="9277"/>
                </a:cubicBezTo>
              </a:path>
              <a:path w="3076" h="1663">
                <a:moveTo>
                  <a:pt x="20638" y="8706"/>
                </a:moveTo>
                <a:cubicBezTo>
                  <a:pt x="20676" y="8860"/>
                  <a:pt x="20743" y="9008"/>
                  <a:pt x="20811" y="9153"/>
                </a:cubicBezTo>
                <a:cubicBezTo>
                  <a:pt x="20831" y="9193"/>
                  <a:pt x="20840" y="9200"/>
                  <a:pt x="20836" y="9227"/>
                </a:cubicBezTo>
                <a:cubicBezTo>
                  <a:pt x="20836" y="9157"/>
                  <a:pt x="20830" y="9095"/>
                  <a:pt x="20861" y="9029"/>
                </a:cubicBezTo>
                <a:cubicBezTo>
                  <a:pt x="20895" y="8958"/>
                  <a:pt x="20965" y="8922"/>
                  <a:pt x="21034" y="9004"/>
                </a:cubicBezTo>
                <a:cubicBezTo>
                  <a:pt x="21101" y="9083"/>
                  <a:pt x="21166" y="9202"/>
                  <a:pt x="21208" y="9302"/>
                </a:cubicBezTo>
              </a:path>
              <a:path w="3076" h="1663">
                <a:moveTo>
                  <a:pt x="20216" y="9550"/>
                </a:moveTo>
                <a:cubicBezTo>
                  <a:pt x="20326" y="9550"/>
                  <a:pt x="20428" y="9530"/>
                  <a:pt x="20538" y="9525"/>
                </a:cubicBezTo>
                <a:cubicBezTo>
                  <a:pt x="20755" y="9515"/>
                  <a:pt x="20968" y="9491"/>
                  <a:pt x="21183" y="9475"/>
                </a:cubicBezTo>
                <a:cubicBezTo>
                  <a:pt x="21197" y="9474"/>
                  <a:pt x="21426" y="9457"/>
                  <a:pt x="21406" y="9500"/>
                </a:cubicBezTo>
                <a:cubicBezTo>
                  <a:pt x="21398" y="9508"/>
                  <a:pt x="21390" y="9517"/>
                  <a:pt x="21382" y="9525"/>
                </a:cubicBezTo>
              </a:path>
              <a:path w="3076" h="1663">
                <a:moveTo>
                  <a:pt x="20737" y="9823"/>
                </a:moveTo>
                <a:cubicBezTo>
                  <a:pt x="20737" y="9881"/>
                  <a:pt x="20737" y="9938"/>
                  <a:pt x="20737" y="9996"/>
                </a:cubicBezTo>
                <a:cubicBezTo>
                  <a:pt x="20864" y="9989"/>
                  <a:pt x="20974" y="9985"/>
                  <a:pt x="21084" y="9922"/>
                </a:cubicBezTo>
              </a:path>
              <a:path w="3076" h="1663">
                <a:moveTo>
                  <a:pt x="20960" y="9723"/>
                </a:moveTo>
                <a:cubicBezTo>
                  <a:pt x="20976" y="9867"/>
                  <a:pt x="20985" y="10000"/>
                  <a:pt x="20985" y="10145"/>
                </a:cubicBezTo>
                <a:cubicBezTo>
                  <a:pt x="20985" y="10201"/>
                  <a:pt x="20970" y="10207"/>
                  <a:pt x="21010" y="10220"/>
                </a:cubicBezTo>
              </a:path>
              <a:path w="3076" h="1663">
                <a:moveTo>
                  <a:pt x="18430" y="9723"/>
                </a:moveTo>
                <a:cubicBezTo>
                  <a:pt x="18589" y="9672"/>
                  <a:pt x="18823" y="9656"/>
                  <a:pt x="19000" y="9624"/>
                </a:cubicBezTo>
                <a:cubicBezTo>
                  <a:pt x="19031" y="9618"/>
                  <a:pt x="19233" y="9554"/>
                  <a:pt x="19248" y="9599"/>
                </a:cubicBezTo>
              </a:path>
              <a:path w="3076" h="1663">
                <a:moveTo>
                  <a:pt x="18703" y="9897"/>
                </a:moveTo>
                <a:cubicBezTo>
                  <a:pt x="18703" y="9963"/>
                  <a:pt x="18703" y="10030"/>
                  <a:pt x="18703" y="10096"/>
                </a:cubicBezTo>
                <a:cubicBezTo>
                  <a:pt x="18810" y="10085"/>
                  <a:pt x="18899" y="10042"/>
                  <a:pt x="19000" y="10021"/>
                </a:cubicBezTo>
              </a:path>
              <a:path w="3076" h="1663">
                <a:moveTo>
                  <a:pt x="18976" y="9798"/>
                </a:moveTo>
                <a:cubicBezTo>
                  <a:pt x="18953" y="9912"/>
                  <a:pt x="18973" y="10021"/>
                  <a:pt x="18976" y="10145"/>
                </a:cubicBezTo>
                <a:cubicBezTo>
                  <a:pt x="18977" y="10203"/>
                  <a:pt x="18976" y="10261"/>
                  <a:pt x="18976" y="10319"/>
                </a:cubicBezTo>
              </a:path>
              <a:path w="3076" h="1663">
                <a:moveTo>
                  <a:pt x="20141" y="8781"/>
                </a:moveTo>
                <a:cubicBezTo>
                  <a:pt x="20152" y="8786"/>
                  <a:pt x="20284" y="8895"/>
                  <a:pt x="20340" y="8954"/>
                </a:cubicBezTo>
                <a:cubicBezTo>
                  <a:pt x="20506" y="9129"/>
                  <a:pt x="20609" y="9299"/>
                  <a:pt x="20737" y="9500"/>
                </a:cubicBezTo>
                <a:cubicBezTo>
                  <a:pt x="20806" y="9609"/>
                  <a:pt x="20855" y="9707"/>
                  <a:pt x="20910" y="9823"/>
                </a:cubicBezTo>
                <a:cubicBezTo>
                  <a:pt x="20941" y="9887"/>
                  <a:pt x="21018" y="9926"/>
                  <a:pt x="21034" y="9996"/>
                </a:cubicBezTo>
                <a:cubicBezTo>
                  <a:pt x="21049" y="10063"/>
                  <a:pt x="21034" y="10030"/>
                  <a:pt x="21059" y="1007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4" name=""/>
          <p:cNvSpPr/>
          <p:nvPr/>
        </p:nvSpPr>
        <p:spPr>
          <a:xfrm>
            <a:off x="8062920" y="2490840"/>
            <a:ext cx="679320" cy="349200"/>
          </a:xfrm>
          <a:custGeom>
            <a:avLst/>
            <a:gdLst/>
            <a:ahLst/>
            <a:rect l="l" t="t" r="r" b="b"/>
            <a:pathLst>
              <a:path w="1886" h="968">
                <a:moveTo>
                  <a:pt x="22696" y="7169"/>
                </a:moveTo>
                <a:cubicBezTo>
                  <a:pt x="22662" y="7219"/>
                  <a:pt x="22529" y="7234"/>
                  <a:pt x="22448" y="7243"/>
                </a:cubicBezTo>
                <a:cubicBezTo>
                  <a:pt x="22440" y="7243"/>
                  <a:pt x="22431" y="7243"/>
                  <a:pt x="22423" y="7243"/>
                </a:cubicBezTo>
                <a:cubicBezTo>
                  <a:pt x="22415" y="7309"/>
                  <a:pt x="22370" y="7454"/>
                  <a:pt x="22423" y="7516"/>
                </a:cubicBezTo>
                <a:cubicBezTo>
                  <a:pt x="22431" y="7516"/>
                  <a:pt x="22440" y="7516"/>
                  <a:pt x="22448" y="7516"/>
                </a:cubicBezTo>
                <a:cubicBezTo>
                  <a:pt x="22536" y="7506"/>
                  <a:pt x="22662" y="7439"/>
                  <a:pt x="22721" y="7541"/>
                </a:cubicBezTo>
                <a:cubicBezTo>
                  <a:pt x="22815" y="7703"/>
                  <a:pt x="22673" y="7770"/>
                  <a:pt x="22547" y="7813"/>
                </a:cubicBezTo>
                <a:cubicBezTo>
                  <a:pt x="22482" y="7835"/>
                  <a:pt x="22456" y="7838"/>
                  <a:pt x="22399" y="7838"/>
                </a:cubicBezTo>
              </a:path>
              <a:path w="1886" h="968">
                <a:moveTo>
                  <a:pt x="23316" y="7317"/>
                </a:moveTo>
                <a:cubicBezTo>
                  <a:pt x="23392" y="7285"/>
                  <a:pt x="23499" y="7277"/>
                  <a:pt x="23589" y="7268"/>
                </a:cubicBezTo>
              </a:path>
              <a:path w="1886" h="968">
                <a:moveTo>
                  <a:pt x="23366" y="7441"/>
                </a:moveTo>
                <a:cubicBezTo>
                  <a:pt x="23451" y="7429"/>
                  <a:pt x="23527" y="7417"/>
                  <a:pt x="23614" y="7417"/>
                </a:cubicBezTo>
                <a:cubicBezTo>
                  <a:pt x="23622" y="7417"/>
                  <a:pt x="23631" y="7417"/>
                  <a:pt x="23639" y="7417"/>
                </a:cubicBezTo>
              </a:path>
              <a:path w="1886" h="968">
                <a:moveTo>
                  <a:pt x="23887" y="6945"/>
                </a:moveTo>
                <a:cubicBezTo>
                  <a:pt x="23862" y="6945"/>
                  <a:pt x="23854" y="6945"/>
                  <a:pt x="23862" y="6921"/>
                </a:cubicBezTo>
                <a:cubicBezTo>
                  <a:pt x="23889" y="7051"/>
                  <a:pt x="23923" y="7207"/>
                  <a:pt x="23937" y="7342"/>
                </a:cubicBezTo>
                <a:cubicBezTo>
                  <a:pt x="23949" y="7454"/>
                  <a:pt x="23961" y="7576"/>
                  <a:pt x="23961" y="7689"/>
                </a:cubicBezTo>
                <a:cubicBezTo>
                  <a:pt x="23961" y="7763"/>
                  <a:pt x="23961" y="7565"/>
                  <a:pt x="23961" y="7565"/>
                </a:cubicBezTo>
                <a:cubicBezTo>
                  <a:pt x="23975" y="7480"/>
                  <a:pt x="23988" y="7399"/>
                  <a:pt x="24061" y="7367"/>
                </a:cubicBezTo>
                <a:cubicBezTo>
                  <a:pt x="24124" y="7340"/>
                  <a:pt x="24177" y="7282"/>
                  <a:pt x="24209" y="7367"/>
                </a:cubicBezTo>
                <a:cubicBezTo>
                  <a:pt x="24252" y="7482"/>
                  <a:pt x="24259" y="7567"/>
                  <a:pt x="24259" y="7689"/>
                </a:cubicBezTo>
                <a:cubicBezTo>
                  <a:pt x="24259" y="7738"/>
                  <a:pt x="24275" y="7768"/>
                  <a:pt x="24284" y="7813"/>
                </a:cubicBezTo>
              </a:path>
              <a:path w="1886" h="968">
                <a:moveTo>
                  <a:pt x="22944" y="7665"/>
                </a:moveTo>
                <a:cubicBezTo>
                  <a:pt x="22956" y="7723"/>
                  <a:pt x="22984" y="7778"/>
                  <a:pt x="22994" y="7838"/>
                </a:cubicBezTo>
              </a:path>
              <a:path w="1886" h="968">
                <a:moveTo>
                  <a:pt x="22944" y="7516"/>
                </a:moveTo>
                <a:cubicBezTo>
                  <a:pt x="22944" y="7508"/>
                  <a:pt x="22944" y="7499"/>
                  <a:pt x="22944" y="7491"/>
                </a:cubicBezTo>
              </a:path>
              <a:path w="1886" h="968">
                <a:moveTo>
                  <a:pt x="23192" y="7739"/>
                </a:moveTo>
                <a:cubicBezTo>
                  <a:pt x="23216" y="7792"/>
                  <a:pt x="23236" y="7842"/>
                  <a:pt x="23267" y="7888"/>
                </a:cubicBezTo>
                <a:cubicBezTo>
                  <a:pt x="23267" y="7811"/>
                  <a:pt x="23280" y="7759"/>
                  <a:pt x="23292" y="7689"/>
                </a:cubicBezTo>
                <a:cubicBezTo>
                  <a:pt x="23304" y="7621"/>
                  <a:pt x="23335" y="7620"/>
                  <a:pt x="23416" y="7615"/>
                </a:cubicBezTo>
                <a:cubicBezTo>
                  <a:pt x="23482" y="7611"/>
                  <a:pt x="23526" y="7700"/>
                  <a:pt x="23540" y="7764"/>
                </a:cubicBezTo>
                <a:cubicBezTo>
                  <a:pt x="23540" y="7805"/>
                  <a:pt x="23540" y="7813"/>
                  <a:pt x="23540" y="783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p:nvPr/>
        </p:nvSpPr>
        <p:spPr>
          <a:xfrm>
            <a:off x="6000840" y="3902040"/>
            <a:ext cx="857160" cy="1143000"/>
          </a:xfrm>
          <a:custGeom>
            <a:avLst/>
            <a:gdLst/>
            <a:ahLst/>
            <a:rect l="l" t="t" r="r" b="b"/>
            <a:pathLst>
              <a:path w="2382" h="3176">
                <a:moveTo>
                  <a:pt x="16694" y="11063"/>
                </a:moveTo>
                <a:cubicBezTo>
                  <a:pt x="16694" y="10970"/>
                  <a:pt x="16715" y="11061"/>
                  <a:pt x="16718" y="11112"/>
                </a:cubicBezTo>
                <a:cubicBezTo>
                  <a:pt x="16726" y="11257"/>
                  <a:pt x="16703" y="11391"/>
                  <a:pt x="16694" y="11534"/>
                </a:cubicBezTo>
                <a:cubicBezTo>
                  <a:pt x="16694" y="11398"/>
                  <a:pt x="16692" y="11271"/>
                  <a:pt x="16718" y="11137"/>
                </a:cubicBezTo>
                <a:cubicBezTo>
                  <a:pt x="16734" y="11056"/>
                  <a:pt x="16786" y="10954"/>
                  <a:pt x="16867" y="10914"/>
                </a:cubicBezTo>
                <a:cubicBezTo>
                  <a:pt x="16875" y="10914"/>
                  <a:pt x="16884" y="10914"/>
                  <a:pt x="16892" y="10914"/>
                </a:cubicBezTo>
                <a:cubicBezTo>
                  <a:pt x="17013" y="11045"/>
                  <a:pt x="17096" y="11170"/>
                  <a:pt x="17090" y="11361"/>
                </a:cubicBezTo>
                <a:cubicBezTo>
                  <a:pt x="17070" y="11401"/>
                  <a:pt x="17062" y="11408"/>
                  <a:pt x="17066" y="11435"/>
                </a:cubicBezTo>
              </a:path>
              <a:path w="2382" h="3176">
                <a:moveTo>
                  <a:pt x="16743" y="11286"/>
                </a:moveTo>
                <a:cubicBezTo>
                  <a:pt x="16847" y="11249"/>
                  <a:pt x="16961" y="11180"/>
                  <a:pt x="17066" y="11162"/>
                </a:cubicBezTo>
                <a:cubicBezTo>
                  <a:pt x="17099" y="11162"/>
                  <a:pt x="17115" y="11162"/>
                  <a:pt x="17140" y="11162"/>
                </a:cubicBezTo>
              </a:path>
              <a:path w="2382" h="3176">
                <a:moveTo>
                  <a:pt x="17314" y="11162"/>
                </a:moveTo>
                <a:cubicBezTo>
                  <a:pt x="17382" y="11148"/>
                  <a:pt x="17438" y="11137"/>
                  <a:pt x="17512" y="11137"/>
                </a:cubicBezTo>
                <a:cubicBezTo>
                  <a:pt x="17529" y="11137"/>
                  <a:pt x="17545" y="11137"/>
                  <a:pt x="17562" y="11137"/>
                </a:cubicBezTo>
              </a:path>
              <a:path w="2382" h="3176">
                <a:moveTo>
                  <a:pt x="17413" y="11336"/>
                </a:moveTo>
                <a:cubicBezTo>
                  <a:pt x="17503" y="11313"/>
                  <a:pt x="17527" y="11305"/>
                  <a:pt x="17587" y="11311"/>
                </a:cubicBezTo>
              </a:path>
              <a:path w="2382" h="3176">
                <a:moveTo>
                  <a:pt x="17760" y="10914"/>
                </a:moveTo>
                <a:cubicBezTo>
                  <a:pt x="17860" y="11014"/>
                  <a:pt x="17902" y="11163"/>
                  <a:pt x="17934" y="11311"/>
                </a:cubicBezTo>
                <a:cubicBezTo>
                  <a:pt x="17934" y="11319"/>
                  <a:pt x="17934" y="11328"/>
                  <a:pt x="17934" y="11336"/>
                </a:cubicBezTo>
                <a:cubicBezTo>
                  <a:pt x="17934" y="11204"/>
                  <a:pt x="17938" y="11094"/>
                  <a:pt x="18107" y="11088"/>
                </a:cubicBezTo>
                <a:cubicBezTo>
                  <a:pt x="18132" y="11096"/>
                  <a:pt x="18157" y="11104"/>
                  <a:pt x="18182" y="11112"/>
                </a:cubicBezTo>
                <a:cubicBezTo>
                  <a:pt x="18233" y="11245"/>
                  <a:pt x="18234" y="11354"/>
                  <a:pt x="18058" y="11385"/>
                </a:cubicBezTo>
                <a:cubicBezTo>
                  <a:pt x="17974" y="11385"/>
                  <a:pt x="17954" y="11391"/>
                  <a:pt x="17909" y="11361"/>
                </a:cubicBezTo>
              </a:path>
              <a:path w="2382" h="3176">
                <a:moveTo>
                  <a:pt x="18182" y="10840"/>
                </a:moveTo>
                <a:cubicBezTo>
                  <a:pt x="18259" y="10935"/>
                  <a:pt x="18289" y="11066"/>
                  <a:pt x="18306" y="11187"/>
                </a:cubicBezTo>
                <a:cubicBezTo>
                  <a:pt x="18306" y="11212"/>
                  <a:pt x="18306" y="11236"/>
                  <a:pt x="18306" y="11261"/>
                </a:cubicBezTo>
                <a:cubicBezTo>
                  <a:pt x="18306" y="11329"/>
                  <a:pt x="18295" y="11126"/>
                  <a:pt x="18306" y="11112"/>
                </a:cubicBezTo>
                <a:cubicBezTo>
                  <a:pt x="18376" y="11023"/>
                  <a:pt x="18561" y="11011"/>
                  <a:pt x="18628" y="11112"/>
                </a:cubicBezTo>
                <a:cubicBezTo>
                  <a:pt x="18672" y="11179"/>
                  <a:pt x="18653" y="11286"/>
                  <a:pt x="18653" y="11361"/>
                </a:cubicBezTo>
              </a:path>
              <a:path w="2382" h="3176">
                <a:moveTo>
                  <a:pt x="17983" y="11534"/>
                </a:moveTo>
                <a:cubicBezTo>
                  <a:pt x="18199" y="11480"/>
                  <a:pt x="18382" y="11460"/>
                  <a:pt x="18604" y="11460"/>
                </a:cubicBezTo>
                <a:cubicBezTo>
                  <a:pt x="18706" y="11460"/>
                  <a:pt x="18672" y="11466"/>
                  <a:pt x="18728" y="11485"/>
                </a:cubicBezTo>
              </a:path>
              <a:path w="2382" h="3176">
                <a:moveTo>
                  <a:pt x="18231" y="11708"/>
                </a:moveTo>
                <a:cubicBezTo>
                  <a:pt x="18258" y="11668"/>
                  <a:pt x="18362" y="11647"/>
                  <a:pt x="18430" y="11633"/>
                </a:cubicBezTo>
                <a:cubicBezTo>
                  <a:pt x="18475" y="11693"/>
                  <a:pt x="18470" y="11775"/>
                  <a:pt x="18405" y="11832"/>
                </a:cubicBezTo>
                <a:cubicBezTo>
                  <a:pt x="18348" y="11882"/>
                  <a:pt x="18186" y="11975"/>
                  <a:pt x="18132" y="12005"/>
                </a:cubicBezTo>
                <a:cubicBezTo>
                  <a:pt x="18100" y="12022"/>
                  <a:pt x="18107" y="12008"/>
                  <a:pt x="18107" y="12055"/>
                </a:cubicBezTo>
                <a:cubicBezTo>
                  <a:pt x="18192" y="12038"/>
                  <a:pt x="18241" y="11989"/>
                  <a:pt x="18331" y="11981"/>
                </a:cubicBezTo>
                <a:cubicBezTo>
                  <a:pt x="18407" y="11974"/>
                  <a:pt x="18454" y="11988"/>
                  <a:pt x="18529" y="11981"/>
                </a:cubicBezTo>
                <a:cubicBezTo>
                  <a:pt x="18546" y="11981"/>
                  <a:pt x="18562" y="11981"/>
                  <a:pt x="18579" y="11981"/>
                </a:cubicBezTo>
              </a:path>
              <a:path w="2382" h="3176">
                <a:moveTo>
                  <a:pt x="16694" y="13122"/>
                </a:moveTo>
                <a:cubicBezTo>
                  <a:pt x="16670" y="13192"/>
                  <a:pt x="16676" y="13109"/>
                  <a:pt x="16694" y="13097"/>
                </a:cubicBezTo>
                <a:cubicBezTo>
                  <a:pt x="16709" y="13087"/>
                  <a:pt x="16734" y="13051"/>
                  <a:pt x="16743" y="13047"/>
                </a:cubicBezTo>
                <a:cubicBezTo>
                  <a:pt x="16775" y="13031"/>
                  <a:pt x="16785" y="13012"/>
                  <a:pt x="16842" y="12998"/>
                </a:cubicBezTo>
                <a:cubicBezTo>
                  <a:pt x="16911" y="12981"/>
                  <a:pt x="16929" y="13044"/>
                  <a:pt x="16917" y="13097"/>
                </a:cubicBezTo>
                <a:cubicBezTo>
                  <a:pt x="16898" y="13178"/>
                  <a:pt x="16888" y="13182"/>
                  <a:pt x="16818" y="13196"/>
                </a:cubicBezTo>
                <a:cubicBezTo>
                  <a:pt x="16919" y="13242"/>
                  <a:pt x="17011" y="13241"/>
                  <a:pt x="16966" y="13370"/>
                </a:cubicBezTo>
                <a:cubicBezTo>
                  <a:pt x="16915" y="13515"/>
                  <a:pt x="16827" y="13494"/>
                  <a:pt x="16694" y="13494"/>
                </a:cubicBezTo>
                <a:cubicBezTo>
                  <a:pt x="16669" y="13494"/>
                  <a:pt x="16661" y="13494"/>
                  <a:pt x="16669" y="13469"/>
                </a:cubicBezTo>
              </a:path>
              <a:path w="2382" h="3176">
                <a:moveTo>
                  <a:pt x="17115" y="12998"/>
                </a:moveTo>
                <a:cubicBezTo>
                  <a:pt x="17183" y="12947"/>
                  <a:pt x="17294" y="12950"/>
                  <a:pt x="17338" y="13047"/>
                </a:cubicBezTo>
                <a:cubicBezTo>
                  <a:pt x="17424" y="13240"/>
                  <a:pt x="17236" y="13378"/>
                  <a:pt x="17090" y="13444"/>
                </a:cubicBezTo>
                <a:cubicBezTo>
                  <a:pt x="17062" y="13444"/>
                  <a:pt x="17052" y="13441"/>
                  <a:pt x="17041" y="13419"/>
                </a:cubicBezTo>
                <a:cubicBezTo>
                  <a:pt x="17080" y="13321"/>
                  <a:pt x="17117" y="13277"/>
                  <a:pt x="17239" y="13295"/>
                </a:cubicBezTo>
                <a:cubicBezTo>
                  <a:pt x="17347" y="13311"/>
                  <a:pt x="17319" y="13411"/>
                  <a:pt x="17388" y="13395"/>
                </a:cubicBezTo>
              </a:path>
              <a:path w="2382" h="3176">
                <a:moveTo>
                  <a:pt x="17636" y="13146"/>
                </a:moveTo>
                <a:cubicBezTo>
                  <a:pt x="17735" y="13163"/>
                  <a:pt x="17807" y="13152"/>
                  <a:pt x="17909" y="13146"/>
                </a:cubicBezTo>
                <a:cubicBezTo>
                  <a:pt x="17934" y="13146"/>
                  <a:pt x="17942" y="13146"/>
                  <a:pt x="17959" y="13146"/>
                </a:cubicBezTo>
              </a:path>
              <a:path w="2382" h="3176">
                <a:moveTo>
                  <a:pt x="17735" y="13320"/>
                </a:moveTo>
                <a:cubicBezTo>
                  <a:pt x="17795" y="13320"/>
                  <a:pt x="17942" y="13347"/>
                  <a:pt x="17959" y="13295"/>
                </a:cubicBezTo>
              </a:path>
              <a:path w="2382" h="3176">
                <a:moveTo>
                  <a:pt x="18455" y="12923"/>
                </a:moveTo>
                <a:cubicBezTo>
                  <a:pt x="18533" y="12816"/>
                  <a:pt x="18327" y="12855"/>
                  <a:pt x="18281" y="12874"/>
                </a:cubicBezTo>
                <a:cubicBezTo>
                  <a:pt x="18146" y="12931"/>
                  <a:pt x="18175" y="13032"/>
                  <a:pt x="18256" y="13097"/>
                </a:cubicBezTo>
                <a:cubicBezTo>
                  <a:pt x="18320" y="13148"/>
                  <a:pt x="18507" y="13253"/>
                  <a:pt x="18455" y="13370"/>
                </a:cubicBezTo>
                <a:cubicBezTo>
                  <a:pt x="18431" y="13423"/>
                  <a:pt x="18292" y="13382"/>
                  <a:pt x="18256" y="13370"/>
                </a:cubicBezTo>
                <a:cubicBezTo>
                  <a:pt x="18256" y="13362"/>
                  <a:pt x="18256" y="13353"/>
                  <a:pt x="18256" y="13345"/>
                </a:cubicBezTo>
                <a:cubicBezTo>
                  <a:pt x="18304" y="13269"/>
                  <a:pt x="18365" y="13210"/>
                  <a:pt x="18430" y="13146"/>
                </a:cubicBezTo>
                <a:cubicBezTo>
                  <a:pt x="18478" y="13099"/>
                  <a:pt x="18521" y="13099"/>
                  <a:pt x="18529" y="13022"/>
                </a:cubicBezTo>
                <a:cubicBezTo>
                  <a:pt x="18533" y="12986"/>
                  <a:pt x="18515" y="13006"/>
                  <a:pt x="18504" y="12973"/>
                </a:cubicBezTo>
              </a:path>
              <a:path w="2382" h="3176">
                <a:moveTo>
                  <a:pt x="18752" y="12898"/>
                </a:moveTo>
                <a:cubicBezTo>
                  <a:pt x="18752" y="12890"/>
                  <a:pt x="18752" y="12882"/>
                  <a:pt x="18752" y="12874"/>
                </a:cubicBezTo>
                <a:cubicBezTo>
                  <a:pt x="18706" y="12889"/>
                  <a:pt x="18751" y="13066"/>
                  <a:pt x="18752" y="13122"/>
                </a:cubicBezTo>
                <a:cubicBezTo>
                  <a:pt x="18754" y="13224"/>
                  <a:pt x="18755" y="13308"/>
                  <a:pt x="18777" y="13395"/>
                </a:cubicBezTo>
                <a:cubicBezTo>
                  <a:pt x="18760" y="13310"/>
                  <a:pt x="18762" y="13281"/>
                  <a:pt x="18802" y="13196"/>
                </a:cubicBezTo>
                <a:cubicBezTo>
                  <a:pt x="18841" y="13115"/>
                  <a:pt x="18925" y="13100"/>
                  <a:pt x="19000" y="13146"/>
                </a:cubicBezTo>
                <a:cubicBezTo>
                  <a:pt x="19065" y="13186"/>
                  <a:pt x="19050" y="13283"/>
                  <a:pt x="19050" y="13345"/>
                </a:cubicBezTo>
                <a:cubicBezTo>
                  <a:pt x="19050" y="13353"/>
                  <a:pt x="19050" y="13437"/>
                  <a:pt x="19050" y="13370"/>
                </a:cubicBezTo>
              </a:path>
              <a:path w="2382" h="3176">
                <a:moveTo>
                  <a:pt x="18281" y="13543"/>
                </a:moveTo>
                <a:cubicBezTo>
                  <a:pt x="18383" y="13543"/>
                  <a:pt x="18477" y="13524"/>
                  <a:pt x="18579" y="13519"/>
                </a:cubicBezTo>
                <a:cubicBezTo>
                  <a:pt x="18727" y="13512"/>
                  <a:pt x="18877" y="13519"/>
                  <a:pt x="19025" y="13519"/>
                </a:cubicBezTo>
              </a:path>
              <a:path w="2382" h="3176">
                <a:moveTo>
                  <a:pt x="18554" y="13717"/>
                </a:moveTo>
                <a:cubicBezTo>
                  <a:pt x="18614" y="13684"/>
                  <a:pt x="18659" y="13643"/>
                  <a:pt x="18728" y="13643"/>
                </a:cubicBezTo>
                <a:cubicBezTo>
                  <a:pt x="18728" y="13723"/>
                  <a:pt x="18719" y="13762"/>
                  <a:pt x="18653" y="13816"/>
                </a:cubicBezTo>
                <a:cubicBezTo>
                  <a:pt x="18593" y="13866"/>
                  <a:pt x="18519" y="13922"/>
                  <a:pt x="18455" y="13965"/>
                </a:cubicBezTo>
                <a:cubicBezTo>
                  <a:pt x="18400" y="14002"/>
                  <a:pt x="18395" y="13971"/>
                  <a:pt x="18380" y="14015"/>
                </a:cubicBezTo>
                <a:cubicBezTo>
                  <a:pt x="18435" y="14001"/>
                  <a:pt x="18493" y="13953"/>
                  <a:pt x="18554" y="13940"/>
                </a:cubicBezTo>
                <a:cubicBezTo>
                  <a:pt x="18645" y="13921"/>
                  <a:pt x="18737" y="13937"/>
                  <a:pt x="18827" y="13915"/>
                </a:cubicBezTo>
                <a:cubicBezTo>
                  <a:pt x="18835" y="13915"/>
                  <a:pt x="18844" y="13915"/>
                  <a:pt x="18852" y="13915"/>
                </a:cubicBezTo>
              </a:path>
              <a:path w="2382" h="3176">
                <a:moveTo>
                  <a:pt x="18207" y="12799"/>
                </a:moveTo>
                <a:cubicBezTo>
                  <a:pt x="18284" y="12941"/>
                  <a:pt x="18398" y="13055"/>
                  <a:pt x="18479" y="13196"/>
                </a:cubicBezTo>
                <a:cubicBezTo>
                  <a:pt x="18572" y="13359"/>
                  <a:pt x="18626" y="13631"/>
                  <a:pt x="18752" y="13767"/>
                </a:cubicBezTo>
                <a:cubicBezTo>
                  <a:pt x="18816" y="13836"/>
                  <a:pt x="18845" y="13890"/>
                  <a:pt x="18901" y="13965"/>
                </a:cubicBezTo>
                <a:cubicBezTo>
                  <a:pt x="18909" y="13973"/>
                  <a:pt x="18918" y="13982"/>
                  <a:pt x="18926" y="13990"/>
                </a:cubicBezTo>
              </a:path>
              <a:path w="2382" h="3176">
                <a:moveTo>
                  <a:pt x="17934" y="12427"/>
                </a:moveTo>
                <a:cubicBezTo>
                  <a:pt x="17934" y="12526"/>
                  <a:pt x="17913" y="12605"/>
                  <a:pt x="17884" y="12700"/>
                </a:cubicBezTo>
                <a:cubicBezTo>
                  <a:pt x="17973" y="12682"/>
                  <a:pt x="18049" y="12633"/>
                  <a:pt x="18132" y="12601"/>
                </a:cubicBezTo>
                <a:cubicBezTo>
                  <a:pt x="18140" y="12601"/>
                  <a:pt x="18149" y="12601"/>
                  <a:pt x="18157" y="12601"/>
                </a:cubicBezTo>
              </a:path>
              <a:path w="2382" h="3176">
                <a:moveTo>
                  <a:pt x="18083" y="12254"/>
                </a:moveTo>
                <a:cubicBezTo>
                  <a:pt x="18090" y="12462"/>
                  <a:pt x="18130" y="12648"/>
                  <a:pt x="18157" y="128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7385040" y="3929040"/>
            <a:ext cx="919080" cy="519120"/>
          </a:xfrm>
          <a:custGeom>
            <a:avLst/>
            <a:gdLst/>
            <a:ahLst/>
            <a:rect l="l" t="t" r="r" b="b"/>
            <a:pathLst>
              <a:path w="2556" h="1440">
                <a:moveTo>
                  <a:pt x="20538" y="11237"/>
                </a:moveTo>
                <a:cubicBezTo>
                  <a:pt x="20559" y="11153"/>
                  <a:pt x="20662" y="11141"/>
                  <a:pt x="20737" y="11112"/>
                </a:cubicBezTo>
                <a:cubicBezTo>
                  <a:pt x="20763" y="11229"/>
                  <a:pt x="20730" y="11326"/>
                  <a:pt x="20662" y="11435"/>
                </a:cubicBezTo>
                <a:cubicBezTo>
                  <a:pt x="20803" y="11407"/>
                  <a:pt x="20906" y="11484"/>
                  <a:pt x="20786" y="11633"/>
                </a:cubicBezTo>
                <a:cubicBezTo>
                  <a:pt x="20700" y="11740"/>
                  <a:pt x="20562" y="11771"/>
                  <a:pt x="20513" y="11658"/>
                </a:cubicBezTo>
              </a:path>
              <a:path w="2556" h="1440">
                <a:moveTo>
                  <a:pt x="21084" y="11112"/>
                </a:moveTo>
                <a:cubicBezTo>
                  <a:pt x="21231" y="11137"/>
                  <a:pt x="21349" y="11212"/>
                  <a:pt x="21357" y="11385"/>
                </a:cubicBezTo>
                <a:cubicBezTo>
                  <a:pt x="21366" y="11591"/>
                  <a:pt x="21187" y="11644"/>
                  <a:pt x="21034" y="11633"/>
                </a:cubicBezTo>
                <a:cubicBezTo>
                  <a:pt x="20996" y="11535"/>
                  <a:pt x="21141" y="11500"/>
                  <a:pt x="21233" y="11534"/>
                </a:cubicBezTo>
                <a:cubicBezTo>
                  <a:pt x="21318" y="11598"/>
                  <a:pt x="21338" y="11610"/>
                  <a:pt x="21382" y="11658"/>
                </a:cubicBezTo>
              </a:path>
              <a:path w="2556" h="1440">
                <a:moveTo>
                  <a:pt x="21605" y="11311"/>
                </a:moveTo>
                <a:cubicBezTo>
                  <a:pt x="21682" y="11296"/>
                  <a:pt x="21745" y="11286"/>
                  <a:pt x="21828" y="11286"/>
                </a:cubicBezTo>
              </a:path>
              <a:path w="2556" h="1440">
                <a:moveTo>
                  <a:pt x="21654" y="11559"/>
                </a:moveTo>
                <a:cubicBezTo>
                  <a:pt x="21756" y="11527"/>
                  <a:pt x="21851" y="11492"/>
                  <a:pt x="21952" y="11460"/>
                </a:cubicBezTo>
              </a:path>
              <a:path w="2556" h="1440">
                <a:moveTo>
                  <a:pt x="22101" y="11137"/>
                </a:moveTo>
                <a:cubicBezTo>
                  <a:pt x="22101" y="11216"/>
                  <a:pt x="22078" y="11377"/>
                  <a:pt x="22151" y="11435"/>
                </a:cubicBezTo>
                <a:cubicBezTo>
                  <a:pt x="22238" y="11504"/>
                  <a:pt x="22326" y="11424"/>
                  <a:pt x="22399" y="11385"/>
                </a:cubicBezTo>
              </a:path>
              <a:path w="2556" h="1440">
                <a:moveTo>
                  <a:pt x="22324" y="11038"/>
                </a:moveTo>
                <a:cubicBezTo>
                  <a:pt x="22324" y="11201"/>
                  <a:pt x="22364" y="11350"/>
                  <a:pt x="22399" y="11509"/>
                </a:cubicBezTo>
                <a:cubicBezTo>
                  <a:pt x="22418" y="11587"/>
                  <a:pt x="22409" y="11604"/>
                  <a:pt x="22448" y="11633"/>
                </a:cubicBezTo>
              </a:path>
              <a:path w="2556" h="1440">
                <a:moveTo>
                  <a:pt x="22572" y="10988"/>
                </a:moveTo>
                <a:cubicBezTo>
                  <a:pt x="22592" y="11106"/>
                  <a:pt x="22635" y="11247"/>
                  <a:pt x="22671" y="11361"/>
                </a:cubicBezTo>
                <a:cubicBezTo>
                  <a:pt x="22705" y="11469"/>
                  <a:pt x="22721" y="11468"/>
                  <a:pt x="22721" y="11559"/>
                </a:cubicBezTo>
                <a:cubicBezTo>
                  <a:pt x="22721" y="11469"/>
                  <a:pt x="22730" y="11397"/>
                  <a:pt x="22746" y="11311"/>
                </a:cubicBezTo>
                <a:cubicBezTo>
                  <a:pt x="22757" y="11253"/>
                  <a:pt x="22867" y="11257"/>
                  <a:pt x="22920" y="11286"/>
                </a:cubicBezTo>
                <a:cubicBezTo>
                  <a:pt x="23004" y="11332"/>
                  <a:pt x="23040" y="11447"/>
                  <a:pt x="23044" y="11534"/>
                </a:cubicBezTo>
                <a:cubicBezTo>
                  <a:pt x="23044" y="11595"/>
                  <a:pt x="23034" y="11611"/>
                  <a:pt x="23068" y="11633"/>
                </a:cubicBezTo>
              </a:path>
              <a:path w="2556" h="1440">
                <a:moveTo>
                  <a:pt x="20563" y="11832"/>
                </a:moveTo>
                <a:cubicBezTo>
                  <a:pt x="20740" y="11812"/>
                  <a:pt x="20905" y="11785"/>
                  <a:pt x="21084" y="11782"/>
                </a:cubicBezTo>
                <a:cubicBezTo>
                  <a:pt x="21158" y="11781"/>
                  <a:pt x="21233" y="11782"/>
                  <a:pt x="21307" y="11782"/>
                </a:cubicBezTo>
              </a:path>
              <a:path w="2556" h="1440">
                <a:moveTo>
                  <a:pt x="20886" y="11981"/>
                </a:moveTo>
                <a:cubicBezTo>
                  <a:pt x="20858" y="12037"/>
                  <a:pt x="20844" y="12068"/>
                  <a:pt x="20836" y="12129"/>
                </a:cubicBezTo>
                <a:cubicBezTo>
                  <a:pt x="20928" y="12118"/>
                  <a:pt x="21018" y="12093"/>
                  <a:pt x="21109" y="12080"/>
                </a:cubicBezTo>
              </a:path>
              <a:path w="2556" h="1440">
                <a:moveTo>
                  <a:pt x="21034" y="11931"/>
                </a:moveTo>
                <a:cubicBezTo>
                  <a:pt x="21020" y="12049"/>
                  <a:pt x="21010" y="12158"/>
                  <a:pt x="21010" y="12278"/>
                </a:cubicBezTo>
                <a:cubicBezTo>
                  <a:pt x="21010" y="12320"/>
                  <a:pt x="21010" y="12328"/>
                  <a:pt x="21010" y="12353"/>
                </a:cubicBezTo>
              </a:path>
              <a:path w="2556" h="1440">
                <a:moveTo>
                  <a:pt x="22448" y="11807"/>
                </a:moveTo>
                <a:cubicBezTo>
                  <a:pt x="22469" y="11743"/>
                  <a:pt x="22703" y="11782"/>
                  <a:pt x="22771" y="11782"/>
                </a:cubicBezTo>
                <a:cubicBezTo>
                  <a:pt x="22826" y="11782"/>
                  <a:pt x="22979" y="11737"/>
                  <a:pt x="22994" y="11782"/>
                </a:cubicBezTo>
              </a:path>
              <a:path w="2556" h="1440">
                <a:moveTo>
                  <a:pt x="22671" y="12005"/>
                </a:moveTo>
                <a:cubicBezTo>
                  <a:pt x="22671" y="11946"/>
                  <a:pt x="22671" y="12106"/>
                  <a:pt x="22671" y="12129"/>
                </a:cubicBezTo>
                <a:cubicBezTo>
                  <a:pt x="22758" y="12121"/>
                  <a:pt x="22836" y="12104"/>
                  <a:pt x="22920" y="12080"/>
                </a:cubicBezTo>
              </a:path>
              <a:path w="2556" h="1440">
                <a:moveTo>
                  <a:pt x="22870" y="11906"/>
                </a:moveTo>
                <a:cubicBezTo>
                  <a:pt x="22819" y="12023"/>
                  <a:pt x="22876" y="12127"/>
                  <a:pt x="22895" y="12254"/>
                </a:cubicBezTo>
                <a:cubicBezTo>
                  <a:pt x="22895" y="12270"/>
                  <a:pt x="22895" y="12287"/>
                  <a:pt x="22895" y="12303"/>
                </a:cubicBezTo>
              </a:path>
              <a:path w="2556" h="1440">
                <a:moveTo>
                  <a:pt x="22299" y="10988"/>
                </a:moveTo>
                <a:cubicBezTo>
                  <a:pt x="22259" y="10948"/>
                  <a:pt x="22231" y="10931"/>
                  <a:pt x="22175" y="10914"/>
                </a:cubicBezTo>
                <a:cubicBezTo>
                  <a:pt x="22167" y="10914"/>
                  <a:pt x="22159" y="10914"/>
                  <a:pt x="22151" y="10914"/>
                </a:cubicBezTo>
                <a:cubicBezTo>
                  <a:pt x="22160" y="11056"/>
                  <a:pt x="22173" y="11201"/>
                  <a:pt x="22225" y="11336"/>
                </a:cubicBezTo>
                <a:cubicBezTo>
                  <a:pt x="22318" y="11576"/>
                  <a:pt x="22513" y="11747"/>
                  <a:pt x="22622" y="11981"/>
                </a:cubicBezTo>
                <a:cubicBezTo>
                  <a:pt x="22660" y="12062"/>
                  <a:pt x="22686" y="12154"/>
                  <a:pt x="22721" y="12229"/>
                </a:cubicBezTo>
                <a:cubicBezTo>
                  <a:pt x="22746" y="12229"/>
                  <a:pt x="22754" y="12229"/>
                  <a:pt x="22746" y="122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7545240" y="4680000"/>
            <a:ext cx="679680" cy="276120"/>
          </a:xfrm>
          <a:custGeom>
            <a:avLst/>
            <a:gdLst/>
            <a:ahLst/>
            <a:rect l="l" t="t" r="r" b="b"/>
            <a:pathLst>
              <a:path w="1886" h="770">
                <a:moveTo>
                  <a:pt x="21332" y="13072"/>
                </a:moveTo>
                <a:cubicBezTo>
                  <a:pt x="21282" y="12972"/>
                  <a:pt x="21118" y="13029"/>
                  <a:pt x="21034" y="13072"/>
                </a:cubicBezTo>
                <a:cubicBezTo>
                  <a:pt x="21018" y="13089"/>
                  <a:pt x="21001" y="13105"/>
                  <a:pt x="20985" y="13122"/>
                </a:cubicBezTo>
                <a:cubicBezTo>
                  <a:pt x="21002" y="13283"/>
                  <a:pt x="21231" y="13295"/>
                  <a:pt x="21332" y="13444"/>
                </a:cubicBezTo>
                <a:cubicBezTo>
                  <a:pt x="21332" y="13524"/>
                  <a:pt x="21328" y="13551"/>
                  <a:pt x="21258" y="13568"/>
                </a:cubicBezTo>
                <a:cubicBezTo>
                  <a:pt x="21122" y="13587"/>
                  <a:pt x="21201" y="13432"/>
                  <a:pt x="21258" y="13345"/>
                </a:cubicBezTo>
                <a:cubicBezTo>
                  <a:pt x="21346" y="13235"/>
                  <a:pt x="21366" y="13206"/>
                  <a:pt x="21431" y="13146"/>
                </a:cubicBezTo>
              </a:path>
              <a:path w="1886" h="770">
                <a:moveTo>
                  <a:pt x="21729" y="13171"/>
                </a:moveTo>
                <a:cubicBezTo>
                  <a:pt x="21803" y="13171"/>
                  <a:pt x="21878" y="13171"/>
                  <a:pt x="21952" y="13171"/>
                </a:cubicBezTo>
              </a:path>
              <a:path w="1886" h="770">
                <a:moveTo>
                  <a:pt x="21754" y="13345"/>
                </a:moveTo>
                <a:cubicBezTo>
                  <a:pt x="21844" y="13340"/>
                  <a:pt x="21894" y="13334"/>
                  <a:pt x="21977" y="13320"/>
                </a:cubicBezTo>
              </a:path>
              <a:path w="1886" h="770">
                <a:moveTo>
                  <a:pt x="22473" y="13022"/>
                </a:moveTo>
                <a:cubicBezTo>
                  <a:pt x="22443" y="12936"/>
                  <a:pt x="22432" y="13132"/>
                  <a:pt x="22448" y="13221"/>
                </a:cubicBezTo>
                <a:cubicBezTo>
                  <a:pt x="22453" y="13247"/>
                  <a:pt x="22520" y="13695"/>
                  <a:pt x="22498" y="13543"/>
                </a:cubicBezTo>
                <a:cubicBezTo>
                  <a:pt x="22487" y="13470"/>
                  <a:pt x="22513" y="13414"/>
                  <a:pt x="22523" y="13345"/>
                </a:cubicBezTo>
                <a:cubicBezTo>
                  <a:pt x="22532" y="13285"/>
                  <a:pt x="22550" y="13238"/>
                  <a:pt x="22622" y="13221"/>
                </a:cubicBezTo>
                <a:cubicBezTo>
                  <a:pt x="22723" y="13197"/>
                  <a:pt x="22776" y="13329"/>
                  <a:pt x="22796" y="13395"/>
                </a:cubicBezTo>
                <a:cubicBezTo>
                  <a:pt x="22820" y="13474"/>
                  <a:pt x="22845" y="13538"/>
                  <a:pt x="22845" y="13618"/>
                </a:cubicBezTo>
              </a:path>
              <a:path w="1886" h="770">
                <a:moveTo>
                  <a:pt x="21679" y="13519"/>
                </a:moveTo>
                <a:cubicBezTo>
                  <a:pt x="21679" y="13473"/>
                  <a:pt x="21723" y="13421"/>
                  <a:pt x="21679" y="13395"/>
                </a:cubicBezTo>
                <a:cubicBezTo>
                  <a:pt x="21654" y="13387"/>
                  <a:pt x="21630" y="13378"/>
                  <a:pt x="21605" y="13370"/>
                </a:cubicBezTo>
                <a:cubicBezTo>
                  <a:pt x="21615" y="13504"/>
                  <a:pt x="21665" y="13614"/>
                  <a:pt x="21679" y="13742"/>
                </a:cubicBezTo>
                <a:cubicBezTo>
                  <a:pt x="21679" y="13750"/>
                  <a:pt x="21679" y="13759"/>
                  <a:pt x="21679" y="13767"/>
                </a:cubicBezTo>
              </a:path>
              <a:path w="1886" h="770">
                <a:moveTo>
                  <a:pt x="21605" y="13692"/>
                </a:moveTo>
                <a:cubicBezTo>
                  <a:pt x="21666" y="13669"/>
                  <a:pt x="21718" y="13668"/>
                  <a:pt x="21779" y="13643"/>
                </a:cubicBezTo>
              </a:path>
              <a:path w="1886" h="770">
                <a:moveTo>
                  <a:pt x="21853" y="13519"/>
                </a:moveTo>
                <a:cubicBezTo>
                  <a:pt x="21853" y="13511"/>
                  <a:pt x="21853" y="13502"/>
                  <a:pt x="21853" y="13494"/>
                </a:cubicBezTo>
                <a:cubicBezTo>
                  <a:pt x="21907" y="13512"/>
                  <a:pt x="21899" y="13606"/>
                  <a:pt x="21903" y="13667"/>
                </a:cubicBezTo>
                <a:cubicBezTo>
                  <a:pt x="21910" y="13788"/>
                  <a:pt x="21947" y="13754"/>
                  <a:pt x="22051" y="13742"/>
                </a:cubicBezTo>
                <a:cubicBezTo>
                  <a:pt x="22076" y="13742"/>
                  <a:pt x="22084" y="13742"/>
                  <a:pt x="22076" y="13717"/>
                </a:cubicBezTo>
              </a:path>
              <a:path w="1886" h="770">
                <a:moveTo>
                  <a:pt x="21803" y="13618"/>
                </a:moveTo>
                <a:cubicBezTo>
                  <a:pt x="21872" y="13608"/>
                  <a:pt x="21932" y="13593"/>
                  <a:pt x="22002" y="1359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7616880" y="5313240"/>
            <a:ext cx="563400" cy="250920"/>
          </a:xfrm>
          <a:custGeom>
            <a:avLst/>
            <a:gdLst/>
            <a:ahLst/>
            <a:rect l="l" t="t" r="r" b="b"/>
            <a:pathLst>
              <a:path w="1564" h="695">
                <a:moveTo>
                  <a:pt x="21158" y="15056"/>
                </a:moveTo>
                <a:cubicBezTo>
                  <a:pt x="21164" y="15196"/>
                  <a:pt x="21188" y="15316"/>
                  <a:pt x="21208" y="15453"/>
                </a:cubicBezTo>
              </a:path>
              <a:path w="1564" h="695">
                <a:moveTo>
                  <a:pt x="21704" y="15007"/>
                </a:moveTo>
                <a:cubicBezTo>
                  <a:pt x="21685" y="14949"/>
                  <a:pt x="21676" y="14943"/>
                  <a:pt x="21679" y="14908"/>
                </a:cubicBezTo>
                <a:cubicBezTo>
                  <a:pt x="21679" y="15051"/>
                  <a:pt x="21694" y="15188"/>
                  <a:pt x="21704" y="15329"/>
                </a:cubicBezTo>
                <a:cubicBezTo>
                  <a:pt x="21704" y="15354"/>
                  <a:pt x="21704" y="15379"/>
                  <a:pt x="21704" y="15404"/>
                </a:cubicBezTo>
              </a:path>
              <a:path w="1564" h="695">
                <a:moveTo>
                  <a:pt x="22101" y="15230"/>
                </a:moveTo>
                <a:cubicBezTo>
                  <a:pt x="22087" y="15265"/>
                  <a:pt x="22065" y="15294"/>
                  <a:pt x="22051" y="15329"/>
                </a:cubicBezTo>
                <a:cubicBezTo>
                  <a:pt x="22137" y="15350"/>
                  <a:pt x="22173" y="15277"/>
                  <a:pt x="22151" y="15280"/>
                </a:cubicBezTo>
                <a:cubicBezTo>
                  <a:pt x="22126" y="15304"/>
                  <a:pt x="22117" y="15312"/>
                  <a:pt x="22101" y="15329"/>
                </a:cubicBezTo>
              </a:path>
              <a:path w="1564" h="695">
                <a:moveTo>
                  <a:pt x="22622" y="14759"/>
                </a:moveTo>
                <a:cubicBezTo>
                  <a:pt x="22518" y="14769"/>
                  <a:pt x="22405" y="14766"/>
                  <a:pt x="22374" y="14858"/>
                </a:cubicBezTo>
                <a:cubicBezTo>
                  <a:pt x="22351" y="14926"/>
                  <a:pt x="22349" y="14966"/>
                  <a:pt x="22349" y="15032"/>
                </a:cubicBezTo>
                <a:cubicBezTo>
                  <a:pt x="22472" y="15007"/>
                  <a:pt x="22504" y="14935"/>
                  <a:pt x="22647" y="14982"/>
                </a:cubicBezTo>
                <a:cubicBezTo>
                  <a:pt x="22838" y="15044"/>
                  <a:pt x="22663" y="15251"/>
                  <a:pt x="22547" y="15280"/>
                </a:cubicBezTo>
                <a:cubicBezTo>
                  <a:pt x="22506" y="15280"/>
                  <a:pt x="22464" y="15280"/>
                  <a:pt x="22423" y="1528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a:off x="7643880" y="5813280"/>
            <a:ext cx="876240" cy="973440"/>
          </a:xfrm>
          <a:custGeom>
            <a:avLst/>
            <a:gdLst/>
            <a:ahLst/>
            <a:rect l="l" t="t" r="r" b="b"/>
            <a:pathLst>
              <a:path w="2432" h="2705">
                <a:moveTo>
                  <a:pt x="21233" y="16173"/>
                </a:moveTo>
                <a:cubicBezTo>
                  <a:pt x="21320" y="16173"/>
                  <a:pt x="21394" y="16156"/>
                  <a:pt x="21481" y="16148"/>
                </a:cubicBezTo>
                <a:cubicBezTo>
                  <a:pt x="21506" y="16148"/>
                  <a:pt x="21530" y="16148"/>
                  <a:pt x="21555" y="16148"/>
                </a:cubicBezTo>
                <a:cubicBezTo>
                  <a:pt x="21569" y="16263"/>
                  <a:pt x="21522" y="16295"/>
                  <a:pt x="21431" y="16371"/>
                </a:cubicBezTo>
                <a:cubicBezTo>
                  <a:pt x="21488" y="16371"/>
                  <a:pt x="21561" y="16317"/>
                  <a:pt x="21605" y="16371"/>
                </a:cubicBezTo>
                <a:cubicBezTo>
                  <a:pt x="21710" y="16499"/>
                  <a:pt x="21412" y="16559"/>
                  <a:pt x="21332" y="16545"/>
                </a:cubicBezTo>
                <a:cubicBezTo>
                  <a:pt x="21332" y="16537"/>
                  <a:pt x="21332" y="16528"/>
                  <a:pt x="21332" y="16520"/>
                </a:cubicBezTo>
              </a:path>
              <a:path w="2432" h="2705">
                <a:moveTo>
                  <a:pt x="21233" y="16743"/>
                </a:moveTo>
                <a:cubicBezTo>
                  <a:pt x="21381" y="16715"/>
                  <a:pt x="21642" y="16630"/>
                  <a:pt x="21779" y="16669"/>
                </a:cubicBezTo>
              </a:path>
              <a:path w="2432" h="2705">
                <a:moveTo>
                  <a:pt x="21630" y="16892"/>
                </a:moveTo>
                <a:cubicBezTo>
                  <a:pt x="21516" y="16930"/>
                  <a:pt x="21420" y="17064"/>
                  <a:pt x="21406" y="17190"/>
                </a:cubicBezTo>
                <a:cubicBezTo>
                  <a:pt x="21414" y="17215"/>
                  <a:pt x="21423" y="17239"/>
                  <a:pt x="21431" y="17264"/>
                </a:cubicBezTo>
                <a:cubicBezTo>
                  <a:pt x="21587" y="17275"/>
                  <a:pt x="21748" y="17225"/>
                  <a:pt x="21704" y="17016"/>
                </a:cubicBezTo>
                <a:cubicBezTo>
                  <a:pt x="21689" y="16943"/>
                  <a:pt x="21636" y="16928"/>
                  <a:pt x="21580" y="16917"/>
                </a:cubicBezTo>
              </a:path>
              <a:path w="2432" h="2705">
                <a:moveTo>
                  <a:pt x="21853" y="16222"/>
                </a:moveTo>
                <a:cubicBezTo>
                  <a:pt x="21873" y="16342"/>
                  <a:pt x="21893" y="16476"/>
                  <a:pt x="21927" y="16594"/>
                </a:cubicBezTo>
                <a:cubicBezTo>
                  <a:pt x="21935" y="16611"/>
                  <a:pt x="21944" y="16627"/>
                  <a:pt x="21952" y="16644"/>
                </a:cubicBezTo>
              </a:path>
              <a:path w="2432" h="2705">
                <a:moveTo>
                  <a:pt x="21828" y="16818"/>
                </a:moveTo>
                <a:cubicBezTo>
                  <a:pt x="21839" y="16895"/>
                  <a:pt x="21853" y="16962"/>
                  <a:pt x="21853" y="17041"/>
                </a:cubicBezTo>
                <a:cubicBezTo>
                  <a:pt x="21953" y="17001"/>
                  <a:pt x="22053" y="16961"/>
                  <a:pt x="22151" y="16917"/>
                </a:cubicBezTo>
              </a:path>
              <a:path w="2432" h="2705">
                <a:moveTo>
                  <a:pt x="22101" y="16842"/>
                </a:moveTo>
                <a:cubicBezTo>
                  <a:pt x="22114" y="16969"/>
                  <a:pt x="22151" y="17341"/>
                  <a:pt x="22151" y="17214"/>
                </a:cubicBezTo>
                <a:cubicBezTo>
                  <a:pt x="22151" y="17139"/>
                  <a:pt x="22146" y="17098"/>
                  <a:pt x="22126" y="17041"/>
                </a:cubicBezTo>
              </a:path>
              <a:path w="2432" h="2705">
                <a:moveTo>
                  <a:pt x="22101" y="17338"/>
                </a:moveTo>
                <a:cubicBezTo>
                  <a:pt x="22127" y="17318"/>
                  <a:pt x="22350" y="17197"/>
                  <a:pt x="22225" y="17338"/>
                </a:cubicBezTo>
                <a:cubicBezTo>
                  <a:pt x="22200" y="17355"/>
                  <a:pt x="22176" y="17371"/>
                  <a:pt x="22151" y="17388"/>
                </a:cubicBezTo>
                <a:cubicBezTo>
                  <a:pt x="22151" y="17396"/>
                  <a:pt x="22151" y="17405"/>
                  <a:pt x="22151" y="17413"/>
                </a:cubicBezTo>
                <a:cubicBezTo>
                  <a:pt x="22194" y="17413"/>
                  <a:pt x="22305" y="17396"/>
                  <a:pt x="22299" y="17462"/>
                </a:cubicBezTo>
                <a:cubicBezTo>
                  <a:pt x="22285" y="17606"/>
                  <a:pt x="22148" y="17595"/>
                  <a:pt x="22051" y="17562"/>
                </a:cubicBezTo>
              </a:path>
              <a:path w="2432" h="2705">
                <a:moveTo>
                  <a:pt x="21605" y="17859"/>
                </a:moveTo>
                <a:cubicBezTo>
                  <a:pt x="21911" y="17800"/>
                  <a:pt x="22190" y="17742"/>
                  <a:pt x="22498" y="17760"/>
                </a:cubicBezTo>
                <a:cubicBezTo>
                  <a:pt x="22514" y="17760"/>
                  <a:pt x="22531" y="17760"/>
                  <a:pt x="22547" y="17760"/>
                </a:cubicBezTo>
              </a:path>
              <a:path w="2432" h="2705">
                <a:moveTo>
                  <a:pt x="22324" y="17909"/>
                </a:moveTo>
                <a:cubicBezTo>
                  <a:pt x="22324" y="17997"/>
                  <a:pt x="22313" y="18096"/>
                  <a:pt x="22299" y="18182"/>
                </a:cubicBezTo>
                <a:cubicBezTo>
                  <a:pt x="22290" y="18240"/>
                  <a:pt x="22275" y="18365"/>
                  <a:pt x="22275" y="18306"/>
                </a:cubicBezTo>
              </a:path>
              <a:path w="2432" h="2705">
                <a:moveTo>
                  <a:pt x="22696" y="16272"/>
                </a:moveTo>
                <a:cubicBezTo>
                  <a:pt x="22696" y="16441"/>
                  <a:pt x="22727" y="16600"/>
                  <a:pt x="22746" y="16768"/>
                </a:cubicBezTo>
                <a:cubicBezTo>
                  <a:pt x="22775" y="17023"/>
                  <a:pt x="22865" y="17260"/>
                  <a:pt x="22895" y="17512"/>
                </a:cubicBezTo>
                <a:cubicBezTo>
                  <a:pt x="22895" y="17586"/>
                  <a:pt x="22895" y="17595"/>
                  <a:pt x="22895" y="17636"/>
                </a:cubicBezTo>
              </a:path>
              <a:path w="2432" h="2705">
                <a:moveTo>
                  <a:pt x="22969" y="17909"/>
                </a:moveTo>
                <a:cubicBezTo>
                  <a:pt x="22887" y="17909"/>
                  <a:pt x="22809" y="17925"/>
                  <a:pt x="22746" y="17983"/>
                </a:cubicBezTo>
                <a:cubicBezTo>
                  <a:pt x="22735" y="17993"/>
                  <a:pt x="22746" y="18127"/>
                  <a:pt x="22746" y="18132"/>
                </a:cubicBezTo>
                <a:cubicBezTo>
                  <a:pt x="22853" y="18132"/>
                  <a:pt x="22942" y="18116"/>
                  <a:pt x="23044" y="18132"/>
                </a:cubicBezTo>
                <a:cubicBezTo>
                  <a:pt x="23030" y="18269"/>
                  <a:pt x="22986" y="18388"/>
                  <a:pt x="22820" y="18405"/>
                </a:cubicBezTo>
                <a:cubicBezTo>
                  <a:pt x="22720" y="18380"/>
                  <a:pt x="22687" y="18371"/>
                  <a:pt x="22647" y="18306"/>
                </a:cubicBezTo>
              </a:path>
              <a:path w="2432" h="2705">
                <a:moveTo>
                  <a:pt x="22423" y="18479"/>
                </a:moveTo>
                <a:cubicBezTo>
                  <a:pt x="22423" y="18451"/>
                  <a:pt x="22426" y="18441"/>
                  <a:pt x="22448" y="18430"/>
                </a:cubicBezTo>
                <a:cubicBezTo>
                  <a:pt x="22448" y="18529"/>
                  <a:pt x="22448" y="18629"/>
                  <a:pt x="22448" y="18728"/>
                </a:cubicBezTo>
              </a:path>
              <a:path w="2432" h="2705">
                <a:moveTo>
                  <a:pt x="22796" y="18504"/>
                </a:moveTo>
                <a:cubicBezTo>
                  <a:pt x="22829" y="18538"/>
                  <a:pt x="22958" y="18552"/>
                  <a:pt x="22969" y="18628"/>
                </a:cubicBezTo>
                <a:cubicBezTo>
                  <a:pt x="22992" y="18782"/>
                  <a:pt x="22862" y="18736"/>
                  <a:pt x="22796" y="18653"/>
                </a:cubicBezTo>
                <a:cubicBezTo>
                  <a:pt x="22771" y="18612"/>
                  <a:pt x="22746" y="18570"/>
                  <a:pt x="22721" y="18529"/>
                </a:cubicBezTo>
              </a:path>
              <a:path w="2432" h="2705">
                <a:moveTo>
                  <a:pt x="22969" y="18380"/>
                </a:moveTo>
                <a:cubicBezTo>
                  <a:pt x="23059" y="18357"/>
                  <a:pt x="23083" y="18349"/>
                  <a:pt x="23143" y="18355"/>
                </a:cubicBezTo>
              </a:path>
              <a:path w="2432" h="2705">
                <a:moveTo>
                  <a:pt x="23143" y="18355"/>
                </a:moveTo>
                <a:lnTo>
                  <a:pt x="23143" y="18355"/>
                </a:lnTo>
              </a:path>
              <a:path w="2432" h="2705">
                <a:moveTo>
                  <a:pt x="23490" y="18256"/>
                </a:moveTo>
                <a:cubicBezTo>
                  <a:pt x="23323" y="18454"/>
                  <a:pt x="23152" y="18644"/>
                  <a:pt x="22969" y="18827"/>
                </a:cubicBezTo>
                <a:cubicBezTo>
                  <a:pt x="22961" y="18835"/>
                  <a:pt x="22952" y="18844"/>
                  <a:pt x="22944" y="18852"/>
                </a:cubicBezTo>
              </a:path>
              <a:path w="2432" h="2705">
                <a:moveTo>
                  <a:pt x="23614" y="18678"/>
                </a:moveTo>
                <a:cubicBezTo>
                  <a:pt x="23578" y="18696"/>
                  <a:pt x="23533" y="18741"/>
                  <a:pt x="23515" y="18777"/>
                </a:cubicBezTo>
                <a:cubicBezTo>
                  <a:pt x="23561" y="18777"/>
                  <a:pt x="23640" y="18803"/>
                  <a:pt x="23664" y="18752"/>
                </a:cubicBezTo>
                <a:cubicBezTo>
                  <a:pt x="23686" y="18706"/>
                  <a:pt x="23620" y="18667"/>
                  <a:pt x="23614" y="1862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a:off x="2374920" y="5643720"/>
            <a:ext cx="804960" cy="473040"/>
          </a:xfrm>
          <a:custGeom>
            <a:avLst/>
            <a:gdLst/>
            <a:ahLst/>
            <a:rect l="l" t="t" r="r" b="b"/>
            <a:pathLst>
              <a:path w="2233" h="1315">
                <a:moveTo>
                  <a:pt x="6821" y="15850"/>
                </a:moveTo>
                <a:cubicBezTo>
                  <a:pt x="6791" y="15759"/>
                  <a:pt x="6726" y="16015"/>
                  <a:pt x="6722" y="16024"/>
                </a:cubicBezTo>
                <a:cubicBezTo>
                  <a:pt x="6665" y="16140"/>
                  <a:pt x="6657" y="16156"/>
                  <a:pt x="6623" y="16222"/>
                </a:cubicBezTo>
                <a:cubicBezTo>
                  <a:pt x="6583" y="16144"/>
                  <a:pt x="6672" y="15964"/>
                  <a:pt x="6722" y="15875"/>
                </a:cubicBezTo>
                <a:cubicBezTo>
                  <a:pt x="6793" y="15749"/>
                  <a:pt x="6871" y="15723"/>
                  <a:pt x="6995" y="15677"/>
                </a:cubicBezTo>
                <a:cubicBezTo>
                  <a:pt x="7034" y="15767"/>
                  <a:pt x="7036" y="16013"/>
                  <a:pt x="7020" y="16148"/>
                </a:cubicBezTo>
                <a:cubicBezTo>
                  <a:pt x="6999" y="16230"/>
                  <a:pt x="6991" y="16246"/>
                  <a:pt x="6995" y="16297"/>
                </a:cubicBezTo>
              </a:path>
              <a:path w="2233" h="1315">
                <a:moveTo>
                  <a:pt x="6648" y="15949"/>
                </a:moveTo>
                <a:cubicBezTo>
                  <a:pt x="6769" y="15957"/>
                  <a:pt x="6916" y="15960"/>
                  <a:pt x="7020" y="15999"/>
                </a:cubicBezTo>
              </a:path>
              <a:path w="2233" h="1315">
                <a:moveTo>
                  <a:pt x="7466" y="15999"/>
                </a:moveTo>
                <a:cubicBezTo>
                  <a:pt x="7534" y="16009"/>
                  <a:pt x="7596" y="16019"/>
                  <a:pt x="7665" y="16024"/>
                </a:cubicBezTo>
              </a:path>
              <a:path w="2233" h="1315">
                <a:moveTo>
                  <a:pt x="7417" y="16123"/>
                </a:moveTo>
                <a:cubicBezTo>
                  <a:pt x="7561" y="16116"/>
                  <a:pt x="7652" y="16097"/>
                  <a:pt x="7789" y="16049"/>
                </a:cubicBezTo>
              </a:path>
              <a:path w="2233" h="1315">
                <a:moveTo>
                  <a:pt x="7962" y="15825"/>
                </a:moveTo>
                <a:cubicBezTo>
                  <a:pt x="7962" y="15941"/>
                  <a:pt x="7962" y="16057"/>
                  <a:pt x="7962" y="16173"/>
                </a:cubicBezTo>
                <a:cubicBezTo>
                  <a:pt x="7983" y="16089"/>
                  <a:pt x="8008" y="15985"/>
                  <a:pt x="8111" y="15949"/>
                </a:cubicBezTo>
                <a:cubicBezTo>
                  <a:pt x="8229" y="15949"/>
                  <a:pt x="8266" y="15945"/>
                  <a:pt x="8310" y="16024"/>
                </a:cubicBezTo>
                <a:cubicBezTo>
                  <a:pt x="8294" y="16097"/>
                  <a:pt x="8118" y="16341"/>
                  <a:pt x="8012" y="16173"/>
                </a:cubicBezTo>
                <a:cubicBezTo>
                  <a:pt x="8012" y="16132"/>
                  <a:pt x="8012" y="16090"/>
                  <a:pt x="8012" y="16049"/>
                </a:cubicBezTo>
              </a:path>
              <a:path w="2233" h="1315">
                <a:moveTo>
                  <a:pt x="8483" y="15726"/>
                </a:moveTo>
                <a:cubicBezTo>
                  <a:pt x="8483" y="15874"/>
                  <a:pt x="8484" y="16004"/>
                  <a:pt x="8458" y="16148"/>
                </a:cubicBezTo>
                <a:cubicBezTo>
                  <a:pt x="8473" y="16059"/>
                  <a:pt x="8494" y="15932"/>
                  <a:pt x="8607" y="15925"/>
                </a:cubicBezTo>
                <a:cubicBezTo>
                  <a:pt x="8736" y="15917"/>
                  <a:pt x="8876" y="16054"/>
                  <a:pt x="8806" y="16173"/>
                </a:cubicBezTo>
                <a:cubicBezTo>
                  <a:pt x="8798" y="16181"/>
                  <a:pt x="8789" y="16189"/>
                  <a:pt x="8781" y="16197"/>
                </a:cubicBezTo>
              </a:path>
              <a:path w="2233" h="1315">
                <a:moveTo>
                  <a:pt x="7938" y="16446"/>
                </a:moveTo>
                <a:cubicBezTo>
                  <a:pt x="8210" y="16407"/>
                  <a:pt x="8509" y="16307"/>
                  <a:pt x="8781" y="16371"/>
                </a:cubicBezTo>
                <a:cubicBezTo>
                  <a:pt x="8789" y="16379"/>
                  <a:pt x="8798" y="16388"/>
                  <a:pt x="8806" y="16396"/>
                </a:cubicBezTo>
              </a:path>
              <a:path w="2233" h="1315">
                <a:moveTo>
                  <a:pt x="8210" y="16619"/>
                </a:moveTo>
                <a:cubicBezTo>
                  <a:pt x="8335" y="16608"/>
                  <a:pt x="8410" y="16608"/>
                  <a:pt x="8533" y="16619"/>
                </a:cubicBezTo>
                <a:cubicBezTo>
                  <a:pt x="8443" y="16754"/>
                  <a:pt x="8311" y="16838"/>
                  <a:pt x="8186" y="16942"/>
                </a:cubicBezTo>
                <a:cubicBezTo>
                  <a:pt x="8178" y="16950"/>
                  <a:pt x="8169" y="16958"/>
                  <a:pt x="8161" y="16966"/>
                </a:cubicBezTo>
                <a:cubicBezTo>
                  <a:pt x="8306" y="16984"/>
                  <a:pt x="8433" y="16958"/>
                  <a:pt x="8582" y="1694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2251080" y="6153120"/>
            <a:ext cx="1123920" cy="473040"/>
          </a:xfrm>
          <a:custGeom>
            <a:avLst/>
            <a:gdLst/>
            <a:ahLst/>
            <a:rect l="l" t="t" r="r" b="b"/>
            <a:pathLst>
              <a:path w="3126" h="1316">
                <a:moveTo>
                  <a:pt x="6424" y="17438"/>
                </a:moveTo>
                <a:cubicBezTo>
                  <a:pt x="6467" y="17403"/>
                  <a:pt x="6493" y="17388"/>
                  <a:pt x="6548" y="17388"/>
                </a:cubicBezTo>
                <a:cubicBezTo>
                  <a:pt x="6585" y="17388"/>
                  <a:pt x="6582" y="17417"/>
                  <a:pt x="6598" y="17438"/>
                </a:cubicBezTo>
                <a:cubicBezTo>
                  <a:pt x="6644" y="17498"/>
                  <a:pt x="6601" y="17509"/>
                  <a:pt x="6548" y="17562"/>
                </a:cubicBezTo>
                <a:cubicBezTo>
                  <a:pt x="6532" y="17578"/>
                  <a:pt x="6515" y="17595"/>
                  <a:pt x="6499" y="17611"/>
                </a:cubicBezTo>
                <a:cubicBezTo>
                  <a:pt x="6397" y="17578"/>
                  <a:pt x="6618" y="17578"/>
                  <a:pt x="6672" y="17636"/>
                </a:cubicBezTo>
                <a:cubicBezTo>
                  <a:pt x="6773" y="17744"/>
                  <a:pt x="6589" y="17886"/>
                  <a:pt x="6499" y="17909"/>
                </a:cubicBezTo>
                <a:cubicBezTo>
                  <a:pt x="6432" y="17926"/>
                  <a:pt x="6285" y="17912"/>
                  <a:pt x="6251" y="17835"/>
                </a:cubicBezTo>
                <a:cubicBezTo>
                  <a:pt x="6251" y="17800"/>
                  <a:pt x="6260" y="17787"/>
                  <a:pt x="6300" y="17785"/>
                </a:cubicBezTo>
              </a:path>
              <a:path w="3126" h="1316">
                <a:moveTo>
                  <a:pt x="6846" y="17487"/>
                </a:moveTo>
                <a:cubicBezTo>
                  <a:pt x="6846" y="17434"/>
                  <a:pt x="6808" y="17556"/>
                  <a:pt x="6796" y="17587"/>
                </a:cubicBezTo>
                <a:cubicBezTo>
                  <a:pt x="6796" y="17595"/>
                  <a:pt x="6796" y="17603"/>
                  <a:pt x="6796" y="17611"/>
                </a:cubicBezTo>
                <a:cubicBezTo>
                  <a:pt x="6858" y="17630"/>
                  <a:pt x="6988" y="17666"/>
                  <a:pt x="7045" y="17611"/>
                </a:cubicBezTo>
                <a:cubicBezTo>
                  <a:pt x="7045" y="17603"/>
                  <a:pt x="7045" y="17595"/>
                  <a:pt x="7045" y="17587"/>
                </a:cubicBezTo>
              </a:path>
              <a:path w="3126" h="1316">
                <a:moveTo>
                  <a:pt x="6995" y="17363"/>
                </a:moveTo>
                <a:cubicBezTo>
                  <a:pt x="7013" y="17470"/>
                  <a:pt x="7035" y="17574"/>
                  <a:pt x="7020" y="17686"/>
                </a:cubicBezTo>
                <a:cubicBezTo>
                  <a:pt x="7010" y="17766"/>
                  <a:pt x="6995" y="17828"/>
                  <a:pt x="6995" y="17909"/>
                </a:cubicBezTo>
              </a:path>
              <a:path w="3126" h="1316">
                <a:moveTo>
                  <a:pt x="7144" y="17735"/>
                </a:moveTo>
                <a:cubicBezTo>
                  <a:pt x="7152" y="17752"/>
                  <a:pt x="7161" y="17768"/>
                  <a:pt x="7169" y="17785"/>
                </a:cubicBezTo>
              </a:path>
              <a:path w="3126" h="1316">
                <a:moveTo>
                  <a:pt x="7565" y="17363"/>
                </a:moveTo>
                <a:cubicBezTo>
                  <a:pt x="7528" y="17394"/>
                  <a:pt x="7435" y="17395"/>
                  <a:pt x="7417" y="17413"/>
                </a:cubicBezTo>
                <a:cubicBezTo>
                  <a:pt x="7397" y="17434"/>
                  <a:pt x="7392" y="17503"/>
                  <a:pt x="7392" y="17537"/>
                </a:cubicBezTo>
                <a:cubicBezTo>
                  <a:pt x="7468" y="17537"/>
                  <a:pt x="7573" y="17519"/>
                  <a:pt x="7640" y="17562"/>
                </a:cubicBezTo>
                <a:cubicBezTo>
                  <a:pt x="7722" y="17615"/>
                  <a:pt x="7685" y="17743"/>
                  <a:pt x="7615" y="17785"/>
                </a:cubicBezTo>
                <a:cubicBezTo>
                  <a:pt x="7580" y="17806"/>
                  <a:pt x="7400" y="17817"/>
                  <a:pt x="7441" y="17735"/>
                </a:cubicBezTo>
                <a:cubicBezTo>
                  <a:pt x="7449" y="17735"/>
                  <a:pt x="7458" y="17735"/>
                  <a:pt x="7466" y="17735"/>
                </a:cubicBezTo>
              </a:path>
              <a:path w="3126" h="1316">
                <a:moveTo>
                  <a:pt x="7987" y="17587"/>
                </a:moveTo>
                <a:cubicBezTo>
                  <a:pt x="8050" y="17587"/>
                  <a:pt x="8109" y="17573"/>
                  <a:pt x="8136" y="17611"/>
                </a:cubicBezTo>
              </a:path>
              <a:path w="3126" h="1316">
                <a:moveTo>
                  <a:pt x="7938" y="17711"/>
                </a:moveTo>
                <a:cubicBezTo>
                  <a:pt x="8012" y="17711"/>
                  <a:pt x="8087" y="17711"/>
                  <a:pt x="8161" y="17711"/>
                </a:cubicBezTo>
              </a:path>
              <a:path w="3126" h="1316">
                <a:moveTo>
                  <a:pt x="8682" y="17388"/>
                </a:moveTo>
                <a:cubicBezTo>
                  <a:pt x="8630" y="17388"/>
                  <a:pt x="8602" y="17412"/>
                  <a:pt x="8582" y="17462"/>
                </a:cubicBezTo>
                <a:cubicBezTo>
                  <a:pt x="8564" y="17505"/>
                  <a:pt x="8556" y="17545"/>
                  <a:pt x="8533" y="17587"/>
                </a:cubicBezTo>
                <a:cubicBezTo>
                  <a:pt x="8474" y="17697"/>
                  <a:pt x="8517" y="17710"/>
                  <a:pt x="8607" y="17735"/>
                </a:cubicBezTo>
                <a:cubicBezTo>
                  <a:pt x="8720" y="17767"/>
                  <a:pt x="8845" y="17788"/>
                  <a:pt x="8930" y="17686"/>
                </a:cubicBezTo>
                <a:cubicBezTo>
                  <a:pt x="8983" y="17623"/>
                  <a:pt x="8881" y="17576"/>
                  <a:pt x="8830" y="17587"/>
                </a:cubicBezTo>
                <a:cubicBezTo>
                  <a:pt x="8793" y="17595"/>
                  <a:pt x="8702" y="17726"/>
                  <a:pt x="8781" y="17735"/>
                </a:cubicBezTo>
                <a:cubicBezTo>
                  <a:pt x="8806" y="17727"/>
                  <a:pt x="8830" y="17719"/>
                  <a:pt x="8855" y="17711"/>
                </a:cubicBezTo>
              </a:path>
              <a:path w="3126" h="1316">
                <a:moveTo>
                  <a:pt x="9079" y="17363"/>
                </a:moveTo>
                <a:cubicBezTo>
                  <a:pt x="9079" y="17449"/>
                  <a:pt x="9099" y="17524"/>
                  <a:pt x="9103" y="17611"/>
                </a:cubicBezTo>
                <a:cubicBezTo>
                  <a:pt x="9105" y="17659"/>
                  <a:pt x="9109" y="17566"/>
                  <a:pt x="9128" y="17537"/>
                </a:cubicBezTo>
                <a:cubicBezTo>
                  <a:pt x="9168" y="17477"/>
                  <a:pt x="9245" y="17474"/>
                  <a:pt x="9302" y="17512"/>
                </a:cubicBezTo>
                <a:cubicBezTo>
                  <a:pt x="9378" y="17562"/>
                  <a:pt x="9376" y="17605"/>
                  <a:pt x="9376" y="17686"/>
                </a:cubicBezTo>
              </a:path>
              <a:path w="3126" h="1316">
                <a:moveTo>
                  <a:pt x="8632" y="17835"/>
                </a:moveTo>
                <a:cubicBezTo>
                  <a:pt x="8632" y="17859"/>
                  <a:pt x="8632" y="17867"/>
                  <a:pt x="8607" y="17859"/>
                </a:cubicBezTo>
                <a:cubicBezTo>
                  <a:pt x="8694" y="17859"/>
                  <a:pt x="8769" y="17838"/>
                  <a:pt x="8855" y="17835"/>
                </a:cubicBezTo>
                <a:cubicBezTo>
                  <a:pt x="8974" y="17831"/>
                  <a:pt x="9086" y="17818"/>
                  <a:pt x="9203" y="17810"/>
                </a:cubicBezTo>
                <a:cubicBezTo>
                  <a:pt x="9247" y="17807"/>
                  <a:pt x="9265" y="17800"/>
                  <a:pt x="9277" y="17835"/>
                </a:cubicBezTo>
              </a:path>
              <a:path w="3126" h="1316">
                <a:moveTo>
                  <a:pt x="8905" y="18107"/>
                </a:moveTo>
                <a:cubicBezTo>
                  <a:pt x="8915" y="18066"/>
                  <a:pt x="8927" y="18023"/>
                  <a:pt x="8954" y="18008"/>
                </a:cubicBezTo>
                <a:cubicBezTo>
                  <a:pt x="9003" y="17981"/>
                  <a:pt x="9027" y="17983"/>
                  <a:pt x="9079" y="17983"/>
                </a:cubicBezTo>
                <a:cubicBezTo>
                  <a:pt x="9064" y="18102"/>
                  <a:pt x="9001" y="18162"/>
                  <a:pt x="8930" y="18256"/>
                </a:cubicBezTo>
                <a:cubicBezTo>
                  <a:pt x="8888" y="18311"/>
                  <a:pt x="8854" y="18356"/>
                  <a:pt x="8806" y="18405"/>
                </a:cubicBezTo>
                <a:cubicBezTo>
                  <a:pt x="8884" y="18385"/>
                  <a:pt x="8918" y="18342"/>
                  <a:pt x="8979" y="18281"/>
                </a:cubicBezTo>
                <a:cubicBezTo>
                  <a:pt x="8987" y="18273"/>
                  <a:pt x="8996" y="18264"/>
                  <a:pt x="9004" y="18256"/>
                </a:cubicBezTo>
                <a:cubicBezTo>
                  <a:pt x="9061" y="18285"/>
                  <a:pt x="9069" y="18325"/>
                  <a:pt x="9153" y="18331"/>
                </a:cubicBezTo>
                <a:cubicBezTo>
                  <a:pt x="9195" y="18334"/>
                  <a:pt x="9226" y="18283"/>
                  <a:pt x="9252" y="18256"/>
                </a:cubicBezTo>
              </a:path>
              <a:path w="3126" h="1316">
                <a:moveTo>
                  <a:pt x="8483" y="17314"/>
                </a:moveTo>
                <a:cubicBezTo>
                  <a:pt x="8504" y="17370"/>
                  <a:pt x="8524" y="17460"/>
                  <a:pt x="8558" y="17512"/>
                </a:cubicBezTo>
                <a:cubicBezTo>
                  <a:pt x="8597" y="17570"/>
                  <a:pt x="8646" y="17626"/>
                  <a:pt x="8682" y="17686"/>
                </a:cubicBezTo>
                <a:cubicBezTo>
                  <a:pt x="8713" y="17738"/>
                  <a:pt x="8750" y="17785"/>
                  <a:pt x="8781" y="17835"/>
                </a:cubicBezTo>
                <a:cubicBezTo>
                  <a:pt x="8816" y="17893"/>
                  <a:pt x="8811" y="17954"/>
                  <a:pt x="8855" y="18008"/>
                </a:cubicBezTo>
                <a:cubicBezTo>
                  <a:pt x="8892" y="18054"/>
                  <a:pt x="8947" y="18092"/>
                  <a:pt x="8979" y="18132"/>
                </a:cubicBezTo>
                <a:cubicBezTo>
                  <a:pt x="9013" y="18175"/>
                  <a:pt x="9050" y="18245"/>
                  <a:pt x="9079" y="18281"/>
                </a:cubicBezTo>
                <a:cubicBezTo>
                  <a:pt x="9101" y="18304"/>
                  <a:pt x="9109" y="18309"/>
                  <a:pt x="9103" y="18331"/>
                </a:cubicBezTo>
                <a:cubicBezTo>
                  <a:pt x="9128" y="18355"/>
                  <a:pt x="9136" y="18343"/>
                  <a:pt x="9153" y="18380"/>
                </a:cubicBezTo>
                <a:cubicBezTo>
                  <a:pt x="9153" y="18388"/>
                  <a:pt x="9153" y="18397"/>
                  <a:pt x="9153" y="18405"/>
                </a:cubicBezTo>
              </a:path>
              <a:path w="3126" h="1316">
                <a:moveTo>
                  <a:pt x="8756" y="17115"/>
                </a:moveTo>
                <a:cubicBezTo>
                  <a:pt x="8797" y="17105"/>
                  <a:pt x="8807" y="17097"/>
                  <a:pt x="8855" y="17090"/>
                </a:cubicBezTo>
                <a:cubicBezTo>
                  <a:pt x="8841" y="17176"/>
                  <a:pt x="8800" y="17218"/>
                  <a:pt x="8756" y="17289"/>
                </a:cubicBezTo>
                <a:cubicBezTo>
                  <a:pt x="8820" y="17289"/>
                  <a:pt x="8852" y="17304"/>
                  <a:pt x="8830" y="17388"/>
                </a:cubicBezTo>
                <a:cubicBezTo>
                  <a:pt x="8821" y="17425"/>
                  <a:pt x="8736" y="17455"/>
                  <a:pt x="8706" y="1746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a:off x="4089240" y="5616720"/>
            <a:ext cx="1305000" cy="554040"/>
          </a:xfrm>
          <a:custGeom>
            <a:avLst/>
            <a:gdLst/>
            <a:ahLst/>
            <a:rect l="l" t="t" r="r" b="b"/>
            <a:pathLst>
              <a:path w="3622" h="1539">
                <a:moveTo>
                  <a:pt x="11485" y="16024"/>
                </a:moveTo>
                <a:cubicBezTo>
                  <a:pt x="11466" y="15935"/>
                  <a:pt x="11630" y="15875"/>
                  <a:pt x="11733" y="15875"/>
                </a:cubicBezTo>
                <a:cubicBezTo>
                  <a:pt x="11823" y="15875"/>
                  <a:pt x="11684" y="16024"/>
                  <a:pt x="11633" y="16098"/>
                </a:cubicBezTo>
                <a:cubicBezTo>
                  <a:pt x="11581" y="16134"/>
                  <a:pt x="11653" y="16068"/>
                  <a:pt x="11708" y="16148"/>
                </a:cubicBezTo>
                <a:cubicBezTo>
                  <a:pt x="11795" y="16274"/>
                  <a:pt x="11511" y="16352"/>
                  <a:pt x="11435" y="16371"/>
                </a:cubicBezTo>
                <a:cubicBezTo>
                  <a:pt x="11334" y="16396"/>
                  <a:pt x="11479" y="16211"/>
                  <a:pt x="11534" y="16123"/>
                </a:cubicBezTo>
              </a:path>
              <a:path w="3622" h="1539">
                <a:moveTo>
                  <a:pt x="11906" y="15900"/>
                </a:moveTo>
                <a:cubicBezTo>
                  <a:pt x="11982" y="15945"/>
                  <a:pt x="11981" y="15983"/>
                  <a:pt x="11981" y="16073"/>
                </a:cubicBezTo>
                <a:cubicBezTo>
                  <a:pt x="12056" y="16038"/>
                  <a:pt x="12129" y="16007"/>
                  <a:pt x="12204" y="15974"/>
                </a:cubicBezTo>
              </a:path>
              <a:path w="3622" h="1539">
                <a:moveTo>
                  <a:pt x="12204" y="15776"/>
                </a:moveTo>
                <a:cubicBezTo>
                  <a:pt x="12186" y="15939"/>
                  <a:pt x="12191" y="16061"/>
                  <a:pt x="12204" y="16222"/>
                </a:cubicBezTo>
                <a:cubicBezTo>
                  <a:pt x="12210" y="16293"/>
                  <a:pt x="12178" y="16329"/>
                  <a:pt x="12229" y="16297"/>
                </a:cubicBezTo>
              </a:path>
              <a:path w="3622" h="1539">
                <a:moveTo>
                  <a:pt x="12526" y="16098"/>
                </a:moveTo>
                <a:cubicBezTo>
                  <a:pt x="12526" y="16115"/>
                  <a:pt x="12526" y="16131"/>
                  <a:pt x="12526" y="16148"/>
                </a:cubicBezTo>
              </a:path>
              <a:path w="3622" h="1539">
                <a:moveTo>
                  <a:pt x="12948" y="15751"/>
                </a:moveTo>
                <a:cubicBezTo>
                  <a:pt x="12903" y="15781"/>
                  <a:pt x="12746" y="15820"/>
                  <a:pt x="12725" y="15850"/>
                </a:cubicBezTo>
                <a:cubicBezTo>
                  <a:pt x="12699" y="15928"/>
                  <a:pt x="12689" y="15956"/>
                  <a:pt x="12650" y="15999"/>
                </a:cubicBezTo>
                <a:cubicBezTo>
                  <a:pt x="12795" y="15978"/>
                  <a:pt x="12860" y="15967"/>
                  <a:pt x="12998" y="16024"/>
                </a:cubicBezTo>
                <a:cubicBezTo>
                  <a:pt x="13014" y="16032"/>
                  <a:pt x="13031" y="16041"/>
                  <a:pt x="13047" y="16049"/>
                </a:cubicBezTo>
                <a:cubicBezTo>
                  <a:pt x="13011" y="16093"/>
                  <a:pt x="12930" y="16235"/>
                  <a:pt x="12849" y="16173"/>
                </a:cubicBezTo>
                <a:cubicBezTo>
                  <a:pt x="12821" y="16088"/>
                  <a:pt x="12817" y="16053"/>
                  <a:pt x="12874" y="15999"/>
                </a:cubicBezTo>
              </a:path>
              <a:path w="3622" h="1539">
                <a:moveTo>
                  <a:pt x="13444" y="15925"/>
                </a:moveTo>
                <a:cubicBezTo>
                  <a:pt x="13500" y="15893"/>
                  <a:pt x="13551" y="15875"/>
                  <a:pt x="13618" y="15875"/>
                </a:cubicBezTo>
              </a:path>
              <a:path w="3622" h="1539">
                <a:moveTo>
                  <a:pt x="13395" y="16049"/>
                </a:moveTo>
                <a:cubicBezTo>
                  <a:pt x="13480" y="16041"/>
                  <a:pt x="13546" y="16031"/>
                  <a:pt x="13618" y="16049"/>
                </a:cubicBezTo>
              </a:path>
              <a:path w="3622" h="1539">
                <a:moveTo>
                  <a:pt x="13915" y="15652"/>
                </a:moveTo>
                <a:cubicBezTo>
                  <a:pt x="14011" y="15652"/>
                  <a:pt x="14095" y="15657"/>
                  <a:pt x="14188" y="15677"/>
                </a:cubicBezTo>
                <a:cubicBezTo>
                  <a:pt x="14203" y="15782"/>
                  <a:pt x="14135" y="15836"/>
                  <a:pt x="14039" y="15900"/>
                </a:cubicBezTo>
                <a:cubicBezTo>
                  <a:pt x="14139" y="15900"/>
                  <a:pt x="14257" y="15858"/>
                  <a:pt x="14312" y="15974"/>
                </a:cubicBezTo>
                <a:cubicBezTo>
                  <a:pt x="14367" y="16089"/>
                  <a:pt x="14012" y="16165"/>
                  <a:pt x="13965" y="16173"/>
                </a:cubicBezTo>
                <a:cubicBezTo>
                  <a:pt x="13897" y="16173"/>
                  <a:pt x="13877" y="16156"/>
                  <a:pt x="13891" y="16073"/>
                </a:cubicBezTo>
              </a:path>
              <a:path w="3622" h="1539">
                <a:moveTo>
                  <a:pt x="14536" y="15602"/>
                </a:moveTo>
                <a:cubicBezTo>
                  <a:pt x="14536" y="15749"/>
                  <a:pt x="14569" y="15879"/>
                  <a:pt x="14585" y="16024"/>
                </a:cubicBezTo>
                <a:cubicBezTo>
                  <a:pt x="14585" y="16082"/>
                  <a:pt x="14585" y="16090"/>
                  <a:pt x="14585" y="16123"/>
                </a:cubicBezTo>
                <a:cubicBezTo>
                  <a:pt x="14574" y="16079"/>
                  <a:pt x="14541" y="16049"/>
                  <a:pt x="14536" y="15999"/>
                </a:cubicBezTo>
                <a:cubicBezTo>
                  <a:pt x="14527" y="15907"/>
                  <a:pt x="14622" y="15902"/>
                  <a:pt x="14684" y="15875"/>
                </a:cubicBezTo>
                <a:cubicBezTo>
                  <a:pt x="14797" y="15826"/>
                  <a:pt x="14872" y="15937"/>
                  <a:pt x="14932" y="16024"/>
                </a:cubicBezTo>
                <a:cubicBezTo>
                  <a:pt x="14940" y="16036"/>
                  <a:pt x="14954" y="16145"/>
                  <a:pt x="14957" y="16148"/>
                </a:cubicBezTo>
                <a:cubicBezTo>
                  <a:pt x="14965" y="16148"/>
                  <a:pt x="14974" y="16148"/>
                  <a:pt x="14982" y="16148"/>
                </a:cubicBezTo>
              </a:path>
              <a:path w="3622" h="1539">
                <a:moveTo>
                  <a:pt x="12725" y="16297"/>
                </a:moveTo>
                <a:cubicBezTo>
                  <a:pt x="12772" y="16297"/>
                  <a:pt x="12804" y="16277"/>
                  <a:pt x="12849" y="16272"/>
                </a:cubicBezTo>
                <a:cubicBezTo>
                  <a:pt x="12894" y="16267"/>
                  <a:pt x="12885" y="16276"/>
                  <a:pt x="12923" y="16247"/>
                </a:cubicBezTo>
              </a:path>
              <a:path w="3622" h="1539">
                <a:moveTo>
                  <a:pt x="12874" y="16346"/>
                </a:moveTo>
                <a:cubicBezTo>
                  <a:pt x="12910" y="16318"/>
                  <a:pt x="12937" y="16307"/>
                  <a:pt x="12973" y="16272"/>
                </a:cubicBezTo>
              </a:path>
              <a:path w="3622" h="1539">
                <a:moveTo>
                  <a:pt x="11385" y="16619"/>
                </a:moveTo>
                <a:cubicBezTo>
                  <a:pt x="11442" y="16619"/>
                  <a:pt x="11452" y="16626"/>
                  <a:pt x="11509" y="16619"/>
                </a:cubicBezTo>
                <a:cubicBezTo>
                  <a:pt x="11741" y="16592"/>
                  <a:pt x="11972" y="16582"/>
                  <a:pt x="12204" y="16545"/>
                </a:cubicBezTo>
                <a:cubicBezTo>
                  <a:pt x="12345" y="16522"/>
                  <a:pt x="12487" y="16488"/>
                  <a:pt x="12626" y="16470"/>
                </a:cubicBezTo>
                <a:cubicBezTo>
                  <a:pt x="12706" y="16460"/>
                  <a:pt x="12776" y="16425"/>
                  <a:pt x="12849" y="16421"/>
                </a:cubicBezTo>
                <a:cubicBezTo>
                  <a:pt x="12902" y="16418"/>
                  <a:pt x="12901" y="16432"/>
                  <a:pt x="12923" y="16446"/>
                </a:cubicBezTo>
              </a:path>
              <a:path w="3622" h="1539">
                <a:moveTo>
                  <a:pt x="12154" y="16793"/>
                </a:moveTo>
                <a:cubicBezTo>
                  <a:pt x="12251" y="16755"/>
                  <a:pt x="12322" y="16718"/>
                  <a:pt x="12427" y="16718"/>
                </a:cubicBezTo>
                <a:cubicBezTo>
                  <a:pt x="12417" y="16830"/>
                  <a:pt x="12400" y="16856"/>
                  <a:pt x="12303" y="16917"/>
                </a:cubicBezTo>
                <a:cubicBezTo>
                  <a:pt x="12353" y="16932"/>
                  <a:pt x="12509" y="16919"/>
                  <a:pt x="12452" y="17016"/>
                </a:cubicBezTo>
                <a:cubicBezTo>
                  <a:pt x="12410" y="17087"/>
                  <a:pt x="12281" y="17151"/>
                  <a:pt x="12204" y="17140"/>
                </a:cubicBezTo>
                <a:cubicBezTo>
                  <a:pt x="12158" y="17134"/>
                  <a:pt x="12138" y="17117"/>
                  <a:pt x="12129" y="17090"/>
                </a:cubicBezTo>
              </a:path>
              <a:path w="3622" h="1539">
                <a:moveTo>
                  <a:pt x="13866" y="16421"/>
                </a:moveTo>
                <a:cubicBezTo>
                  <a:pt x="14041" y="16421"/>
                  <a:pt x="14214" y="16390"/>
                  <a:pt x="14387" y="16371"/>
                </a:cubicBezTo>
                <a:cubicBezTo>
                  <a:pt x="14563" y="16352"/>
                  <a:pt x="14735" y="16325"/>
                  <a:pt x="14908" y="16297"/>
                </a:cubicBezTo>
              </a:path>
              <a:path w="3622" h="1539">
                <a:moveTo>
                  <a:pt x="14263" y="16669"/>
                </a:moveTo>
                <a:cubicBezTo>
                  <a:pt x="14357" y="16653"/>
                  <a:pt x="14439" y="16594"/>
                  <a:pt x="14536" y="16594"/>
                </a:cubicBezTo>
                <a:cubicBezTo>
                  <a:pt x="14506" y="16655"/>
                  <a:pt x="14406" y="16718"/>
                  <a:pt x="14387" y="16768"/>
                </a:cubicBezTo>
                <a:cubicBezTo>
                  <a:pt x="14395" y="16768"/>
                  <a:pt x="14404" y="16768"/>
                  <a:pt x="14412" y="16768"/>
                </a:cubicBezTo>
                <a:cubicBezTo>
                  <a:pt x="14513" y="16753"/>
                  <a:pt x="14625" y="16734"/>
                  <a:pt x="14536" y="16892"/>
                </a:cubicBezTo>
                <a:cubicBezTo>
                  <a:pt x="14491" y="16972"/>
                  <a:pt x="14370" y="17002"/>
                  <a:pt x="14288" y="17016"/>
                </a:cubicBezTo>
              </a:path>
              <a:path w="3622" h="1539">
                <a:moveTo>
                  <a:pt x="14015" y="15751"/>
                </a:moveTo>
                <a:cubicBezTo>
                  <a:pt x="13987" y="15751"/>
                  <a:pt x="13976" y="15749"/>
                  <a:pt x="13965" y="15726"/>
                </a:cubicBezTo>
                <a:cubicBezTo>
                  <a:pt x="14055" y="15838"/>
                  <a:pt x="14148" y="15998"/>
                  <a:pt x="14213" y="16148"/>
                </a:cubicBezTo>
                <a:cubicBezTo>
                  <a:pt x="14296" y="16341"/>
                  <a:pt x="14351" y="16555"/>
                  <a:pt x="14436" y="16743"/>
                </a:cubicBezTo>
                <a:cubicBezTo>
                  <a:pt x="14464" y="16804"/>
                  <a:pt x="14484" y="16885"/>
                  <a:pt x="14511" y="16942"/>
                </a:cubicBezTo>
                <a:cubicBezTo>
                  <a:pt x="14511" y="16966"/>
                  <a:pt x="14511" y="16974"/>
                  <a:pt x="14536" y="1696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
          <p:cNvSpPr/>
          <p:nvPr/>
        </p:nvSpPr>
        <p:spPr>
          <a:xfrm>
            <a:off x="6081840" y="5732640"/>
            <a:ext cx="946080" cy="384120"/>
          </a:xfrm>
          <a:custGeom>
            <a:avLst/>
            <a:gdLst/>
            <a:ahLst/>
            <a:rect l="l" t="t" r="r" b="b"/>
            <a:pathLst>
              <a:path w="2630" h="1067">
                <a:moveTo>
                  <a:pt x="18976" y="15925"/>
                </a:moveTo>
                <a:cubicBezTo>
                  <a:pt x="18988" y="16150"/>
                  <a:pt x="19026" y="16370"/>
                  <a:pt x="19050" y="16594"/>
                </a:cubicBezTo>
                <a:cubicBezTo>
                  <a:pt x="19050" y="16611"/>
                  <a:pt x="19050" y="16627"/>
                  <a:pt x="19050" y="16644"/>
                </a:cubicBezTo>
                <a:cubicBezTo>
                  <a:pt x="19025" y="16520"/>
                  <a:pt x="18969" y="16451"/>
                  <a:pt x="19050" y="16321"/>
                </a:cubicBezTo>
                <a:cubicBezTo>
                  <a:pt x="19157" y="16150"/>
                  <a:pt x="19305" y="16092"/>
                  <a:pt x="19422" y="16272"/>
                </a:cubicBezTo>
                <a:cubicBezTo>
                  <a:pt x="19431" y="16285"/>
                  <a:pt x="19585" y="16587"/>
                  <a:pt x="19521" y="16619"/>
                </a:cubicBezTo>
                <a:cubicBezTo>
                  <a:pt x="19505" y="16619"/>
                  <a:pt x="19488" y="16619"/>
                  <a:pt x="19472" y="16619"/>
                </a:cubicBezTo>
              </a:path>
              <a:path w="2630" h="1067">
                <a:moveTo>
                  <a:pt x="18455" y="16247"/>
                </a:moveTo>
                <a:cubicBezTo>
                  <a:pt x="18489" y="16244"/>
                  <a:pt x="18651" y="16195"/>
                  <a:pt x="18678" y="16222"/>
                </a:cubicBezTo>
                <a:cubicBezTo>
                  <a:pt x="18686" y="16239"/>
                  <a:pt x="18695" y="16255"/>
                  <a:pt x="18703" y="16272"/>
                </a:cubicBezTo>
              </a:path>
              <a:path w="2630" h="1067">
                <a:moveTo>
                  <a:pt x="18455" y="16520"/>
                </a:moveTo>
                <a:cubicBezTo>
                  <a:pt x="18523" y="16520"/>
                  <a:pt x="18699" y="16483"/>
                  <a:pt x="18752" y="16495"/>
                </a:cubicBezTo>
                <a:cubicBezTo>
                  <a:pt x="18752" y="16503"/>
                  <a:pt x="18752" y="16512"/>
                  <a:pt x="18752" y="16520"/>
                </a:cubicBezTo>
              </a:path>
              <a:path w="2630" h="1067">
                <a:moveTo>
                  <a:pt x="16892" y="16098"/>
                </a:moveTo>
                <a:cubicBezTo>
                  <a:pt x="16892" y="16273"/>
                  <a:pt x="16929" y="16445"/>
                  <a:pt x="16942" y="16619"/>
                </a:cubicBezTo>
                <a:cubicBezTo>
                  <a:pt x="16942" y="16693"/>
                  <a:pt x="16942" y="16751"/>
                  <a:pt x="16942" y="16694"/>
                </a:cubicBezTo>
              </a:path>
              <a:path w="2630" h="1067">
                <a:moveTo>
                  <a:pt x="17214" y="16024"/>
                </a:moveTo>
                <a:cubicBezTo>
                  <a:pt x="17251" y="16236"/>
                  <a:pt x="17255" y="16408"/>
                  <a:pt x="17239" y="16619"/>
                </a:cubicBezTo>
                <a:cubicBezTo>
                  <a:pt x="17239" y="16693"/>
                  <a:pt x="17239" y="16702"/>
                  <a:pt x="17239" y="16743"/>
                </a:cubicBezTo>
              </a:path>
              <a:path w="2630" h="1067">
                <a:moveTo>
                  <a:pt x="17388" y="16594"/>
                </a:moveTo>
                <a:cubicBezTo>
                  <a:pt x="17409" y="16644"/>
                  <a:pt x="17413" y="16646"/>
                  <a:pt x="17413" y="16694"/>
                </a:cubicBezTo>
              </a:path>
              <a:path w="2630" h="1067">
                <a:moveTo>
                  <a:pt x="17711" y="16049"/>
                </a:moveTo>
                <a:cubicBezTo>
                  <a:pt x="17663" y="16076"/>
                  <a:pt x="17523" y="16121"/>
                  <a:pt x="17512" y="16148"/>
                </a:cubicBezTo>
                <a:cubicBezTo>
                  <a:pt x="17487" y="16212"/>
                  <a:pt x="17487" y="16254"/>
                  <a:pt x="17487" y="16321"/>
                </a:cubicBezTo>
                <a:cubicBezTo>
                  <a:pt x="17566" y="16321"/>
                  <a:pt x="17589" y="16263"/>
                  <a:pt x="17661" y="16247"/>
                </a:cubicBezTo>
                <a:cubicBezTo>
                  <a:pt x="17792" y="16217"/>
                  <a:pt x="17911" y="16301"/>
                  <a:pt x="17859" y="16446"/>
                </a:cubicBezTo>
                <a:cubicBezTo>
                  <a:pt x="17820" y="16556"/>
                  <a:pt x="17679" y="16563"/>
                  <a:pt x="17587" y="16570"/>
                </a:cubicBezTo>
              </a:path>
              <a:path w="2630" h="1067">
                <a:moveTo>
                  <a:pt x="17983" y="16694"/>
                </a:moveTo>
                <a:cubicBezTo>
                  <a:pt x="18044" y="16714"/>
                  <a:pt x="17975" y="16861"/>
                  <a:pt x="17959" y="16917"/>
                </a:cubicBezTo>
                <a:cubicBezTo>
                  <a:pt x="17951" y="16942"/>
                  <a:pt x="17942" y="16966"/>
                  <a:pt x="17934" y="16991"/>
                </a:cubicBezTo>
                <a:cubicBezTo>
                  <a:pt x="17937" y="16942"/>
                  <a:pt x="17944" y="16692"/>
                  <a:pt x="18058" y="16718"/>
                </a:cubicBezTo>
                <a:cubicBezTo>
                  <a:pt x="18127" y="16733"/>
                  <a:pt x="18146" y="16886"/>
                  <a:pt x="18157" y="16942"/>
                </a:cubicBezTo>
                <a:cubicBezTo>
                  <a:pt x="18157" y="16858"/>
                  <a:pt x="18148" y="16787"/>
                  <a:pt x="18182" y="16718"/>
                </a:cubicBezTo>
                <a:cubicBezTo>
                  <a:pt x="18309" y="16718"/>
                  <a:pt x="18310" y="16763"/>
                  <a:pt x="18331" y="16892"/>
                </a:cubicBezTo>
                <a:cubicBezTo>
                  <a:pt x="18336" y="16921"/>
                  <a:pt x="18331" y="16960"/>
                  <a:pt x="18331" y="16991"/>
                </a:cubicBezTo>
              </a:path>
              <a:path w="2630" h="1067">
                <a:moveTo>
                  <a:pt x="18455" y="16768"/>
                </a:moveTo>
                <a:cubicBezTo>
                  <a:pt x="18461" y="16782"/>
                  <a:pt x="18489" y="16965"/>
                  <a:pt x="18504" y="16966"/>
                </a:cubicBezTo>
                <a:cubicBezTo>
                  <a:pt x="18504" y="16958"/>
                  <a:pt x="18504" y="16950"/>
                  <a:pt x="18504" y="16942"/>
                </a:cubicBezTo>
              </a:path>
              <a:path w="2630" h="1067">
                <a:moveTo>
                  <a:pt x="18331" y="16545"/>
                </a:moveTo>
                <a:lnTo>
                  <a:pt x="18331" y="16545"/>
                </a:lnTo>
                <a:lnTo>
                  <a:pt x="18331" y="16545"/>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7296120" y="5537160"/>
            <a:ext cx="1035000" cy="347760"/>
          </a:xfrm>
          <a:custGeom>
            <a:avLst/>
            <a:gdLst/>
            <a:ahLst/>
            <a:rect l="l" t="t" r="r" b="b"/>
            <a:pathLst>
              <a:path w="2879" h="968">
                <a:moveTo>
                  <a:pt x="21158" y="15726"/>
                </a:moveTo>
                <a:cubicBezTo>
                  <a:pt x="21195" y="15698"/>
                  <a:pt x="21317" y="15642"/>
                  <a:pt x="21357" y="15677"/>
                </a:cubicBezTo>
                <a:cubicBezTo>
                  <a:pt x="21431" y="15743"/>
                  <a:pt x="21228" y="15881"/>
                  <a:pt x="21208" y="15900"/>
                </a:cubicBezTo>
                <a:cubicBezTo>
                  <a:pt x="21200" y="15908"/>
                  <a:pt x="21191" y="15917"/>
                  <a:pt x="21183" y="15925"/>
                </a:cubicBezTo>
                <a:cubicBezTo>
                  <a:pt x="21236" y="15916"/>
                  <a:pt x="21426" y="15878"/>
                  <a:pt x="21406" y="15999"/>
                </a:cubicBezTo>
                <a:cubicBezTo>
                  <a:pt x="21389" y="16103"/>
                  <a:pt x="21238" y="16057"/>
                  <a:pt x="21183" y="16049"/>
                </a:cubicBezTo>
                <a:cubicBezTo>
                  <a:pt x="21129" y="15959"/>
                  <a:pt x="21162" y="15988"/>
                  <a:pt x="21258" y="15925"/>
                </a:cubicBezTo>
              </a:path>
              <a:path w="2879" h="968">
                <a:moveTo>
                  <a:pt x="21679" y="15677"/>
                </a:moveTo>
                <a:cubicBezTo>
                  <a:pt x="21679" y="15779"/>
                  <a:pt x="21650" y="15858"/>
                  <a:pt x="21779" y="15875"/>
                </a:cubicBezTo>
                <a:cubicBezTo>
                  <a:pt x="21871" y="15875"/>
                  <a:pt x="21897" y="15877"/>
                  <a:pt x="21952" y="15850"/>
                </a:cubicBezTo>
              </a:path>
              <a:path w="2879" h="968">
                <a:moveTo>
                  <a:pt x="21927" y="15602"/>
                </a:moveTo>
                <a:cubicBezTo>
                  <a:pt x="21927" y="15751"/>
                  <a:pt x="21927" y="15900"/>
                  <a:pt x="21927" y="16049"/>
                </a:cubicBezTo>
              </a:path>
              <a:path w="2879" h="968">
                <a:moveTo>
                  <a:pt x="22175" y="15974"/>
                </a:moveTo>
                <a:cubicBezTo>
                  <a:pt x="22175" y="15999"/>
                  <a:pt x="22175" y="16007"/>
                  <a:pt x="22200" y="15999"/>
                </a:cubicBezTo>
              </a:path>
              <a:path w="2879" h="968">
                <a:moveTo>
                  <a:pt x="22572" y="15528"/>
                </a:moveTo>
                <a:cubicBezTo>
                  <a:pt x="22510" y="15552"/>
                  <a:pt x="22490" y="15600"/>
                  <a:pt x="22448" y="15652"/>
                </a:cubicBezTo>
                <a:cubicBezTo>
                  <a:pt x="22546" y="15660"/>
                  <a:pt x="22749" y="15666"/>
                  <a:pt x="22771" y="15801"/>
                </a:cubicBezTo>
                <a:cubicBezTo>
                  <a:pt x="22803" y="15999"/>
                  <a:pt x="22603" y="15905"/>
                  <a:pt x="22523" y="15875"/>
                </a:cubicBezTo>
              </a:path>
              <a:path w="2879" h="968">
                <a:moveTo>
                  <a:pt x="22622" y="15478"/>
                </a:moveTo>
                <a:cubicBezTo>
                  <a:pt x="22707" y="15457"/>
                  <a:pt x="22943" y="15355"/>
                  <a:pt x="22870" y="15404"/>
                </a:cubicBezTo>
                <a:cubicBezTo>
                  <a:pt x="22853" y="15412"/>
                  <a:pt x="22837" y="15421"/>
                  <a:pt x="22820" y="15429"/>
                </a:cubicBezTo>
              </a:path>
              <a:path w="2879" h="968">
                <a:moveTo>
                  <a:pt x="21109" y="16272"/>
                </a:moveTo>
                <a:cubicBezTo>
                  <a:pt x="21058" y="16246"/>
                  <a:pt x="21077" y="16225"/>
                  <a:pt x="21034" y="16073"/>
                </a:cubicBezTo>
                <a:cubicBezTo>
                  <a:pt x="20989" y="15910"/>
                  <a:pt x="20946" y="15788"/>
                  <a:pt x="20960" y="15627"/>
                </a:cubicBezTo>
                <a:cubicBezTo>
                  <a:pt x="20960" y="15610"/>
                  <a:pt x="20960" y="15594"/>
                  <a:pt x="20960" y="15577"/>
                </a:cubicBezTo>
                <a:cubicBezTo>
                  <a:pt x="21135" y="15577"/>
                  <a:pt x="21281" y="15557"/>
                  <a:pt x="21456" y="15528"/>
                </a:cubicBezTo>
                <a:cubicBezTo>
                  <a:pt x="21884" y="15458"/>
                  <a:pt x="22316" y="15455"/>
                  <a:pt x="22746" y="15404"/>
                </a:cubicBezTo>
                <a:cubicBezTo>
                  <a:pt x="22882" y="15388"/>
                  <a:pt x="23006" y="15379"/>
                  <a:pt x="23143" y="15379"/>
                </a:cubicBezTo>
              </a:path>
              <a:path w="2879" h="968">
                <a:moveTo>
                  <a:pt x="20265" y="15999"/>
                </a:moveTo>
                <a:cubicBezTo>
                  <a:pt x="20356" y="15999"/>
                  <a:pt x="20410" y="15947"/>
                  <a:pt x="20513" y="15949"/>
                </a:cubicBezTo>
                <a:cubicBezTo>
                  <a:pt x="20752" y="15954"/>
                  <a:pt x="20595" y="16066"/>
                  <a:pt x="20513" y="16148"/>
                </a:cubicBezTo>
                <a:cubicBezTo>
                  <a:pt x="20514" y="16113"/>
                  <a:pt x="20708" y="16041"/>
                  <a:pt x="20786" y="16123"/>
                </a:cubicBezTo>
                <a:cubicBezTo>
                  <a:pt x="20786" y="16148"/>
                  <a:pt x="20786" y="16172"/>
                  <a:pt x="20786" y="16197"/>
                </a:cubicBezTo>
                <a:cubicBezTo>
                  <a:pt x="20687" y="16308"/>
                  <a:pt x="20575" y="16386"/>
                  <a:pt x="20414" y="16321"/>
                </a:cubicBezTo>
                <a:cubicBezTo>
                  <a:pt x="20414" y="16313"/>
                  <a:pt x="20414" y="16305"/>
                  <a:pt x="20414" y="1629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47"/>
                                        </p:tgtEl>
                                        <p:attrNameLst>
                                          <p:attrName>style.visibility</p:attrName>
                                        </p:attrNameLst>
                                      </p:cBhvr>
                                      <p:to>
                                        <p:strVal val="visible"/>
                                      </p:to>
                                    </p:set>
                                    <p:animEffect filter="dissolve" transition="in">
                                      <p:cBhvr additive="repl">
                                        <p:cTn id="374" dur="500"/>
                                        <p:tgtEl>
                                          <p:spTgt spid="247"/>
                                        </p:tgtEl>
                                      </p:cBhvr>
                                    </p:animEffect>
                                  </p:childTnLst>
                                </p:cTn>
                              </p:par>
                              <p:par>
                                <p:cTn id="375" nodeType="withEffect" fill="hold" presetClass="entr" presetID="9">
                                  <p:stCondLst>
                                    <p:cond delay="0"/>
                                  </p:stCondLst>
                                  <p:childTnLst>
                                    <p:set>
                                      <p:cBhvr>
                                        <p:cTn id="376" dur="1" fill="hold">
                                          <p:stCondLst>
                                            <p:cond delay="0"/>
                                          </p:stCondLst>
                                        </p:cTn>
                                        <p:tgtEl>
                                          <p:spTgt spid="244"/>
                                        </p:tgtEl>
                                        <p:attrNameLst>
                                          <p:attrName>style.visibility</p:attrName>
                                        </p:attrNameLst>
                                      </p:cBhvr>
                                      <p:to>
                                        <p:strVal val="visible"/>
                                      </p:to>
                                    </p:set>
                                    <p:animEffect filter="dissolve" transition="in">
                                      <p:cBhvr additive="repl">
                                        <p:cTn id="377" dur="500"/>
                                        <p:tgtEl>
                                          <p:spTgt spid="244"/>
                                        </p:tgtEl>
                                      </p:cBhvr>
                                    </p:animEffect>
                                  </p:childTnLst>
                                </p:cTn>
                              </p:par>
                              <p:par>
                                <p:cTn id="378" nodeType="withEffect" fill="hold" presetClass="entr" presetID="9">
                                  <p:stCondLst>
                                    <p:cond delay="0"/>
                                  </p:stCondLst>
                                  <p:childTnLst>
                                    <p:set>
                                      <p:cBhvr>
                                        <p:cTn id="379" dur="1" fill="hold">
                                          <p:stCondLst>
                                            <p:cond delay="0"/>
                                          </p:stCondLst>
                                        </p:cTn>
                                        <p:tgtEl>
                                          <p:spTgt spid="246"/>
                                        </p:tgtEl>
                                        <p:attrNameLst>
                                          <p:attrName>style.visibility</p:attrName>
                                        </p:attrNameLst>
                                      </p:cBhvr>
                                      <p:to>
                                        <p:strVal val="visible"/>
                                      </p:to>
                                    </p:set>
                                    <p:animEffect filter="dissolve" transition="in">
                                      <p:cBhvr additive="repl">
                                        <p:cTn id="380" dur="500"/>
                                        <p:tgtEl>
                                          <p:spTgt spid="2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48"/>
                                        </p:tgtEl>
                                        <p:attrNameLst>
                                          <p:attrName>style.visibility</p:attrName>
                                        </p:attrNameLst>
                                      </p:cBhvr>
                                      <p:to>
                                        <p:strVal val="visible"/>
                                      </p:to>
                                    </p:set>
                                    <p:animEffect filter="dissolve" transition="in">
                                      <p:cBhvr additive="repl">
                                        <p:cTn id="385" dur="500"/>
                                        <p:tgtEl>
                                          <p:spTgt spid="248"/>
                                        </p:tgtEl>
                                      </p:cBhvr>
                                    </p:animEffect>
                                  </p:childTnLst>
                                </p:cTn>
                              </p:par>
                              <p:par>
                                <p:cTn id="386" nodeType="withEffect" fill="hold" presetClass="entr" presetID="9">
                                  <p:stCondLst>
                                    <p:cond delay="0"/>
                                  </p:stCondLst>
                                  <p:childTnLst>
                                    <p:set>
                                      <p:cBhvr>
                                        <p:cTn id="387" dur="1" fill="hold">
                                          <p:stCondLst>
                                            <p:cond delay="0"/>
                                          </p:stCondLst>
                                        </p:cTn>
                                        <p:tgtEl>
                                          <p:spTgt spid="251"/>
                                        </p:tgtEl>
                                        <p:attrNameLst>
                                          <p:attrName>style.visibility</p:attrName>
                                        </p:attrNameLst>
                                      </p:cBhvr>
                                      <p:to>
                                        <p:strVal val="visible"/>
                                      </p:to>
                                    </p:set>
                                    <p:animEffect filter="dissolve" transition="in">
                                      <p:cBhvr additive="repl">
                                        <p:cTn id="388" dur="500"/>
                                        <p:tgtEl>
                                          <p:spTgt spid="251"/>
                                        </p:tgtEl>
                                      </p:cBhvr>
                                    </p:animEffect>
                                  </p:childTnLst>
                                </p:cTn>
                              </p:par>
                              <p:par>
                                <p:cTn id="389" nodeType="withEffect" fill="hold" presetClass="entr" presetID="9">
                                  <p:stCondLst>
                                    <p:cond delay="0"/>
                                  </p:stCondLst>
                                  <p:childTnLst>
                                    <p:set>
                                      <p:cBhvr>
                                        <p:cTn id="390" dur="1" fill="hold">
                                          <p:stCondLst>
                                            <p:cond delay="0"/>
                                          </p:stCondLst>
                                        </p:cTn>
                                        <p:tgtEl>
                                          <p:spTgt spid="253"/>
                                        </p:tgtEl>
                                        <p:attrNameLst>
                                          <p:attrName>style.visibility</p:attrName>
                                        </p:attrNameLst>
                                      </p:cBhvr>
                                      <p:to>
                                        <p:strVal val="visible"/>
                                      </p:to>
                                    </p:set>
                                    <p:animEffect filter="dissolve" transition="in">
                                      <p:cBhvr additive="repl">
                                        <p:cTn id="391" dur="500"/>
                                        <p:tgtEl>
                                          <p:spTgt spid="25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249"/>
                                        </p:tgtEl>
                                        <p:attrNameLst>
                                          <p:attrName>style.visibility</p:attrName>
                                        </p:attrNameLst>
                                      </p:cBhvr>
                                      <p:to>
                                        <p:strVal val="visible"/>
                                      </p:to>
                                    </p:set>
                                    <p:animEffect filter="dissolve" transition="in">
                                      <p:cBhvr additive="repl">
                                        <p:cTn id="396" dur="500"/>
                                        <p:tgtEl>
                                          <p:spTgt spid="249"/>
                                        </p:tgtEl>
                                      </p:cBhvr>
                                    </p:animEffect>
                                  </p:childTnLst>
                                </p:cTn>
                              </p:par>
                              <p:par>
                                <p:cTn id="397" nodeType="withEffect" fill="hold" presetClass="entr" presetID="9">
                                  <p:stCondLst>
                                    <p:cond delay="0"/>
                                  </p:stCondLst>
                                  <p:childTnLst>
                                    <p:set>
                                      <p:cBhvr>
                                        <p:cTn id="398" dur="1" fill="hold">
                                          <p:stCondLst>
                                            <p:cond delay="0"/>
                                          </p:stCondLst>
                                        </p:cTn>
                                        <p:tgtEl>
                                          <p:spTgt spid="255"/>
                                        </p:tgtEl>
                                        <p:attrNameLst>
                                          <p:attrName>style.visibility</p:attrName>
                                        </p:attrNameLst>
                                      </p:cBhvr>
                                      <p:to>
                                        <p:strVal val="visible"/>
                                      </p:to>
                                    </p:set>
                                    <p:animEffect filter="dissolve" transition="in">
                                      <p:cBhvr additive="repl">
                                        <p:cTn id="399" dur="500"/>
                                        <p:tgtEl>
                                          <p:spTgt spid="255"/>
                                        </p:tgtEl>
                                      </p:cBhvr>
                                    </p:animEffect>
                                  </p:childTnLst>
                                </p:cTn>
                              </p:par>
                              <p:par>
                                <p:cTn id="400" nodeType="withEffect" fill="hold" presetClass="entr" presetID="9">
                                  <p:stCondLst>
                                    <p:cond delay="0"/>
                                  </p:stCondLst>
                                  <p:childTnLst>
                                    <p:set>
                                      <p:cBhvr>
                                        <p:cTn id="401" dur="1" fill="hold">
                                          <p:stCondLst>
                                            <p:cond delay="0"/>
                                          </p:stCondLst>
                                        </p:cTn>
                                        <p:tgtEl>
                                          <p:spTgt spid="257"/>
                                        </p:tgtEl>
                                        <p:attrNameLst>
                                          <p:attrName>style.visibility</p:attrName>
                                        </p:attrNameLst>
                                      </p:cBhvr>
                                      <p:to>
                                        <p:strVal val="visible"/>
                                      </p:to>
                                    </p:set>
                                    <p:animEffect filter="dissolve" transition="in">
                                      <p:cBhvr additive="repl">
                                        <p:cTn id="40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
        <p:nvSpPr>
          <p:cNvPr id="277" name=""/>
          <p:cNvSpPr/>
          <p:nvPr/>
        </p:nvSpPr>
        <p:spPr>
          <a:xfrm>
            <a:off x="97920" y="12240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6">
                                  <p:stCondLst>
                                    <p:cond delay="0"/>
                                  </p:stCondLst>
                                  <p:childTnLst>
                                    <p:set>
                                      <p:cBhvr>
                                        <p:cTn id="408" dur="1" fill="hold">
                                          <p:stCondLst>
                                            <p:cond delay="0"/>
                                          </p:stCondLst>
                                        </p:cTn>
                                        <p:tgtEl>
                                          <p:spTgt spid="276">
                                            <p:txEl>
                                              <p:pRg st="0" end="0"/>
                                            </p:txEl>
                                          </p:spTgt>
                                        </p:tgtEl>
                                        <p:attrNameLst>
                                          <p:attrName>style.visibility</p:attrName>
                                        </p:attrNameLst>
                                      </p:cBhvr>
                                      <p:to>
                                        <p:strVal val="visible"/>
                                      </p:to>
                                    </p:set>
                                    <p:animEffect filter="wipe(down)" transition="in">
                                      <p:cBhvr additive="repl">
                                        <p:cTn id="409" dur="580">
                                          <p:stCondLst>
                                            <p:cond delay="0"/>
                                          </p:stCondLst>
                                        </p:cTn>
                                        <p:tgtEl>
                                          <p:spTgt spid="276">
                                            <p:txEl>
                                              <p:pRg st="0" end="0"/>
                                            </p:txEl>
                                          </p:spTgt>
                                        </p:tgtEl>
                                      </p:cBhvr>
                                    </p:animEffect>
                                    <p:anim calcmode="lin" valueType="num">
                                      <p:cBhvr additive="repl">
                                        <p:cTn id="410" dur="1822">
                                          <p:stCondLst>
                                            <p:cond delay="0"/>
                                          </p:stCondLst>
                                        </p:cTn>
                                        <p:tgtEl>
                                          <p:spTgt spid="276">
                                            <p:txEl>
                                              <p:pRg st="0" end="0"/>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2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2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2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276">
                                            <p:txEl>
                                              <p:pRg st="0" end="0"/>
                                            </p:txEl>
                                          </p:spTgt>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276">
                                            <p:txEl>
                                              <p:pRg st="0" end="0"/>
                                            </p:txEl>
                                          </p:spTgt>
                                        </p:tgtEl>
                                      </p:cBhvr>
                                      <p:to x="100000" y="60000"/>
                                    </p:animScale>
                                    <p:animScale>
                                      <p:cBhvr>
                                        <p:cTn id="416" dur="166" fill="hold">
                                          <p:stCondLst>
                                            <p:cond delay="676"/>
                                          </p:stCondLst>
                                        </p:cTn>
                                        <p:tgtEl>
                                          <p:spTgt spid="276">
                                            <p:txEl>
                                              <p:pRg st="0" end="0"/>
                                            </p:txEl>
                                          </p:spTgt>
                                        </p:tgtEl>
                                      </p:cBhvr>
                                      <p:to x="100000" y="100000"/>
                                    </p:animScale>
                                    <p:animScale>
                                      <p:cBhvr>
                                        <p:cTn id="417" dur="26" fill="hold">
                                          <p:stCondLst>
                                            <p:cond delay="1312"/>
                                          </p:stCondLst>
                                        </p:cTn>
                                        <p:tgtEl>
                                          <p:spTgt spid="276">
                                            <p:txEl>
                                              <p:pRg st="0" end="0"/>
                                            </p:txEl>
                                          </p:spTgt>
                                        </p:tgtEl>
                                      </p:cBhvr>
                                      <p:to x="100000" y="80000"/>
                                    </p:animScale>
                                    <p:animScale>
                                      <p:cBhvr>
                                        <p:cTn id="418" dur="166" fill="hold">
                                          <p:stCondLst>
                                            <p:cond delay="1338"/>
                                          </p:stCondLst>
                                        </p:cTn>
                                        <p:tgtEl>
                                          <p:spTgt spid="276">
                                            <p:txEl>
                                              <p:pRg st="0" end="0"/>
                                            </p:txEl>
                                          </p:spTgt>
                                        </p:tgtEl>
                                      </p:cBhvr>
                                      <p:to x="100000" y="100000"/>
                                    </p:animScale>
                                    <p:animScale>
                                      <p:cBhvr>
                                        <p:cTn id="419" dur="26" fill="hold">
                                          <p:stCondLst>
                                            <p:cond delay="1642"/>
                                          </p:stCondLst>
                                        </p:cTn>
                                        <p:tgtEl>
                                          <p:spTgt spid="276">
                                            <p:txEl>
                                              <p:pRg st="0" end="0"/>
                                            </p:txEl>
                                          </p:spTgt>
                                        </p:tgtEl>
                                      </p:cBhvr>
                                      <p:to x="100000" y="90000"/>
                                    </p:animScale>
                                    <p:animScale>
                                      <p:cBhvr>
                                        <p:cTn id="420" dur="166" fill="hold">
                                          <p:stCondLst>
                                            <p:cond delay="1668"/>
                                          </p:stCondLst>
                                        </p:cTn>
                                        <p:tgtEl>
                                          <p:spTgt spid="276">
                                            <p:txEl>
                                              <p:pRg st="0" end="0"/>
                                            </p:txEl>
                                          </p:spTgt>
                                        </p:tgtEl>
                                      </p:cBhvr>
                                      <p:to x="100000" y="100000"/>
                                    </p:animScale>
                                    <p:animScale>
                                      <p:cBhvr>
                                        <p:cTn id="421" dur="26" fill="hold">
                                          <p:stCondLst>
                                            <p:cond delay="1808"/>
                                          </p:stCondLst>
                                        </p:cTn>
                                        <p:tgtEl>
                                          <p:spTgt spid="276">
                                            <p:txEl>
                                              <p:pRg st="0" end="0"/>
                                            </p:txEl>
                                          </p:spTgt>
                                        </p:tgtEl>
                                      </p:cBhvr>
                                      <p:to x="100000" y="95000"/>
                                    </p:animScale>
                                    <p:animScale>
                                      <p:cBhvr>
                                        <p:cTn id="422" dur="166" fill="hold">
                                          <p:stCondLst>
                                            <p:cond delay="1834"/>
                                          </p:stCondLst>
                                        </p:cTn>
                                        <p:tgtEl>
                                          <p:spTgt spid="2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mework:</a:t>
            </a:r>
            <a:endParaRPr b="1" lang="en-US" sz="3600" spc="-1" strike="noStrike">
              <a:solidFill>
                <a:srgbClr val="003366"/>
              </a:solidFill>
              <a:latin typeface="Arial"/>
            </a:endParaRPr>
          </a:p>
        </p:txBody>
      </p:sp>
      <p:sp>
        <p:nvSpPr>
          <p:cNvPr id="27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rea of Triangles WS</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t>
            </a:r>
            <a:r>
              <a:rPr b="0" lang="en-US" sz="2800" spc="-1" strike="noStrike">
                <a:solidFill>
                  <a:srgbClr val="006666"/>
                </a:solidFill>
                <a:latin typeface="Arial"/>
              </a:rPr>
              <a:t>Tom Swift said i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deanne elizabeth mcgrath</cp:lastModifiedBy>
  <dcterms:modified xsi:type="dcterms:W3CDTF">2011-02-23T17:49:14Z</dcterms:modified>
  <cp:revision>15</cp:revision>
  <dc:subject/>
  <dc:title>Find the circumference</dc:title>
</cp:coreProperties>
</file>